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35.png" ContentType="image/png"/>
  <Override PartName="/ppt/media/image28.png" ContentType="image/png"/>
  <Override PartName="/ppt/media/image43.jpeg" ContentType="image/jpe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1.png" ContentType="image/png"/>
  <Override PartName="/ppt/media/image20.png" ContentType="image/png"/>
  <Override PartName="/ppt/media/image16.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93AD-AA5F-47DE-BDA0-FD3F13593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A5AF-1536-4E14-AA2C-8D3170B3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77002-75B0-49A9-AC6C-F867F388E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4D410-DB82-41EB-A98C-17AFD62DD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FF243-EF21-4F5E-A726-396B198D6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8D743-2FAC-4FB5-8D8E-AF78C0D4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EE4A-4AE2-456C-9DAC-61C4C4563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CC3B-9BB0-4ADB-A942-1CE6C9C7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89FA-D9C3-4701-8F93-8CC56667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19C4-7DDC-4277-834E-A9F97A79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8E4D-E7B8-42D8-AAF3-1D27A95ED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6C2E-9B56-4748-998C-541430EE1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F224-ACFD-4D7F-BB5E-3925D87E313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F69B-53BB-4919-A97E-62F76B1A0BA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Windows User</cp:lastModifiedBy>
  <dcterms:modified xsi:type="dcterms:W3CDTF">2014-09-06T14:50:3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