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6.png" ContentType="image/png"/>
  <Override PartName="/ppt/media/image1.jpeg" ContentType="image/jpeg"/>
  <Override PartName="/ppt/media/image7.jpeg" ContentType="image/jpeg"/>
  <Override PartName="/ppt/media/image4.png" ContentType="image/png"/>
  <Override PartName="/ppt/media/image5.jpeg" ContentType="image/jpeg"/>
  <Override PartName="/ppt/media/image6.gif" ContentType="image/gif"/>
  <Override PartName="/ppt/media/image2.gif" ContentType="image/gif"/>
  <Override PartName="/ppt/media/image10.jpeg" ContentType="image/jpeg"/>
  <Override PartName="/ppt/media/image11.gif" ContentType="image/gif"/>
  <Override PartName="/ppt/media/image14.png" ContentType="image/png"/>
  <Override PartName="/ppt/media/image8.png" ContentType="image/png"/>
  <Override PartName="/ppt/media/image9.jpeg" ContentType="image/jpeg"/>
  <Override PartName="/ppt/media/image12.gif" ContentType="image/gif"/>
  <Override PartName="/ppt/media/image15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643C-017A-4E66-9982-C2AA9C9FF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7238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5120" y="3750840"/>
            <a:ext cx="7238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EB03-C87C-4234-B0BC-57B513371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1456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5120" y="375084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14560" y="375084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DD11-73D4-44F7-9481-488AB3DB9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52760" y="68580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00400" y="68580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5120" y="375084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52760" y="375084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00400" y="375084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CEA3-23C7-4A6E-9B42-CE9E8DE89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58C42-8557-467F-A86E-990EBFAF3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723888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4D10F-B3D8-447D-8632-4F93E1860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72388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40B63-9DB7-41FB-8EED-368DCA5A8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32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14560" y="685800"/>
            <a:ext cx="3532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CB19A-A5F3-455B-99FF-9B7ED3B1E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5166B-78B1-4B47-8FC5-4A2C8438F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05120" y="-360"/>
            <a:ext cx="72388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D0C12-A0A1-48EF-BBCC-BF064E629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14560" y="685800"/>
            <a:ext cx="3532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05120" y="375084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4710B-184D-4D04-A882-390E92E3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723888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0E56-06BF-4290-A846-640E2F365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32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1456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14560" y="375084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CF64C-1A99-4B30-A7FC-824BF34A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1456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05120" y="3750840"/>
            <a:ext cx="7238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E3828-B8CB-453A-AD47-4C5C4421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7238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05120" y="3750840"/>
            <a:ext cx="7238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DC9E8-A9FA-4BF1-8884-D894EEC29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1456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05120" y="375084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14560" y="375084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60CB1-EDB2-4369-9370-4C536B51F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52760" y="68580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00400" y="68580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05120" y="375084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52760" y="375084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800400" y="375084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7F7EC-FE21-4F8F-B15A-D04AEDCDE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72388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25D4-7B69-43A6-B7F8-28EFD5810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32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14560" y="685800"/>
            <a:ext cx="3532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0B2F-40F6-4E41-B5D3-3B1D8AF18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6685-D73D-4D65-9B96-BFAEF3084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05120" y="-360"/>
            <a:ext cx="72388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A7C7-1A9F-41F3-A8E2-BA41B616C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14560" y="685800"/>
            <a:ext cx="3532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5120" y="375084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8283-4124-4BA1-A29D-151212CA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32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1456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14560" y="375084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2146-1727-426A-AEA4-94D5AE25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1456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5120" y="3750840"/>
            <a:ext cx="7238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6391-6449-4367-86D2-D9B6E49F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5120" y="685800"/>
            <a:ext cx="72388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3084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2570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SzPct val="3084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SzPct val="2056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SzPct val="2056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SzPct val="2056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SzPct val="2056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57840"/>
            <a:ext cx="289584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57840"/>
            <a:ext cx="213372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25B48-9935-4D6E-9F64-14F43E30DE47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05120" y="685800"/>
            <a:ext cx="72388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3084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2570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SzPct val="3084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SzPct val="2056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SzPct val="2056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SzPct val="2056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SzPct val="2056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9AAAC-79C6-4483-9AE6-1630F528B413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gi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2.gif"/><Relationship Id="rId7" Type="http://schemas.openxmlformats.org/officeDocument/2006/relationships/image" Target="../media/image6.gif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4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buSzPct val="3083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4" name="Picture 65" descr="DNA-engineer"/>
          <p:cNvPicPr/>
          <p:nvPr/>
        </p:nvPicPr>
        <p:blipFill>
          <a:blip r:embed="rId2"/>
          <a:stretch/>
        </p:blipFill>
        <p:spPr>
          <a:xfrm>
            <a:off x="0" y="1709640"/>
            <a:ext cx="3543480" cy="51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45720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宋体"/>
              </a:rPr>
              <a:t>Transitional Pag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0" y="5188680"/>
            <a:ext cx="91440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800" spc="-1" strike="noStrike">
              <a:solidFill>
                <a:srgbClr val="ffffff"/>
              </a:solidFill>
              <a:latin typeface="Trebuchet MS"/>
              <a:ea typeface="宋体"/>
            </a:endParaRPr>
          </a:p>
        </p:txBody>
      </p:sp>
      <p:pic>
        <p:nvPicPr>
          <p:cNvPr id="87" name="Picture 8" descr="dna_waving_hg_clr"/>
          <p:cNvPicPr/>
          <p:nvPr/>
        </p:nvPicPr>
        <p:blipFill>
          <a:blip r:embed="rId2"/>
          <a:stretch/>
        </p:blipFill>
        <p:spPr>
          <a:xfrm>
            <a:off x="2895480" y="990720"/>
            <a:ext cx="283068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 Black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4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buSzPct val="3083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Trebuchet MS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90" name="Picture 37" descr="DNA-test-tube"/>
          <p:cNvPicPr/>
          <p:nvPr/>
        </p:nvPicPr>
        <p:blipFill>
          <a:blip r:embed="rId3"/>
          <a:stretch/>
        </p:blipFill>
        <p:spPr>
          <a:xfrm>
            <a:off x="0" y="1600200"/>
            <a:ext cx="329580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61" descr="DNA_sld"/>
          <p:cNvPicPr/>
          <p:nvPr/>
        </p:nvPicPr>
        <p:blipFill>
          <a:blip r:embed="rId1"/>
          <a:stretch/>
        </p:blipFill>
        <p:spPr>
          <a:xfrm>
            <a:off x="1905120" y="476244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63" descr="DNA_prt"/>
          <p:cNvPicPr/>
          <p:nvPr/>
        </p:nvPicPr>
        <p:blipFill>
          <a:blip r:embed="rId2"/>
          <a:stretch/>
        </p:blipFill>
        <p:spPr>
          <a:xfrm>
            <a:off x="4572000" y="4762440"/>
            <a:ext cx="2590920" cy="1943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65" descr="dna_engineering_hg_clr"/>
          <p:cNvPicPr/>
          <p:nvPr/>
        </p:nvPicPr>
        <p:blipFill>
          <a:blip r:embed="rId3"/>
          <a:stretch/>
        </p:blipFill>
        <p:spPr>
          <a:xfrm>
            <a:off x="0" y="685800"/>
            <a:ext cx="1720800" cy="1981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66" descr="dna_holding_testtube_hg_clr"/>
          <p:cNvPicPr/>
          <p:nvPr/>
        </p:nvPicPr>
        <p:blipFill>
          <a:blip r:embed="rId4"/>
          <a:stretch/>
        </p:blipFill>
        <p:spPr>
          <a:xfrm>
            <a:off x="1995480" y="685800"/>
            <a:ext cx="1357200" cy="1981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67" descr="dna_looking_through_magnifying_glass_hg_clr"/>
          <p:cNvPicPr/>
          <p:nvPr/>
        </p:nvPicPr>
        <p:blipFill>
          <a:blip r:embed="rId5"/>
          <a:stretch/>
        </p:blipFill>
        <p:spPr>
          <a:xfrm>
            <a:off x="5486400" y="6858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68" descr="DNA_rotating_hg_clr"/>
          <p:cNvPicPr/>
          <p:nvPr/>
        </p:nvPicPr>
        <p:blipFill>
          <a:blip r:embed="rId6"/>
          <a:stretch/>
        </p:blipFill>
        <p:spPr>
          <a:xfrm>
            <a:off x="3962520" y="685800"/>
            <a:ext cx="1127160" cy="1981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69" descr="dna_waving_hg_clr"/>
          <p:cNvPicPr/>
          <p:nvPr/>
        </p:nvPicPr>
        <p:blipFill>
          <a:blip r:embed="rId7"/>
          <a:stretch/>
        </p:blipFill>
        <p:spPr>
          <a:xfrm>
            <a:off x="7610400" y="685800"/>
            <a:ext cx="1533600" cy="1981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70" descr="DNA-engineer"/>
          <p:cNvPicPr/>
          <p:nvPr/>
        </p:nvPicPr>
        <p:blipFill>
          <a:blip r:embed="rId8"/>
          <a:stretch/>
        </p:blipFill>
        <p:spPr>
          <a:xfrm>
            <a:off x="6630840" y="3206880"/>
            <a:ext cx="2513160" cy="3651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71" descr="DNA-magnify"/>
          <p:cNvPicPr/>
          <p:nvPr/>
        </p:nvPicPr>
        <p:blipFill>
          <a:blip r:embed="rId9"/>
          <a:stretch/>
        </p:blipFill>
        <p:spPr>
          <a:xfrm>
            <a:off x="2895480" y="3200400"/>
            <a:ext cx="3578400" cy="3651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72" descr="DNA-test-tube"/>
          <p:cNvPicPr/>
          <p:nvPr/>
        </p:nvPicPr>
        <p:blipFill>
          <a:blip r:embed="rId10"/>
          <a:stretch/>
        </p:blipFill>
        <p:spPr>
          <a:xfrm>
            <a:off x="0" y="3352680"/>
            <a:ext cx="2195640" cy="35053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8T06:02:24Z</dcterms:created>
  <dc:creator>微软中国</dc:creator>
  <dc:description/>
  <dc:language>en-US</dc:language>
  <cp:lastModifiedBy>nana</cp:lastModifiedBy>
  <dcterms:modified xsi:type="dcterms:W3CDTF">2016-03-05T16:07:50Z</dcterms:modified>
  <cp:revision>4</cp:revision>
  <dc:subject/>
  <dc:title>PowerPoint 演示文稿</dc:title>
</cp:coreProperties>
</file>