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D6278-BC68-488A-9D4E-6C7D6E61065B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9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9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admin</cp:lastModifiedBy>
  <dcterms:modified xsi:type="dcterms:W3CDTF">2014-07-19T07:54:26Z</dcterms:modified>
  <cp:revision>1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