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E48-29D5-4EB5-B36B-5769863B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2A5-1038-4744-B2C4-29AFBD1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C65-4F95-49A4-A8DA-FBAD19B6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AC3-F6F3-469C-8EE6-3262F760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321-D5F1-4F28-AE94-E1D232A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46B-BE56-4056-A66B-8A134168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2A3-FD9D-43BE-BC91-25F0A380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3E6-9366-4636-9052-399B9BD1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E78-AF17-4A44-AF88-8611B97B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127-1FF3-4F6B-AB84-86E8E99C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E7E-7C49-4F23-BB81-9984BAF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040-3856-48CE-87FC-069E4E7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10C5-99A2-4EE8-B542-E070D6E113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00"/>
                            </p:stCondLst>
                            <p:childTnLst>
                              <p:par>
                                <p:cTn id="1265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900"/>
                            </p:stCondLst>
                            <p:childTnLst>
                              <p:par>
                                <p:cTn id="1278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2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300"/>
                            </p:stCondLst>
                            <p:childTnLst>
                              <p:par>
                                <p:cTn id="1287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0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4400"/>
                            </p:stCondLst>
                            <p:childTnLst>
                              <p:par>
                                <p:cTn id="1306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0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2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4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9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0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6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8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2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3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5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9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0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6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2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0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7" dur="1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3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1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8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6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7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9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8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7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6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7" dur="4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93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1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1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3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0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40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2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2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1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5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1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6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2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5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3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4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6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7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9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3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6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2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6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0" dur="3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0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"/>
                            </p:stCondLst>
                            <p:childTnLst>
                              <p:par>
                                <p:cTn id="1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9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7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3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7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6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300"/>
                            </p:stCondLst>
                            <p:childTnLst>
                              <p:par>
                                <p:cTn id="1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8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2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6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0" dur="1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2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2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2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6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2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19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2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3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0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2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0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2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6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2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61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7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6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84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3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0" dur="3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3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39" dur="3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7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89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0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099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8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6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7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8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7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6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4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6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7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600"/>
                            </p:stCondLst>
                            <p:childTnLst>
                              <p:par>
                                <p:cTn id="1760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2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2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1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5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1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2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5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3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0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800"/>
                            </p:stCondLst>
                            <p:childTnLst>
                              <p:par>
                                <p:cTn id="1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400"/>
                            </p:stCondLst>
                            <p:childTnLst>
                              <p:par>
                                <p:cTn id="1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5" dur="3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2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5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7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800"/>
                            </p:stCondLst>
                            <p:childTnLst>
                              <p:par>
                                <p:cTn id="1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3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4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3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64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9200"/>
                            </p:stCondLst>
                            <p:childTnLst>
                              <p:par>
                                <p:cTn id="188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9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89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1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2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0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1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0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8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19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0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29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8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6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6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7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8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9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0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fill="hold">
                      <p:stCondLst>
                        <p:cond delay="0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600"/>
                            </p:stCondLst>
                            <p:childTnLst>
                              <p:par>
                                <p:cTn id="190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400"/>
                            </p:stCondLst>
                            <p:childTnLst>
                              <p:par>
                                <p:cTn id="194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0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6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7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0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2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800"/>
                            </p:stCondLst>
                            <p:childTnLst>
                              <p:par>
                                <p:cTn id="196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2800"/>
                            </p:stCondLst>
                            <p:childTnLst>
                              <p:par>
                                <p:cTn id="19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3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3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3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5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6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299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2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7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0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4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0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7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8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6" dur="3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4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2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2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8" dur="3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2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2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1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9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400"/>
                            </p:stCondLst>
                            <p:childTnLst>
                              <p:par>
                                <p:cTn id="2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900"/>
                            </p:stCondLst>
                            <p:childTnLst>
                              <p:par>
                                <p:cTn id="2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4:52:59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