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8214-8850-4668-8C44-8D7341083FD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p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362E-AF3D-474F-99C4-2229B735FC6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9A7-5D7B-4388-8948-23FD7ABB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106-28F0-4E4C-AFA4-5ADC9AF3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55328-3D73-4FC4-AF86-93980859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E67FD-CE44-47AF-A815-7379AFC8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BF54E-9C74-494F-8BD0-0E02EAA6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4FA0F-833E-43AC-8D58-7C00F9D7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B87C0-C0B3-458A-9C9C-CFA0FCD7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5675E-DE84-49D3-9AB4-DD914D60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9D544-3CE2-4A96-BDB1-8A544069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218FE-EDFA-44C0-8603-08293D40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B3811-36A3-4652-9675-C2D09533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0B014-34CD-46DE-8D52-0879251F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FB5-0593-4011-8E18-4D0DFF78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BC664-40A3-4AB3-8216-89EA121D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B7E15-6192-41E1-B984-99ECEFBC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19A17-59F1-4329-9940-0A1EAF52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F508D-B722-41A7-842A-2CDA3F12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19BED-A9F1-46BC-B62A-1C127675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1FF94-7EFE-476D-811D-2424F9EF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053F5-AFFE-43FF-940E-5F27A383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79C84-2C06-42DF-AFF4-C6EF1BEE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DF0CB-A779-4A1A-BEFA-B2925441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453F0-87E2-42BB-8B7D-CFC6B0F2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5AB-8C92-4472-B0F2-92312537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CF74B-848D-4AC3-BB1D-A0D2647F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958F3-D5CB-4EA9-A374-ED689652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7C3A1-5C30-46B4-A655-EDA5C86C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058F8-7CD8-404A-B269-418E59EF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15A91-925E-4B53-A2E0-E8EDDC3D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A1048-29B2-498D-81B4-A8B409C6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2E83E-9493-4F79-B357-72C10239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BB030-460D-4F36-B7F2-11C511BC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596C8-EBBA-481A-AB2C-9AC66500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52564-1A7B-42A2-B382-1B15A6B6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2D08-6659-4445-8CE5-5F1992D7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3C3DB-F464-49F8-8174-35614E88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D59CB-417A-4F83-88AD-B14480E5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19BE9-6459-47AD-B11B-B1262FAC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72BED-B9D2-4CD6-AC37-9C98D0FF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1398E-200B-4BD6-A2D2-63547396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D5B41-F02C-45BC-A66E-4D61A400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BFABD-F41A-40D5-B090-6AC7A45B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B11C9-2607-46F6-88C6-DC12FDE2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5A447-68F7-4B69-A758-D4C88859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9A004-75B2-4AAE-9A43-AB660F76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9D67-6555-4038-ADD7-CBC4DE10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98D83-EFAF-4414-B15D-D4AE45B0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F8110-EEF7-41D9-8382-DBFF9FD2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2362C-71D2-4106-8670-2E070A2B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A38DA-ED50-41F7-930D-4F4C6494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AAC47-7983-47EA-98E7-71ED39F4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81CF26-FA13-4223-A353-E919FCDB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E2BC2-863D-40C8-ACD9-FAE9023A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F5CAC-7E0F-47A5-A84C-6913646B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887F4-460E-46ED-8F50-82CBDDFA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4DAD6-EAF6-4EAE-BD76-9C1B6DCC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6E91-CF86-4244-AB94-802BAAA2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F9DE1-166D-430C-95A8-DC751906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FA199-1620-4B0D-BAD3-BC69D25A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A68A2-7BFF-4FA7-89A4-E7CDD920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CBAAD-F4F9-4DD2-AF48-821F593F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78F97A-4A35-4DD2-BF31-F8EEAEC7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8D331-0571-4F27-A2F5-1ABC0CF4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5D95C-47A0-4433-927E-4DA303E2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5D2D-B517-4194-ADF3-027F9ADA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B583-34C9-41A7-B103-97175DEF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84D3-C397-42F8-BD7C-6545B400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26E9-45FB-4851-B179-C8464966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F23-0DBA-452E-BAE5-357D6A47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835A-6449-4269-8215-692E643F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4449-2A2D-4646-87D3-7A4177A7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9E91-502E-4A7E-8FDC-E39E5DAE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7B9D-290E-49D1-B134-48D6F3E2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A3E9-5273-40D7-9A88-3E00355C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0DC0A-7A90-4CD4-8C55-8C4DAA04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AE9C4-AB3C-47FC-A945-79D55CF1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E2F64-8A88-4438-8BAC-7BA646B9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7B96-CADC-4AA0-BD4D-78F17A29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5934-EBB5-4028-A6D8-53A9C0A3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2B7-7A62-4DAC-AED7-3DD99A98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7C4D2-04B1-4987-8018-6400F8C8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F9D10-68DC-4E1E-B322-7A84A900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D47D8-8947-42AB-AD2F-89A76CFA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39CE1-8EB7-4524-BD2C-1E189241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AF3FA-9A25-4B63-98E2-42AB87EB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2DAEC-D33C-4B82-A627-5186254A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6D3AB-2410-45F2-B617-B9B15286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50B5C-16A8-4ACE-B60C-7ABF9B02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CBC00-67ED-4D5D-BB73-82F6D6B4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7FC42-9D5B-4510-BA1E-172BB0F5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97D-3AC1-49CA-B42B-C91DDCC4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EE003-1EE8-4C4F-AA58-C98FE3FC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D43C5-839B-43CD-B2D8-5AE7080A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5A7B4-0E38-40A3-ADE6-06CEB311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3E546-293F-42DA-BAD9-C13208BD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D1EA8-AFE8-4F60-B961-765BC562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0A22A-AC33-4634-86C6-9834649D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7A053-D67D-4E6E-9F17-8D5E5B88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74E1F-4260-42FE-997B-CE5E8EB2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37189-DFD1-4201-B4DD-5783B6E7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D8A40-4AF3-41EB-BD39-9788AAD5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CAC-0AA7-4055-8B82-831539E4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201D0-CBC3-4BF1-9D64-72BE6A95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3232D-A1CC-4528-A48D-1AA561AE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DA959-488F-4D6D-B43A-B2D021CB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5C5E8-3A56-4F53-A029-77440C21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CDC80-8A05-44EB-9B91-45D9D960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5AE90-9DD4-4682-9884-A370A4A0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75B6B-E08C-4C90-99D5-124973C3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07D25-B9FB-4D5A-9FD0-AE933FDB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D424-EABB-4364-A86D-EE405053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220D7-5E14-4824-BAB3-08DF098A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A4D-BE4B-48B4-831E-E355E5CF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5628E-8B88-4D39-ABBD-96DC4C3D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E992F-B56A-4E5A-BA22-E091DF50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04F82-A905-4A7B-B771-70C723C4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13035-37A5-4499-8FFE-225D7D32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A7317-85A2-4C8C-8DDB-D2FBBC4D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2F7A7-F8D9-4B0C-8630-99FC6E21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A7388-64A8-42BF-B5D2-F39C2E1F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D29A5-50CE-456E-9232-BB3B35CA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F796B-D24C-4A9C-A06F-1734B081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CDDC4-208E-4239-96CB-B09F90F2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A89-B57A-4DA6-928E-A4811F98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C1DFA-67CD-450B-BA91-FAE45855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559C5-F515-4F04-9EC6-E8B3817A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8DFD3-E2C0-4EA2-B396-1521417D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7A42A-0EED-427A-98AE-29C38B40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0A4A5-5D8F-44E9-A89A-98F089B7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27EE2-9A47-482C-A9B6-D3D02851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16438-C959-4517-AF9B-788D5EBF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32A69-EF77-4F85-99EB-E119FFDD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8D64B-FF94-4E5E-87FD-722B2F94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5C673-AFCA-4056-B4C6-07C3ECDD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0EC-3739-43F1-B511-8C481EF1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43DBC-3743-4562-9C21-083A94A6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1E764-D3C9-4704-B68F-E9C72239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9EF3A-C747-4720-A04F-FD175BA7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A28B8-3D75-4254-892E-32D3E205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3B2EC-AB87-4CF4-BB20-C9C090DD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D5B50-9F1C-4D29-90D7-B63050A4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F01D3-9443-4D93-BB12-772AD9F8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1ECCB-A34F-4340-AB20-3B31BE0C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93C2E-BED0-4C66-9EE9-AE681B77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BA9B6-7E40-44D8-9900-869F3227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AC6-EB91-4378-9736-57180045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1E202-B941-4DBF-873B-EAECE422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F485E-264B-4C31-A00B-1C656F38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66A84-A7B0-44A7-B8E2-280E5B64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41FEA-FD94-43DE-965E-509BBF47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CCDF9-D671-4A7C-ACA6-263A1060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2A796-F170-47E0-AA4A-1EE462CD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D9AEA-5BE5-47EB-BD90-685D693D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3DA1E-7F11-4AEE-9A12-C55A4D3A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34281-BEA7-4C61-BB7A-77D9B7F0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7BA45-C9CC-4742-BA1F-A76CAF62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65AD-A985-4545-A022-55E8E2E9CF0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6F96-5B3F-47D0-B161-60E7944770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BFEB-69CA-4AEF-B542-98B0822674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B63C-671F-42FD-BA63-22EF2C1608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26EF-40AD-4A4A-9EC0-C535E50E51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7C3B-65AA-4661-B675-BD921546FB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CA9D-8FFA-49CB-9562-13E87DC2DF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AD8F-D8A5-4185-97FE-2B6F5F9167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C623-97EA-451F-BD45-91D9203D71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5A70-92D4-4CCF-B1FD-8D2EBF5F11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DC47-7D65-466E-AA5C-22FA75C19D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625C-D8CA-48B2-9171-E51A6EC48A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234F-F3FD-4DD3-A6C3-90EC75BF73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组合 19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41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8" name="TextBox 27"/>
          <p:cNvSpPr/>
          <p:nvPr/>
        </p:nvSpPr>
        <p:spPr>
          <a:xfrm rot="746400">
            <a:off x="8569440" y="2311560"/>
            <a:ext cx="297180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家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Picture 3" descr="C:\Users\lenovo\Desktop\大妞1.png"/>
          <p:cNvPicPr/>
          <p:nvPr/>
        </p:nvPicPr>
        <p:blipFill>
          <a:blip r:embed="rId2"/>
          <a:srcRect l="0" t="0" r="29722" b="0"/>
          <a:stretch/>
        </p:blipFill>
        <p:spPr>
          <a:xfrm>
            <a:off x="-63360" y="0"/>
            <a:ext cx="6627600" cy="6316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105160" y="2417400"/>
            <a:ext cx="373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梦</a:t>
            </a:r>
            <a:r>
              <a:rPr b="0" lang="ja-JP" sz="12400" spc="-1" strike="noStrike">
                <a:solidFill>
                  <a:srgbClr val="960000"/>
                </a:solidFill>
                <a:latin typeface="方正艺黑简体"/>
                <a:ea typeface="方正艺黑简体"/>
              </a:rPr>
              <a:t>の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29"/>
          <p:cNvGrpSpPr/>
          <p:nvPr/>
        </p:nvGrpSpPr>
        <p:grpSpPr>
          <a:xfrm>
            <a:off x="4660200" y="-140040"/>
            <a:ext cx="8839800" cy="3179160"/>
            <a:chOff x="4660200" y="-140040"/>
            <a:chExt cx="8839800" cy="3179160"/>
          </a:xfrm>
        </p:grpSpPr>
        <p:pic>
          <p:nvPicPr>
            <p:cNvPr id="552" name="Picture 6" descr="C:\Users\lenovo\Desktop\M2.gif"/>
            <p:cNvPicPr/>
            <p:nvPr/>
          </p:nvPicPr>
          <p:blipFill>
            <a:blip r:embed="rId3"/>
            <a:srcRect l="0" t="0" r="38096" b="0"/>
            <a:stretch/>
          </p:blipFill>
          <p:spPr>
            <a:xfrm rot="537000">
              <a:off x="4846680" y="114120"/>
              <a:ext cx="3480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Box 4"/>
            <p:cNvSpPr/>
            <p:nvPr/>
          </p:nvSpPr>
          <p:spPr>
            <a:xfrm>
              <a:off x="6782040" y="1319760"/>
              <a:ext cx="67179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960000"/>
                  </a:solidFill>
                  <a:latin typeface="Kozuka Mincho Pro B"/>
                  <a:ea typeface="Kozuka Mincho Pro B"/>
                </a:rPr>
                <a:t>mèng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4" name="Picture 4" descr="G:\DURING\坐着大妞.png"/>
          <p:cNvPicPr/>
          <p:nvPr/>
        </p:nvPicPr>
        <p:blipFill>
          <a:blip r:embed="rId4"/>
          <a:stretch/>
        </p:blipFill>
        <p:spPr>
          <a:xfrm>
            <a:off x="3165480" y="541440"/>
            <a:ext cx="1863720" cy="332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C:\Users\lenovo\Desktop\M1.gif"/>
          <p:cNvPicPr/>
          <p:nvPr/>
        </p:nvPicPr>
        <p:blipFill>
          <a:blip r:embed="rId5"/>
          <a:srcRect l="36587" t="0" r="34144" b="0"/>
          <a:stretch/>
        </p:blipFill>
        <p:spPr>
          <a:xfrm>
            <a:off x="10058400" y="1263600"/>
            <a:ext cx="1828800" cy="29671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C:\Users\lenovo\Desktop\牧羊.png"/>
          <p:cNvPicPr/>
          <p:nvPr/>
        </p:nvPicPr>
        <p:blipFill>
          <a:blip r:embed="rId6"/>
          <a:stretch/>
        </p:blipFill>
        <p:spPr>
          <a:xfrm>
            <a:off x="8839080" y="4873680"/>
            <a:ext cx="1716120" cy="15285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9" descr="C:\Users\lenovo\Desktop\推.gif"/>
          <p:cNvPicPr/>
          <p:nvPr/>
        </p:nvPicPr>
        <p:blipFill>
          <a:blip r:embed="rId7"/>
          <a:stretch/>
        </p:blipFill>
        <p:spPr>
          <a:xfrm>
            <a:off x="9067680" y="3139920"/>
            <a:ext cx="17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82564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目录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5257800" y="18414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4" descr="G:\DURING\坐着大妞.png"/>
          <p:cNvPicPr/>
          <p:nvPr/>
        </p:nvPicPr>
        <p:blipFill>
          <a:blip r:embed="rId2"/>
          <a:stretch/>
        </p:blipFill>
        <p:spPr>
          <a:xfrm>
            <a:off x="762120" y="442800"/>
            <a:ext cx="19810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561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6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TextBox 25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直接连接符 18"/>
          <p:cNvSpPr/>
          <p:nvPr/>
        </p:nvSpPr>
        <p:spPr>
          <a:xfrm>
            <a:off x="5029200" y="1335240"/>
            <a:ext cx="0" cy="3681360"/>
          </a:xfrm>
          <a:prstGeom prst="line">
            <a:avLst/>
          </a:prstGeom>
          <a:ln w="28440">
            <a:solidFill>
              <a:srgbClr val="2a15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29"/>
          <p:cNvSpPr/>
          <p:nvPr/>
        </p:nvSpPr>
        <p:spPr>
          <a:xfrm>
            <a:off x="5257800" y="256212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我们的故事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踏上征途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努力拼搏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再别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657240" y="249048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壹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26"/>
          <p:cNvGrpSpPr/>
          <p:nvPr/>
        </p:nvGrpSpPr>
        <p:grpSpPr>
          <a:xfrm>
            <a:off x="7113600" y="1984320"/>
            <a:ext cx="2639880" cy="2600280"/>
            <a:chOff x="7113600" y="1984320"/>
            <a:chExt cx="2639880" cy="2600280"/>
          </a:xfrm>
        </p:grpSpPr>
        <p:sp>
          <p:nvSpPr>
            <p:cNvPr id="573" name="直接连接符 17"/>
            <p:cNvSpPr/>
            <p:nvPr/>
          </p:nvSpPr>
          <p:spPr>
            <a:xfrm>
              <a:off x="731520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4" name="Picture 5" descr="C:\Users\lenovo\Desktop\M1.gif"/>
            <p:cNvPicPr/>
            <p:nvPr/>
          </p:nvPicPr>
          <p:blipFill>
            <a:blip r:embed="rId2"/>
            <a:srcRect l="36585" t="27784" r="30253" b="11108"/>
            <a:stretch/>
          </p:blipFill>
          <p:spPr>
            <a:xfrm>
              <a:off x="7113600" y="2273040"/>
              <a:ext cx="2639880" cy="23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5" name="组合 21"/>
          <p:cNvGrpSpPr/>
          <p:nvPr/>
        </p:nvGrpSpPr>
        <p:grpSpPr>
          <a:xfrm>
            <a:off x="2514600" y="1984320"/>
            <a:ext cx="2743200" cy="2600280"/>
            <a:chOff x="2514600" y="1984320"/>
            <a:chExt cx="2743200" cy="2600280"/>
          </a:xfrm>
        </p:grpSpPr>
        <p:sp>
          <p:nvSpPr>
            <p:cNvPr id="576" name="直接连接符 18"/>
            <p:cNvSpPr/>
            <p:nvPr/>
          </p:nvSpPr>
          <p:spPr>
            <a:xfrm>
              <a:off x="47246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7" name="Picture 6" descr="C:\Users\lenovo\Desktop\M2.gif"/>
            <p:cNvPicPr/>
            <p:nvPr/>
          </p:nvPicPr>
          <p:blipFill>
            <a:blip r:embed="rId3"/>
            <a:srcRect l="6399" t="19655" r="58133" b="15481"/>
            <a:stretch/>
          </p:blipFill>
          <p:spPr>
            <a:xfrm>
              <a:off x="2514600" y="1984320"/>
              <a:ext cx="274320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8" name="TextBox 27"/>
          <p:cNvSpPr/>
          <p:nvPr/>
        </p:nvSpPr>
        <p:spPr>
          <a:xfrm>
            <a:off x="5181480" y="4511520"/>
            <a:ext cx="1828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组合 16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80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4"/>
          <p:cNvSpPr/>
          <p:nvPr/>
        </p:nvSpPr>
        <p:spPr>
          <a:xfrm>
            <a:off x="6400800" y="-169704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组合 31"/>
          <p:cNvGrpSpPr/>
          <p:nvPr/>
        </p:nvGrpSpPr>
        <p:grpSpPr>
          <a:xfrm>
            <a:off x="1143000" y="2057400"/>
            <a:ext cx="10071000" cy="3873600"/>
            <a:chOff x="1143000" y="2057400"/>
            <a:chExt cx="10071000" cy="3873600"/>
          </a:xfrm>
        </p:grpSpPr>
        <p:sp>
          <p:nvSpPr>
            <p:cNvPr id="589" name="TextBox 29"/>
            <p:cNvSpPr/>
            <p:nvPr/>
          </p:nvSpPr>
          <p:spPr>
            <a:xfrm>
              <a:off x="1143000" y="2057400"/>
              <a:ext cx="10058040" cy="1739880"/>
            </a:xfrm>
            <a:prstGeom prst="rect">
              <a:avLst/>
            </a:prstGeom>
            <a:noFill/>
            <a:ln w="936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1500"/>
                  </a:solidFill>
                  <a:latin typeface="Calibri"/>
                </a:rPr>
                <a:t>         </a:t>
              </a:r>
              <a:r>
                <a:rPr b="0" lang="zh-CN" sz="1500" spc="-1" strike="noStrike">
                  <a:solidFill>
                    <a:srgbClr val="2a1500"/>
                  </a:solidFill>
                  <a:latin typeface="Calibri"/>
                </a:rPr>
                <a:t>清晨第一束阳光洒在美丽的地球上，虽然还不够明亮但我能感受到它的能量。坚定自己的信仰，只为共同的梦想！起到有双翅膀 能助我们飞翔。无论多大风多大的浪，前进的方向永远不会迷茫；狂风暴雨再怎么顽强都无法阻挡我们的梦想！有过狼狈的模样，讨厌那种看不起的眼光。昂起头挺胸向前，这是我们的梦想。穿上华丽的衣装，璀璨的灯光站在舞台中央，释放出那撼动身心的力量。看似丑陋的仙人掌，花开却散发着芬香。虽然仅一天可赏，但却难把它的香味遗忘。坚定自己的信仰，只为共同的梦想</a:t>
              </a: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TextBox 16"/>
            <p:cNvSpPr/>
            <p:nvPr/>
          </p:nvSpPr>
          <p:spPr>
            <a:xfrm>
              <a:off x="1143000" y="2156040"/>
              <a:ext cx="761760" cy="10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600" spc="-1" strike="noStrike" baseline="-25000">
                  <a:solidFill>
                    <a:srgbClr val="2a1500"/>
                  </a:solidFill>
                  <a:latin typeface="Calibri"/>
                </a:rPr>
                <a:t>当</a:t>
              </a:r>
              <a:endParaRPr b="0" lang="en-US" sz="5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91" name="Picture 4" descr="G:\DURING\坐着大妞.png"/>
            <p:cNvPicPr/>
            <p:nvPr/>
          </p:nvPicPr>
          <p:blipFill>
            <a:blip r:embed="rId2"/>
            <a:stretch/>
          </p:blipFill>
          <p:spPr>
            <a:xfrm>
              <a:off x="10147320" y="4030920"/>
              <a:ext cx="106668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组合 30"/>
          <p:cNvGrpSpPr/>
          <p:nvPr/>
        </p:nvGrpSpPr>
        <p:grpSpPr>
          <a:xfrm>
            <a:off x="-609840" y="-476280"/>
            <a:ext cx="10147680" cy="2967120"/>
            <a:chOff x="-609840" y="-476280"/>
            <a:chExt cx="10147680" cy="2967120"/>
          </a:xfrm>
        </p:grpSpPr>
        <p:pic>
          <p:nvPicPr>
            <p:cNvPr id="593" name="Picture 5" descr="C:\Users\lenovo\Desktop\M1.gif"/>
            <p:cNvPicPr/>
            <p:nvPr/>
          </p:nvPicPr>
          <p:blipFill>
            <a:blip r:embed="rId3"/>
            <a:stretch/>
          </p:blipFill>
          <p:spPr>
            <a:xfrm flipH="1">
              <a:off x="-609840" y="-476280"/>
              <a:ext cx="5410440" cy="29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直接连接符 19"/>
            <p:cNvSpPr/>
            <p:nvPr/>
          </p:nvSpPr>
          <p:spPr>
            <a:xfrm>
              <a:off x="2743200" y="560160"/>
              <a:ext cx="0" cy="1443240"/>
            </a:xfrm>
            <a:prstGeom prst="line">
              <a:avLst/>
            </a:prstGeom>
            <a:ln w="28440">
              <a:solidFill>
                <a:srgbClr val="96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5" name="组合 28"/>
            <p:cNvGrpSpPr/>
            <p:nvPr/>
          </p:nvGrpSpPr>
          <p:grpSpPr>
            <a:xfrm>
              <a:off x="2743200" y="1065240"/>
              <a:ext cx="6794640" cy="1014120"/>
              <a:chOff x="2743200" y="1065240"/>
              <a:chExt cx="6794640" cy="1014120"/>
            </a:xfrm>
          </p:grpSpPr>
          <p:sp>
            <p:nvSpPr>
              <p:cNvPr id="596" name="TextBox 26"/>
              <p:cNvSpPr/>
              <p:nvPr/>
            </p:nvSpPr>
            <p:spPr>
              <a:xfrm>
                <a:off x="2743200" y="1065240"/>
                <a:ext cx="3505320" cy="10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我们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       </a:t>
                </a:r>
                <a:r>
                  <a:rPr b="0" lang="ja-JP" sz="3700" spc="-1" strike="noStrike">
                    <a:solidFill>
                      <a:srgbClr val="2a1500"/>
                    </a:solidFill>
                    <a:latin typeface="方正艺黑简体"/>
                    <a:ea typeface="方正艺黑简体"/>
                  </a:rPr>
                  <a:t>の</a:t>
                </a: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梦想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TextBox 27"/>
              <p:cNvSpPr/>
              <p:nvPr/>
            </p:nvSpPr>
            <p:spPr>
              <a:xfrm>
                <a:off x="2819160" y="1423080"/>
                <a:ext cx="67186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960000"/>
                    </a:solidFill>
                    <a:latin typeface="Kozuka Mincho Pro B"/>
                    <a:ea typeface="Kozuka Mincho Pro B"/>
                  </a:rPr>
                  <a:t>mèng</a:t>
                </a: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8" name="组合 20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99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34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495320" y="2850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谢谢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组合 19"/>
          <p:cNvGrpSpPr/>
          <p:nvPr/>
        </p:nvGrpSpPr>
        <p:grpSpPr>
          <a:xfrm>
            <a:off x="609480" y="1335240"/>
            <a:ext cx="3810240" cy="3754440"/>
            <a:chOff x="609480" y="1335240"/>
            <a:chExt cx="3810240" cy="3754440"/>
          </a:xfrm>
        </p:grpSpPr>
        <p:pic>
          <p:nvPicPr>
            <p:cNvPr id="608" name="Picture 6" descr="C:\Users\lenovo\Desktop\M2.gif"/>
            <p:cNvPicPr/>
            <p:nvPr/>
          </p:nvPicPr>
          <p:blipFill>
            <a:blip r:embed="rId2"/>
            <a:srcRect l="4646" t="21858" r="62824" b="9275"/>
            <a:stretch/>
          </p:blipFill>
          <p:spPr>
            <a:xfrm>
              <a:off x="609480" y="1335240"/>
              <a:ext cx="373428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直接连接符 18"/>
            <p:cNvSpPr/>
            <p:nvPr/>
          </p:nvSpPr>
          <p:spPr>
            <a:xfrm>
              <a:off x="4419720" y="1623960"/>
              <a:ext cx="0" cy="324972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0" name="TextBox 16"/>
          <p:cNvSpPr/>
          <p:nvPr/>
        </p:nvSpPr>
        <p:spPr>
          <a:xfrm>
            <a:off x="5016600" y="2228760"/>
            <a:ext cx="6718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60000"/>
                </a:solidFill>
                <a:latin typeface="Kozuka Mincho Pro B"/>
                <a:ea typeface="Kozuka Mincho Pro B"/>
              </a:rPr>
              <a:t>Thanks 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61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TextBox 28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任意多边形 2"/>
          <p:cNvSpPr/>
          <p:nvPr/>
        </p:nvSpPr>
        <p:spPr>
          <a:xfrm>
            <a:off x="2243160" y="2946240"/>
            <a:ext cx="596880" cy="65736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3"/>
          <p:cNvSpPr/>
          <p:nvPr/>
        </p:nvSpPr>
        <p:spPr>
          <a:xfrm>
            <a:off x="2832120" y="2949480"/>
            <a:ext cx="9360000" cy="657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    </a:t>
            </a:r>
            <a:r>
              <a:rPr b="0" lang="en-US" sz="2800" spc="-1" strike="noStrike">
                <a:solidFill>
                  <a:srgbClr val="ffffff"/>
                </a:solidFill>
                <a:latin typeface="幼圆"/>
                <a:ea typeface="幼圆"/>
              </a:rPr>
              <a:t> </a:t>
            </a:r>
            <a:r>
              <a:rPr b="0" lang="en-US" sz="2800" spc="-1" strike="noStrike">
                <a:solidFill>
                  <a:srgbClr val="ceeab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6"/>
          <p:cNvSpPr/>
          <p:nvPr/>
        </p:nvSpPr>
        <p:spPr>
          <a:xfrm>
            <a:off x="0" y="2182680"/>
            <a:ext cx="9312120" cy="77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角三角形 5"/>
          <p:cNvSpPr/>
          <p:nvPr/>
        </p:nvSpPr>
        <p:spPr>
          <a:xfrm>
            <a:off x="9312120" y="2178000"/>
            <a:ext cx="854280" cy="77940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11"/>
          <p:cNvSpPr/>
          <p:nvPr/>
        </p:nvSpPr>
        <p:spPr>
          <a:xfrm>
            <a:off x="2581200" y="3921120"/>
            <a:ext cx="69073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pptbz.com</dc:creator>
  <dc:description/>
  <dc:language>en-US</dc:language>
  <cp:lastModifiedBy>Administrator</cp:lastModifiedBy>
  <dcterms:modified xsi:type="dcterms:W3CDTF">2015-05-25T10:21:5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