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7715-0A79-4479-8DE2-04FF558B39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9BA8-3459-456C-96C4-ADE47F9496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F8C-1E6E-4AB9-8A09-CE62C99F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885-D50A-4099-A42B-00C0A158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AFFE2-AE50-4A65-9247-DD1AB8B5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4D1F1-6ED1-4401-826E-0C6721DF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1C772-2D4E-44A8-8BAE-12779D5B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C569C-858B-4207-AA29-0DBDCE77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4F7F7-DB8C-4DEC-B821-6DAE10D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A87F4-77CC-4C8D-881A-B5A6A955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9DE44-A1F6-441E-B19E-CCE735F0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5429D-2082-49D4-9B23-30DEC56C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8DE4C-6BDD-4888-A3CA-4559672A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10FC7-029E-42AA-988E-E937B0FD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9E4-8215-42E5-ABF7-216B777D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61175-B39E-4CAB-9B70-7C1BCD1C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0F219-C6D9-406F-BEFF-8947C18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94FA4-1B4B-4CCA-B13F-608AB711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90466-BBD3-43B7-966B-D439A815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A71AC-7EE2-4FCA-895B-FDCEC025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FEA51-0CBE-4EE6-830E-23EE8373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FD831-26E4-44E2-A817-8CCE799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1A140-E741-48DD-A017-2EC2943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86425-F28D-4ADC-B736-F57F594A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6267C-F1CB-47F6-867C-A1BF072B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6F6-5A68-4B58-A7AC-5D3939DE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B9CAE-1248-43F0-A310-B72678B2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04E11-FF1B-4D0C-B093-786186F1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DB363-600C-4FE0-8BF7-029804AB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94A4A-8191-431B-8823-6319BF1A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48EDD-BC88-4DEF-BC08-802F16F0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F72C4-6D1E-48CC-925E-95E99DB7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2DE36-35CC-48D4-9F53-4931AAF3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75236-5608-4258-84FC-B98896B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1FD10-2B07-4C96-9632-BC78EC7B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B9285-A4F9-45E6-A450-F566C3E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D1FD-6C33-4147-8894-DD902B9F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46A77-3DA0-4409-B00D-D17A0034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9A579-DA8D-4E85-97DD-5C4CA463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C72A0-B23F-4B9C-93DD-12BE17F5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41979-7CB2-48CD-98BC-D0076C92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38566-9439-465C-970F-E67AD812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EC4E-C7CD-4F5E-A1BF-A843644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46C0F-F4A6-45CD-99A4-7BD04C03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73F08-418A-4984-A750-CC35AA6F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2E3B7-22DF-4719-AB4B-B90386D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E6E31-6634-411A-B8BC-6358F09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C9A6-C8C4-4246-B1B8-473F9632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E55FE-57A8-488C-813E-ED25854A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8E7C1-15CC-432B-8ABB-D5C4D437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022AE-41D2-4789-A3F3-FE84F82D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70EE8-A989-4063-BDC0-3DA6A544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EF943-D618-4F2D-8400-97269C2D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D287E-6FA2-451B-B93A-0C68865B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B7A0B-2C81-48B4-AD21-CF34E88B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CE10D-31B0-4627-A8DF-339E81F9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54729-7995-4922-9836-0F30648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E2341-04FA-4BAD-BF68-7B26D8E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5C6B-BD8F-459B-B52D-91349FBF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DE819-ADD6-4AB4-934C-B3327EB2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85F9A-4715-4302-92B4-0697F7B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C7A60-AEBB-4BFF-A66C-ED9BB184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DF6EF-C541-4B9C-AC53-F0B73749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4C48F-1FEF-4239-BA7D-856A9850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35B79-BACC-4B2A-AA3D-446E427C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8E2CC-F612-417F-A0BB-1C5B59FA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64C2-192A-4198-BBF5-3C9D4FEA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E0F2-A578-4618-86B9-3E14C4C2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15B7-4645-429E-B493-6E036ED3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792B-5E9F-4B95-BA83-D29077D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191-56F9-4D3B-9ED8-441880C5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0301-26DA-4FC4-8F2F-30E53E49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86E8-E96C-430F-B11F-FEDF12D7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E827-DEEE-45AF-AC7E-CC7EB08B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9B3E-12C0-42BB-8AF7-D3E33083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01FD-45B9-4759-8EF8-FE1B152F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81FF-5D37-44CA-9701-EC68391E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3A28-9793-443C-88B7-FF87344F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FA3D-CB96-4D37-875D-E7C8C8EE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5C8E5-0CCF-4969-8A69-4D114193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60FD-1D1C-4958-BDE3-47E6D549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6ED-10A8-4F41-B96B-26DE3759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E7C0-F344-4093-BF07-DDE083C3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5243-6D52-4281-B3BE-4D92553A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F7CB-0ACA-4885-981E-A7A995F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55DF-A04D-4C8A-882C-94CAE4F5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64AC-D625-4435-BBAD-10FC4378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D2205-05C7-4CA5-A329-28769355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B8A6-ED0E-4957-AF2F-B4F2255D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7EA9-2499-4475-AAA2-C3790044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78CF-1741-49F6-9740-CF2C7790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08E9-66A2-46E5-BE46-027B4C89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BF7-61DD-4133-9C67-6B18351D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381E-FEE2-492A-B0CC-4F7922C3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3BC84-B0C1-42FA-B341-0FA4536E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816C4-44F7-44A9-A6A3-3A976B5C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FF3C9-63AB-48FB-924E-721D0C90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B510-8EB6-4B27-9F5C-8A147E1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DB09-A1E9-4206-8E8E-FB5ADBE1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B010-3E43-4ECD-95B2-56CEEF02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71AD-0973-47B7-A5E6-915CB0E7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CEA2-E8A8-4ED1-8A4E-8CAF7256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D526-BD2B-4451-B29F-544D1C0E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D04-B295-4D0E-ADCD-D269F61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6F9E-9602-4F8D-AFE4-33AD9916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A6329-D617-471B-B1CF-0C36393C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255A6-82BE-4B3C-847F-F520DD5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01B81-1649-4A95-8226-4873A2C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E5E7-BDF8-4415-80C0-6FCE6083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59F72-5FE0-4A46-9DB1-8E1E6AF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5EAF-A9D5-4F0B-A537-B6D241A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541D-7079-4FC5-B318-D3D4083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2B648-5EE2-45BD-9366-4823F2BC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D2D54-B882-4804-AE7D-06731C29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CAE-95C5-4695-8F45-DE31CBFE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D133-DD6C-4F7C-AEAC-996B804E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AA68F-E4A6-4B77-BD7C-7EBC3249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2B4AF-33FC-4C37-B0B6-C1D3E40B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F6CB-0518-4CFF-A80B-9DEE0CE6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6DCA6-79ED-4658-9749-A830CDB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18CCF-259D-4E59-8FF1-256E4813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616D2-1276-4A33-8C60-AA49BE32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3C54-828B-4F1A-84D3-091B9CB6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96EB7-F129-4184-82BA-6B2A004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964E-1EC9-4195-8299-A24D354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0F0-326F-4E87-B5CF-C3376EE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440E2-E292-40B2-B134-07F866A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53B60-1AB6-4516-AACF-9B98EDA7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1117D-E39A-4C4C-A853-5CB6D9EF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993C2-285A-41A4-8E2A-F256FDDA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B650-B859-4832-A194-1559B349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1BA02-2930-4244-8A4F-C78C873C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CBF8-DC3B-4820-B8BC-A1EF174B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5F0DA-67A6-451A-8084-BBF31C04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27C82-9329-4108-B864-D83AF978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7D6A7-D9D6-4840-B5AA-83DA647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963-F969-4B58-8894-4210C3D8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1D930-82D9-403B-B78F-9C5F7C1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A557-5FC6-4632-8BB9-E45C69FA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3A77D-786F-412D-90E2-52CBDD05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4AA4-8E5C-46C3-BBB4-0956CA59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06213-AFED-4EF3-901D-274426C6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094EC-186C-4820-9930-5A65C64F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ECC58-126A-4696-B239-7DFF99DB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A76CB-C99C-432F-B3AE-9AE033EC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65A08-0815-423B-8506-31B6B6CC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77DB5-EA5B-44FB-B0AF-61EAF955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C24-2754-4553-881E-D918206E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7213B-02DA-4789-8844-DBF07378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05891-42B2-4DB5-AF52-B08A2FD8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7E16C-5D8A-46E4-85F6-E2825E7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35BD8-E479-4A10-B971-95AC6C9C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B1803-7129-447D-8B67-D396FF0B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86FC8-DBE0-4EBF-BAE7-C5B0E757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ACAF1-35DA-4B56-8A3A-A79CC666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14D43-BB08-4852-B4F9-AFF09AFE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7A28A-550F-40BE-B681-E6158ED0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A1FF-9FBC-4CE0-B30C-F408444F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5830-8F86-43A4-92BB-8B5680926B5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0E34-6C77-4345-B56B-ED9585BF3B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00A4-DAE7-40AB-9080-B7A31B6769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C56-7601-4CCE-BA9A-DFE6DB69C5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6B4A-3DF8-42EF-95E9-DBAA9027E3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7320-A1BF-4849-9A66-71760B4793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7A22-581C-4C31-A247-D96A0FA47C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BFFB-7215-453C-988D-CA98CE4E88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32A1-5BA5-4627-9633-1D894E60E7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5FEE-7205-460D-AD01-E9AAB117C7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AF8E-0C6F-415D-A601-E7E36E1733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EC55-7D63-4E71-9D87-ED3A7656C6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2E41-A3B5-45AC-8979-773B2D62EF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4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52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4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56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6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573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4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576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7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8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589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1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593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596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8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599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608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1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任意多边形 2"/>
          <p:cNvSpPr/>
          <p:nvPr/>
        </p:nvSpPr>
        <p:spPr>
          <a:xfrm>
            <a:off x="224316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2832120" y="2949480"/>
            <a:ext cx="9360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6"/>
          <p:cNvSpPr/>
          <p:nvPr/>
        </p:nvSpPr>
        <p:spPr>
          <a:xfrm>
            <a:off x="0" y="2182680"/>
            <a:ext cx="931212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角三角形 5"/>
          <p:cNvSpPr/>
          <p:nvPr/>
        </p:nvSpPr>
        <p:spPr>
          <a:xfrm>
            <a:off x="9312120" y="2178000"/>
            <a:ext cx="85428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11"/>
          <p:cNvSpPr/>
          <p:nvPr/>
        </p:nvSpPr>
        <p:spPr>
          <a:xfrm>
            <a:off x="2581200" y="3921120"/>
            <a:ext cx="6907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5-05-25T10:21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