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DB5-D790-4D21-A1C2-CC1B02A0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B95-3159-446F-9608-5C0EBE58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C85E1-FDE0-440F-BC51-CF15D27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D9796-D603-4743-AB21-170803A9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96B82-073D-4DC3-86D1-2205476D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C659E-0460-4B68-B87C-3953AC5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B6540-EB4E-4B32-8880-1A7F10A7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A0BE3-1C0F-4574-82DB-68F7A77E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3E259-C1A2-4EC3-A603-2ADEDE7B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EA77A-4CDF-46AD-B7A8-0230B790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E09D8-DC13-47B4-8E8F-FDA2BE21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DFFCD-4253-413E-B7C5-D9DFE4EA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AF5-3C46-46CD-87BB-6A24FE50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CCB0C-FEC6-411C-912B-E644018C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10901-C35F-412E-A09E-348EA5FC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684A7-7219-4F63-9936-25EA21BC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47EF5-F69A-478D-8889-DB34A173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823E3-9864-4DB7-95B8-21CBA67B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E9D08-D78F-4B56-A4B8-14CF7795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8D9E3-2B44-49C6-B0E0-980F02C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14F4D-58B3-4F57-ADC1-1F7F93D9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08295-3E02-4101-A4E7-1BBA6355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C04B7-2BDD-4A52-8DD2-42202904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258-D4BF-47B4-8A92-7DD1A6C7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5A228-535A-4C55-B17C-F5396744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7AAE2-0223-4052-AAB5-8A42DF1E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E0EFC-52D0-4FCA-AB07-FE0CE631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4E213-383E-41F3-AFF7-0237D260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82047-D8EA-47AE-89D8-DBA92A39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E217A-2FBC-4CC9-A1CE-AE51B29E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DE0CE-188A-4BB4-9B8B-3515C3E1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1C5C5-4682-495A-BE5C-8C8F3428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DD80A-D11B-4A09-8451-1A0BF03B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66412-CFFB-4D80-A375-0B129FC9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4499-4995-425C-AC4C-F19B257B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E503B-6B81-4BF9-A51B-9FD19ECB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0F2A9-C85C-4F7A-B4BB-AE4D4269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0840D-9850-412D-A86A-42645A10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62AAD-174A-48FA-ABEB-37CFBC90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F2C07-1B1C-48A8-9079-4E638D77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19BE8-AD63-4673-AEFA-1E9ECDB3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12058-04EE-4F8D-807A-5FBB6ECD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4B2EC-6A61-4708-B584-F3F19266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44175-8888-4AB8-8F22-B4235B2A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31EAB-F467-4867-BE34-9E900B1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6862-9350-4120-8E23-B93AE147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09658-2FFD-4664-9FB2-611A7EBB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54A6C-1F2F-455B-BCA6-7AC6C16E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FB00A-7BEC-47A9-BFBD-8E300085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7DC4A-440D-4D8C-973F-BB184114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EE093-2B84-41BE-9BE3-56A06243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B22F-EC22-49A1-8F00-6F453AD7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EA41-1D6A-4AB6-A5A5-40371454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4B7E-E465-4A19-AB83-76CB5EB0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10F7-B04C-4A85-818E-EE6BF670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E06B-628E-4404-ADC9-B1795CA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04D-2FA9-493A-9C07-12A04741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76C-E4ED-4E7C-A634-9D6AE3B5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2E33-0142-4730-A848-C0D7AD2C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254D-B02B-4220-AE76-497ABAD1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958F-A344-40CC-8DD9-61DB3E2C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2378-D05D-4B28-A1BC-C1A2C8F4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8403-C840-4F80-9322-7B468BDD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A782-C54C-45AA-B486-96F1D457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B299-603C-403D-A72E-55B911BD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48A9-C653-464F-8190-F423B95C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53DE-66B3-4116-8B41-22F7D973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FE5-89A7-416E-BC60-AC50E3BF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6CE86-2579-42FF-BDA5-FE55FFE7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EA01-E541-4696-A2DE-1EEBFAD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35C6-13C5-410C-9E80-8F628544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8E29-E2EE-432E-92CC-ECC0CC84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5F5F-7D42-4BAE-AF19-061BDE88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620C-B921-468C-ABC9-358F347C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5C8C-146A-4654-9FDB-881002FA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7A21-D01D-4FDB-85D2-9439963A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90736-C09D-4B50-AD3E-9F27FA44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5358-619C-4A86-A041-9DF76AE8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4BD-877E-46F9-B794-5FFC39B6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0039-7B01-48B8-BE05-A73C607A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8C367-8E60-4CA2-A83B-C4995857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0865-76FB-4EEF-81C2-DA9990B4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5BA92-7CE4-4E55-B2DC-9746C58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76005-122A-4791-8F93-C4760EF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0C50A-4899-4D8C-85E6-7B2478FD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74A06-9103-4A0B-B354-6377CF54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3C55-A719-421E-A905-5D4AB261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8D78-412D-4D33-BEFA-2CD8970E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BA4D-62F5-46D9-A08C-728A2008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A56-E885-4E4A-985F-E2D7C736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62068-D60A-46B8-8C1C-BB4B181F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B48F-285A-4CA5-8047-6CEC5D70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F7E21-19B6-47D7-810E-AF2D160C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CFDAE-DAB4-483E-8012-464301C0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FA097-C3FA-46A8-9162-763381B1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82CCB-4F0E-4F34-BAD5-40F62A29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F8CF7-1907-4146-8554-0217B7C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E65E0-59BA-49FD-ABC1-5CCFD81D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A96C2-D854-48D2-959C-03229C68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5DB7-A99B-4EE7-9466-887EC506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8C0-471C-4B18-84F3-F8307E0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234D-E200-466E-B317-0AC1F464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A01B5-1027-4C7F-91F2-DA94F62F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CE5E-E902-402C-A446-14564CB9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86512-9D3E-4288-88FE-EAFFB1AB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48181-9FF3-4870-A740-CAF75731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D503A-6D9A-4272-8FBB-16BFD71A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A7401-4FB4-4AE5-8A6A-EB88A0CF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77E3F-A23B-4BBA-85FC-B999411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BE590-2460-440C-8133-A900B6FE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570F1-8A6F-40EC-A714-62D1FBDC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A0E-592B-43DB-9CF2-A2D57365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A91B8-BFA8-4ED6-B4EF-D3BAC97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B9908-1E99-443B-B8C6-0368E124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147EC-DC7D-4808-A2D9-05858A25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081A4-01C3-4753-9C41-0F8B4721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CAA3C-0FFE-485A-8B85-E8F9B051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24617-0289-4CAF-9E54-0B500CF2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729AD-0145-4A10-A380-34C15A17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FFEF0-5E1E-4854-959E-E2580427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199F-BDF8-4A80-BD3C-7F820E0A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B9E9-6E84-401D-B7C9-33F237AF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076-4971-4AA1-AEDE-81C1E24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225A8-6D56-4339-81E5-DE0EE5AA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FF91-540C-4905-A53F-479098C1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E067E-80CA-4783-8088-4C66168B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E9136-B4C6-428D-88C7-347D25CF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81EA2-0C2A-4717-BA98-3BC7B737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123A-7797-4AFE-81C2-36D1BF34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C674E-884A-4509-B1CB-68A164A9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893E2-19E7-491D-BD26-D4587A4F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881E8-39B9-4FE2-A85A-25C94115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D3A60-8914-4B95-96D9-7A3D8D9D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F36-2FE7-413B-BCC8-D02B8F91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DF29D-6F3A-40C4-81FB-AB2CC298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97AB2-A09A-4FF1-B2A7-842456D6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19756-B59F-481D-A1DC-0A520DC0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A01CF-19E4-424B-868B-65C6D4A9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8AD66-DC8D-4E2E-85FF-A99EFA7E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12A14-82CE-4F65-9749-D4DDC991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680B1-3D12-486D-BBB3-E3235A01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BF690-C049-47F0-9162-D41A957A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7925F-BFF9-45DC-940B-42A0949E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4A43D-235C-4102-B081-4B54EB2C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8924-36D5-4448-B46E-04349CCF37B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FEF9-B63A-48FF-9DB7-154DE7D4E4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4031-2557-4F05-A034-EF15689D34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F44A-9904-48E8-A469-7A887334A4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947C-CEB4-4A4D-9573-7CDEA01A019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FA13-A6A7-4983-A6AB-EB51940249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D0E6-0A6A-4453-B603-0E5658BD0E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5F98-55D0-4685-823B-2B2E440E0F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C271-D1F5-460F-B84E-9415826F643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A24E-1D16-4DA5-9904-E879ECF69E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6CBB-377F-4EB2-A6F2-27998052AE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34EB-7B03-4437-8117-B342F3CC15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61E-5466-49F2-8D85-549848D26B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9C87-DF0C-494A-B112-E55C29BF42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A70E-AB4B-48F3-A919-BADA6B74DC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BC14-B851-4D7B-BFB5-14CA7D37FE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E394-E4F7-4FF5-A0C0-333189ECB0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C472-92CD-46C2-8F77-1B6D681E0E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236D-AF97-46EF-AC57-0FB80EC85A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919E-B6D4-4D18-AC17-723E0F7236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FE43-2A49-4079-94B3-46915A2879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1182-83F9-4D5F-8951-B2C7809526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2DE9-A133-461F-A19C-F92BAB3590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D08C-82B3-4599-B687-0F59D3F31B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9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图片 3" descr=""/>
          <p:cNvPicPr/>
          <p:nvPr/>
        </p:nvPicPr>
        <p:blipFill>
          <a:blip r:embed="rId15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1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2824200" y="2125800"/>
            <a:ext cx="5429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童年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生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17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18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19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0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1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52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525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52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53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532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53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53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539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54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54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546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54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5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6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57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572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574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576" name="椭圆 90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91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92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93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94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95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8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591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3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59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6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597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9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600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607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614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624" name="椭圆 75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76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77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78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79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80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639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640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642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4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5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8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650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651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2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653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5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661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662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3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664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6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673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0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680" name="椭圆 106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107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椭圆 108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椭圆 109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10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11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8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695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699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703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707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11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9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718" name="椭圆 22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23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24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5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26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7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2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733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4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5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6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737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739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741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746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2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75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dc:language>en-US</dc:language>
  <cp:lastModifiedBy>lenovo</cp:lastModifiedBy>
  <dcterms:modified xsi:type="dcterms:W3CDTF">2014-07-20T06:37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