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1D1-50D3-425C-8982-766766A4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DDE5-BC8B-48D5-9BDE-D4334A92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AC57-272C-4EAC-8426-937BA67F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A0C-EFAD-4568-A474-1ED8FDB2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C8A-2C8F-4D7A-A880-2A5C47B4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ECC-B24B-4389-A2C1-C5530BA7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D702-877B-404A-820C-3B39BE7C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46B-53F8-4D8C-87E8-1E5D4652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0B34-BB59-4765-ADDB-A6F28E71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A9A-3325-4876-8399-593A9A7C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D9D8-90FE-446D-BB78-03F16B64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8059-1AE9-47FD-A003-A9DE5A32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91FF-88F2-496E-8DA3-181E4A68413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660C-E877-48E8-A406-4DEA82569D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8" descr=""/>
          <p:cNvPicPr/>
          <p:nvPr/>
        </p:nvPicPr>
        <p:blipFill>
          <a:blip r:embed="rId2"/>
          <a:stretch/>
        </p:blipFill>
        <p:spPr>
          <a:xfrm>
            <a:off x="4592520" y="1216080"/>
            <a:ext cx="3006720" cy="5987880"/>
          </a:xfrm>
          <a:prstGeom prst="rect">
            <a:avLst/>
          </a:prstGeom>
          <a:ln w="0">
            <a:noFill/>
          </a:ln>
        </p:spPr>
      </p:pic>
      <p:sp>
        <p:nvSpPr>
          <p:cNvPr id="43" name="矩形 12"/>
          <p:cNvSpPr/>
          <p:nvPr/>
        </p:nvSpPr>
        <p:spPr>
          <a:xfrm>
            <a:off x="3549600" y="4210200"/>
            <a:ext cx="50929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91"/>
          <p:cNvGrpSpPr/>
          <p:nvPr/>
        </p:nvGrpSpPr>
        <p:grpSpPr>
          <a:xfrm>
            <a:off x="4006800" y="1487520"/>
            <a:ext cx="1371600" cy="1874880"/>
            <a:chOff x="4006800" y="1487520"/>
            <a:chExt cx="1371600" cy="1874880"/>
          </a:xfrm>
        </p:grpSpPr>
        <p:sp>
          <p:nvSpPr>
            <p:cNvPr id="46" name="圆角矩形 4"/>
            <p:cNvSpPr/>
            <p:nvPr/>
          </p:nvSpPr>
          <p:spPr>
            <a:xfrm>
              <a:off x="4006800" y="1487520"/>
              <a:ext cx="1371600" cy="1371960"/>
            </a:xfrm>
            <a:custGeom>
              <a:avLst/>
              <a:gdLst>
                <a:gd name="textAreaLeft" fmla="*/ 66960 w 1371600"/>
                <a:gd name="textAreaRight" fmla="*/ 1304640 w 1371600"/>
                <a:gd name="textAreaTop" fmla="*/ 66960 h 1371960"/>
                <a:gd name="textAreaBottom" fmla="*/ 1305000 h 1371960"/>
              </a:gdLst>
              <a:ahLst/>
              <a:rect l="textAreaLeft" t="textAreaTop" r="textAreaRight" b="textAreaBottom"/>
              <a:pathLst>
                <a:path w="21600" h="21606">
                  <a:moveTo>
                    <a:pt x="3600" y="0"/>
                  </a:moveTo>
                  <a:arcTo wR="3600" hR="3600" stAng="16200000" swAng="-5400000"/>
                  <a:lnTo>
                    <a:pt x="0" y="18006"/>
                  </a:lnTo>
                  <a:arcTo wR="3600" hR="3600" stAng="10800000" swAng="-5400000"/>
                  <a:lnTo>
                    <a:pt x="18000" y="216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组合 86"/>
            <p:cNvGrpSpPr/>
            <p:nvPr/>
          </p:nvGrpSpPr>
          <p:grpSpPr>
            <a:xfrm>
              <a:off x="4138920" y="1618560"/>
              <a:ext cx="1107360" cy="1109520"/>
              <a:chOff x="4138920" y="1618560"/>
              <a:chExt cx="1107360" cy="1109520"/>
            </a:xfrm>
          </p:grpSpPr>
          <p:sp>
            <p:nvSpPr>
              <p:cNvPr id="48" name="流程图: 联系 33"/>
              <p:cNvSpPr/>
              <p:nvPr/>
            </p:nvSpPr>
            <p:spPr>
              <a:xfrm flipH="1" rot="16200000">
                <a:off x="4651200" y="2133000"/>
                <a:ext cx="80640" cy="80640"/>
              </a:xfrm>
              <a:prstGeom prst="flowChartConnector">
                <a:avLst/>
              </a:prstGeom>
              <a:solidFill>
                <a:srgbClr val="ffffff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任意多边形 32"/>
              <p:cNvSpPr/>
              <p:nvPr/>
            </p:nvSpPr>
            <p:spPr>
              <a:xfrm flipH="1" rot="16200000">
                <a:off x="4434120" y="1717560"/>
                <a:ext cx="514440" cy="316080"/>
              </a:xfrm>
              <a:custGeom>
                <a:avLst/>
                <a:gdLst>
                  <a:gd name="textAreaLeft" fmla="*/ -360 w 514440"/>
                  <a:gd name="textAreaRight" fmla="*/ 514440 w 51444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f7713b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任意多边形 41"/>
              <p:cNvSpPr/>
              <p:nvPr/>
            </p:nvSpPr>
            <p:spPr>
              <a:xfrm flipH="1" rot="8100000">
                <a:off x="4643280" y="180504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ffc000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任意多边形 36"/>
              <p:cNvSpPr/>
              <p:nvPr/>
            </p:nvSpPr>
            <p:spPr>
              <a:xfrm flipH="1" rot="10800000">
                <a:off x="4732200" y="201528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06ba0a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任意多边形 39"/>
              <p:cNvSpPr/>
              <p:nvPr/>
            </p:nvSpPr>
            <p:spPr>
              <a:xfrm flipH="1" rot="13500000">
                <a:off x="4643280" y="222624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007622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任意多边形 31"/>
              <p:cNvSpPr/>
              <p:nvPr/>
            </p:nvSpPr>
            <p:spPr>
              <a:xfrm flipH="1" rot="16200000">
                <a:off x="4434120" y="2312640"/>
                <a:ext cx="514440" cy="316080"/>
              </a:xfrm>
              <a:custGeom>
                <a:avLst/>
                <a:gdLst>
                  <a:gd name="textAreaLeft" fmla="*/ -360 w 514440"/>
                  <a:gd name="textAreaRight" fmla="*/ 514440 w 51444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0183b1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任意多边形 42"/>
              <p:cNvSpPr/>
              <p:nvPr/>
            </p:nvSpPr>
            <p:spPr>
              <a:xfrm flipH="1" rot="8100000">
                <a:off x="4223520" y="222444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7030a0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任意多边形 37"/>
              <p:cNvSpPr/>
              <p:nvPr/>
            </p:nvSpPr>
            <p:spPr>
              <a:xfrm flipH="1" rot="10800000">
                <a:off x="4138920" y="201528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b71968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任意多边形 40"/>
              <p:cNvSpPr/>
              <p:nvPr/>
            </p:nvSpPr>
            <p:spPr>
              <a:xfrm flipH="1" rot="13500000">
                <a:off x="4222080" y="180540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ff0000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矩形 88"/>
            <p:cNvSpPr/>
            <p:nvPr/>
          </p:nvSpPr>
          <p:spPr>
            <a:xfrm>
              <a:off x="4006800" y="2982600"/>
              <a:ext cx="137160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细等线简体"/>
                  <a:ea typeface="方正细等线简体"/>
                </a:rPr>
                <a:t>图片处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92"/>
          <p:cNvGrpSpPr/>
          <p:nvPr/>
        </p:nvGrpSpPr>
        <p:grpSpPr>
          <a:xfrm>
            <a:off x="6943680" y="1487520"/>
            <a:ext cx="1371600" cy="1874880"/>
            <a:chOff x="6943680" y="1487520"/>
            <a:chExt cx="1371600" cy="1874880"/>
          </a:xfrm>
        </p:grpSpPr>
        <p:sp>
          <p:nvSpPr>
            <p:cNvPr id="59" name="圆角矩形 93"/>
            <p:cNvSpPr/>
            <p:nvPr/>
          </p:nvSpPr>
          <p:spPr>
            <a:xfrm>
              <a:off x="6943680" y="1487520"/>
              <a:ext cx="1371600" cy="1371960"/>
            </a:xfrm>
            <a:custGeom>
              <a:avLst/>
              <a:gdLst>
                <a:gd name="textAreaLeft" fmla="*/ 66960 w 1371600"/>
                <a:gd name="textAreaRight" fmla="*/ 1304640 w 1371600"/>
                <a:gd name="textAreaTop" fmla="*/ 66960 h 1371960"/>
                <a:gd name="textAreaBottom" fmla="*/ 1305000 h 1371960"/>
              </a:gdLst>
              <a:ahLst/>
              <a:rect l="textAreaLeft" t="textAreaTop" r="textAreaRight" b="textAreaBottom"/>
              <a:pathLst>
                <a:path w="21600" h="21606">
                  <a:moveTo>
                    <a:pt x="3600" y="0"/>
                  </a:moveTo>
                  <a:arcTo wR="3600" hR="3600" stAng="16200000" swAng="-5400000"/>
                  <a:lnTo>
                    <a:pt x="0" y="18006"/>
                  </a:lnTo>
                  <a:arcTo wR="3600" hR="3600" stAng="10800000" swAng="-5400000"/>
                  <a:lnTo>
                    <a:pt x="18000" y="216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方正细等线简体"/>
                  <a:ea typeface="方正细等线简体"/>
                </a:rPr>
                <a:t>字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95"/>
            <p:cNvSpPr/>
            <p:nvPr/>
          </p:nvSpPr>
          <p:spPr>
            <a:xfrm>
              <a:off x="6943680" y="2982600"/>
              <a:ext cx="137160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细等线简体"/>
                  <a:ea typeface="方正细等线简体"/>
                </a:rPr>
                <a:t>炫彩字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图片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6369120" y="2340000"/>
            <a:ext cx="4106880" cy="256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525680" y="1995480"/>
          <a:ext cx="4190760" cy="295596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选择一张图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建议选择颜色丰富的图片，作为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PPT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背景会更绚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图片质量不高没问题，像素更是随你心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图片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5680" y="1995480"/>
          <a:ext cx="4190760" cy="301932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添加艺术效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双击图片，在功能区选择艺术效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选择虚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虚化程度不理想？请调整虚化半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虚化半径在哪里？请点击艺术效果选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图片 4" descr=""/>
          <p:cNvPicPr/>
          <p:nvPr/>
        </p:nvPicPr>
        <p:blipFill>
          <a:blip r:embed="rId2"/>
          <a:stretch/>
        </p:blipFill>
        <p:spPr>
          <a:xfrm>
            <a:off x="6073920" y="2081160"/>
            <a:ext cx="46958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炫彩字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5680" y="1995480"/>
          <a:ext cx="4190760" cy="220032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安装字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英文字体为：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GillSans-L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中文字体为：方正细等线简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中文字体的原生字体我没有下到，不好意思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圆角矩形 6"/>
          <p:cNvSpPr/>
          <p:nvPr/>
        </p:nvSpPr>
        <p:spPr>
          <a:xfrm>
            <a:off x="7666200" y="2160720"/>
            <a:ext cx="2538360" cy="253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.PhonepadTwo"/>
              </a:rPr>
              <a:t>7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炫彩字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5680" y="1995480"/>
          <a:ext cx="6099120" cy="2104920"/>
        </p:xfrm>
        <a:graphic>
          <a:graphicData uri="http://schemas.openxmlformats.org/drawingml/2006/table">
            <a:tbl>
              <a:tblPr/>
              <a:tblGrid>
                <a:gridCol w="609912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颜色调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输入文字：举个栗子：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字体颜色：选择渐变，此处主要为确定渐变方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光圈设置：增加光圈数，调整每个光圈的颜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颜色设置：调整各光圈间距离来调整整体颜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图片 1" descr=""/>
          <p:cNvPicPr/>
          <p:nvPr/>
        </p:nvPicPr>
        <p:blipFill>
          <a:blip r:embed="rId2"/>
          <a:stretch/>
        </p:blipFill>
        <p:spPr>
          <a:xfrm>
            <a:off x="7797960" y="1533600"/>
            <a:ext cx="2336760" cy="4475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3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心得分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5680" y="1995480"/>
          <a:ext cx="8842320" cy="1982880"/>
        </p:xfrm>
        <a:graphic>
          <a:graphicData uri="http://schemas.openxmlformats.org/drawingml/2006/table">
            <a:tbl>
              <a:tblPr/>
              <a:tblGrid>
                <a:gridCol w="8842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背景要虚，做出摄影棚里无数灯的光晕效果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字体细圆，但不能够细到看不见，圆到木有骨头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透明度是设置图形的好帮手，可以瞬间变成背景，默默突出主题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颜色设置不要太饱和，柔柔的才是小清新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欢迎勾搭，欢迎点赞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Picture 10" descr=""/>
          <p:cNvPicPr/>
          <p:nvPr/>
        </p:nvPicPr>
        <p:blipFill>
          <a:blip r:embed="rId2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圆角矩形 106"/>
          <p:cNvSpPr/>
          <p:nvPr/>
        </p:nvSpPr>
        <p:spPr>
          <a:xfrm>
            <a:off x="3484440" y="1341360"/>
            <a:ext cx="4937400" cy="4938840"/>
          </a:xfrm>
          <a:custGeom>
            <a:avLst/>
            <a:gdLst>
              <a:gd name="textAreaLeft" fmla="*/ 240840 w 4937400"/>
              <a:gd name="textAreaRight" fmla="*/ 4696560 w 4937400"/>
              <a:gd name="textAreaTop" fmla="*/ 240840 h 4938840"/>
              <a:gd name="textAreaBottom" fmla="*/ 4698000 h 493884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勾搭途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4" descr=""/>
          <p:cNvPicPr/>
          <p:nvPr/>
        </p:nvPicPr>
        <p:blipFill>
          <a:blip r:embed="rId2"/>
          <a:stretch/>
        </p:blipFill>
        <p:spPr>
          <a:xfrm>
            <a:off x="3873600" y="2406600"/>
            <a:ext cx="1360440" cy="1360440"/>
          </a:xfrm>
          <a:prstGeom prst="rect">
            <a:avLst/>
          </a:prstGeom>
          <a:ln w="0">
            <a:noFill/>
          </a:ln>
        </p:spPr>
      </p:pic>
      <p:sp>
        <p:nvSpPr>
          <p:cNvPr id="92" name="矩形 7"/>
          <p:cNvSpPr/>
          <p:nvPr/>
        </p:nvSpPr>
        <p:spPr>
          <a:xfrm>
            <a:off x="3873600" y="3867120"/>
            <a:ext cx="1371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新浪微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5" descr=""/>
          <p:cNvPicPr/>
          <p:nvPr/>
        </p:nvPicPr>
        <p:blipFill>
          <a:blip r:embed="rId3"/>
          <a:stretch/>
        </p:blipFill>
        <p:spPr>
          <a:xfrm>
            <a:off x="6438960" y="2406600"/>
            <a:ext cx="1360440" cy="1360440"/>
          </a:xfrm>
          <a:prstGeom prst="rect">
            <a:avLst/>
          </a:prstGeom>
          <a:ln w="0">
            <a:noFill/>
          </a:ln>
        </p:spPr>
      </p:pic>
      <p:sp>
        <p:nvSpPr>
          <p:cNvPr id="94" name="矩形 9"/>
          <p:cNvSpPr/>
          <p:nvPr/>
        </p:nvSpPr>
        <p:spPr>
          <a:xfrm>
            <a:off x="6438960" y="3873600"/>
            <a:ext cx="1371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腾讯微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4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2:27:00Z</dcterms:created>
  <dc:creator>LL H</dc:creator>
  <dc:description/>
  <cp:keywords/>
  <dc:language>en-US</dc:language>
  <cp:lastModifiedBy>Yehuan Liu</cp:lastModifiedBy>
  <dcterms:modified xsi:type="dcterms:W3CDTF">2014-11-06T02:02:43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