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F0C-E46B-4D83-9FE5-E6755A11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749-E6FF-49E5-98EC-CA088F99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051-6908-4F5D-9B03-D3BB9798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AD3-8DDE-4329-83F5-B01FE98D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024-2EAF-450F-B15C-B8E41B80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788-328C-486C-8D9C-C32E66E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6A3-90C3-47CA-BDEE-EBB91607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062-041A-4BDF-863B-76E332CD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B40-4BA3-4624-9ED5-DE07591E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8C3-0500-437E-9CAC-3919BE1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456-FA29-4B0C-9715-D93D99EE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613-55CB-4068-8AB0-4AD79FFD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92A4-8EE2-480E-88C2-A62BE256B6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F788-95B9-4607-81B1-9131DFBAB9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4592520" y="1216080"/>
            <a:ext cx="3006720" cy="598788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3549600" y="4210200"/>
            <a:ext cx="5092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91"/>
          <p:cNvGrpSpPr/>
          <p:nvPr/>
        </p:nvGrpSpPr>
        <p:grpSpPr>
          <a:xfrm>
            <a:off x="4006800" y="1487520"/>
            <a:ext cx="1371600" cy="1874880"/>
            <a:chOff x="4006800" y="1487520"/>
            <a:chExt cx="1371600" cy="1874880"/>
          </a:xfrm>
        </p:grpSpPr>
        <p:sp>
          <p:nvSpPr>
            <p:cNvPr id="46" name="圆角矩形 4"/>
            <p:cNvSpPr/>
            <p:nvPr/>
          </p:nvSpPr>
          <p:spPr>
            <a:xfrm>
              <a:off x="400680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86"/>
            <p:cNvGrpSpPr/>
            <p:nvPr/>
          </p:nvGrpSpPr>
          <p:grpSpPr>
            <a:xfrm>
              <a:off x="4138920" y="1618560"/>
              <a:ext cx="1107360" cy="1109520"/>
              <a:chOff x="4138920" y="1618560"/>
              <a:chExt cx="1107360" cy="1109520"/>
            </a:xfrm>
          </p:grpSpPr>
          <p:sp>
            <p:nvSpPr>
              <p:cNvPr id="48" name="流程图: 联系 33"/>
              <p:cNvSpPr/>
              <p:nvPr/>
            </p:nvSpPr>
            <p:spPr>
              <a:xfrm flipH="1" rot="16200000">
                <a:off x="4651200" y="2133000"/>
                <a:ext cx="80640" cy="80640"/>
              </a:xfrm>
              <a:prstGeom prst="flowChartConnector">
                <a:avLst/>
              </a:prstGeom>
              <a:solidFill>
                <a:srgbClr val="fffff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任意多边形 32"/>
              <p:cNvSpPr/>
              <p:nvPr/>
            </p:nvSpPr>
            <p:spPr>
              <a:xfrm flipH="1" rot="16200000">
                <a:off x="4434120" y="171756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7713b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任意多边形 41"/>
              <p:cNvSpPr/>
              <p:nvPr/>
            </p:nvSpPr>
            <p:spPr>
              <a:xfrm flipH="1" rot="8100000">
                <a:off x="4643280" y="18050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c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36"/>
              <p:cNvSpPr/>
              <p:nvPr/>
            </p:nvSpPr>
            <p:spPr>
              <a:xfrm flipH="1" rot="10800000">
                <a:off x="473220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6ba0a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39"/>
              <p:cNvSpPr/>
              <p:nvPr/>
            </p:nvSpPr>
            <p:spPr>
              <a:xfrm flipH="1" rot="13500000">
                <a:off x="4643280" y="22262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07622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31"/>
              <p:cNvSpPr/>
              <p:nvPr/>
            </p:nvSpPr>
            <p:spPr>
              <a:xfrm flipH="1" rot="16200000">
                <a:off x="4434120" y="231264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183b1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任意多边形 42"/>
              <p:cNvSpPr/>
              <p:nvPr/>
            </p:nvSpPr>
            <p:spPr>
              <a:xfrm flipH="1" rot="8100000">
                <a:off x="4223520" y="22244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7030a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37"/>
              <p:cNvSpPr/>
              <p:nvPr/>
            </p:nvSpPr>
            <p:spPr>
              <a:xfrm flipH="1" rot="10800000">
                <a:off x="413892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b71968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40"/>
              <p:cNvSpPr/>
              <p:nvPr/>
            </p:nvSpPr>
            <p:spPr>
              <a:xfrm flipH="1" rot="13500000">
                <a:off x="4222080" y="180540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0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矩形 88"/>
            <p:cNvSpPr/>
            <p:nvPr/>
          </p:nvSpPr>
          <p:spPr>
            <a:xfrm>
              <a:off x="400680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图片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2"/>
          <p:cNvGrpSpPr/>
          <p:nvPr/>
        </p:nvGrpSpPr>
        <p:grpSpPr>
          <a:xfrm>
            <a:off x="6943680" y="1487520"/>
            <a:ext cx="1371600" cy="1874880"/>
            <a:chOff x="6943680" y="1487520"/>
            <a:chExt cx="1371600" cy="1874880"/>
          </a:xfrm>
        </p:grpSpPr>
        <p:sp>
          <p:nvSpPr>
            <p:cNvPr id="59" name="圆角矩形 93"/>
            <p:cNvSpPr/>
            <p:nvPr/>
          </p:nvSpPr>
          <p:spPr>
            <a:xfrm>
              <a:off x="694368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5"/>
            <p:cNvSpPr/>
            <p:nvPr/>
          </p:nvSpPr>
          <p:spPr>
            <a:xfrm>
              <a:off x="694368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炫彩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6369120" y="2340000"/>
            <a:ext cx="4106880" cy="25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25680" y="1995480"/>
          <a:ext cx="4190760" cy="295596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一张图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建议选择颜色丰富的图片，作为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PPT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会更绚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图片质量不高没问题，像素更是随你心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5680" y="1995480"/>
          <a:ext cx="4190760" cy="3019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添加艺术效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双击图片，在功能区选择艺术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虚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程度不理想？请调整虚化半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半径在哪里？请点击艺术效果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图片 4" descr=""/>
          <p:cNvPicPr/>
          <p:nvPr/>
        </p:nvPicPr>
        <p:blipFill>
          <a:blip r:embed="rId2"/>
          <a:stretch/>
        </p:blipFill>
        <p:spPr>
          <a:xfrm>
            <a:off x="6073920" y="2081160"/>
            <a:ext cx="46958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5680" y="1995480"/>
          <a:ext cx="4190760" cy="2200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安装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英文字体为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GillSans-L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为：方正细等线简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的原生字体我没有下到，不好意思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圆角矩形 6"/>
          <p:cNvSpPr/>
          <p:nvPr/>
        </p:nvSpPr>
        <p:spPr>
          <a:xfrm>
            <a:off x="7666200" y="2160720"/>
            <a:ext cx="2538360" cy="253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.PhonepadTwo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5680" y="1995480"/>
          <a:ext cx="6099120" cy="2104920"/>
        </p:xfrm>
        <a:graphic>
          <a:graphicData uri="http://schemas.openxmlformats.org/drawingml/2006/table">
            <a:tbl>
              <a:tblPr/>
              <a:tblGrid>
                <a:gridCol w="609912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调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输入文字：举个栗子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颜色：选择渐变，此处主要为确定渐变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光圈设置：增加光圈数，调整每个光圈的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：调整各光圈间距离来调整整体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7797960" y="1533600"/>
            <a:ext cx="2336760" cy="447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心得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5680" y="1995480"/>
          <a:ext cx="8842320" cy="1982880"/>
        </p:xfrm>
        <a:graphic>
          <a:graphicData uri="http://schemas.openxmlformats.org/drawingml/2006/table">
            <a:tbl>
              <a:tblPr/>
              <a:tblGrid>
                <a:gridCol w="8842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要虚，做出摄影棚里无数灯的光晕效果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细圆，但不能够细到看不见，圆到木有骨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透明度是设置图形的好帮手，可以瞬间变成背景，默默突出主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不要太饱和，柔柔的才是小清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欢迎勾搭，欢迎点赞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106"/>
          <p:cNvSpPr/>
          <p:nvPr/>
        </p:nvSpPr>
        <p:spPr>
          <a:xfrm>
            <a:off x="3484440" y="1341360"/>
            <a:ext cx="4937400" cy="4938840"/>
          </a:xfrm>
          <a:custGeom>
            <a:avLst/>
            <a:gdLst>
              <a:gd name="textAreaLeft" fmla="*/ 240840 w 4937400"/>
              <a:gd name="textAreaRight" fmla="*/ 4696560 w 4937400"/>
              <a:gd name="textAreaTop" fmla="*/ 240840 h 4938840"/>
              <a:gd name="textAreaBottom" fmla="*/ 4698000 h 49388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勾搭途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" descr=""/>
          <p:cNvPicPr/>
          <p:nvPr/>
        </p:nvPicPr>
        <p:blipFill>
          <a:blip r:embed="rId2"/>
          <a:stretch/>
        </p:blipFill>
        <p:spPr>
          <a:xfrm>
            <a:off x="387360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3873600" y="386712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新浪微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"/>
          <p:cNvPicPr/>
          <p:nvPr/>
        </p:nvPicPr>
        <p:blipFill>
          <a:blip r:embed="rId3"/>
          <a:stretch/>
        </p:blipFill>
        <p:spPr>
          <a:xfrm>
            <a:off x="643896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4" name="矩形 9"/>
          <p:cNvSpPr/>
          <p:nvPr/>
        </p:nvSpPr>
        <p:spPr>
          <a:xfrm>
            <a:off x="6438960" y="387360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腾讯微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2:27:00Z</dcterms:created>
  <dc:creator>LL H</dc:creator>
  <dc:description/>
  <cp:keywords/>
  <dc:language>en-US</dc:language>
  <cp:lastModifiedBy>Yehuan Liu</cp:lastModifiedBy>
  <dcterms:modified xsi:type="dcterms:W3CDTF">2014-11-06T02:02:4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