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CB4-4708-49B3-B603-4F47A5A9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6F0-EE4B-4A3C-A41F-5CA710A0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F29-AE22-4EB3-9DFF-33A4F776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235-04E4-4CEC-8B8B-7EAB14DC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E45-EF98-4B9E-9E64-F7C1502C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22F-E5EB-4A89-8402-5F27B41E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589-0813-4464-85BF-A24F3621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059-811D-4DC5-A6F6-673A1EDC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166-B8B2-4C45-8706-626889F3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F83-6EF2-447C-9D8A-68E622D6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BB5-FF73-4531-96F1-575334A6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4A3-D72A-4803-B221-C1DE79E6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D11A-2066-45CE-A093-4262EBB191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290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52642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500120" y="571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140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569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640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926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97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7118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855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783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569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42656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426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569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9-02T09:58:40Z</dcterms:modified>
  <cp:revision>67</cp:revision>
  <dc:subject/>
  <dc:title>幻灯片 1</dc:title>
</cp:coreProperties>
</file>