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B30D-19D8-4FC2-B6D6-78C469A1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6153-9931-425D-84E6-D0F2CE95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1E89-4A98-4572-95A8-C458C207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CA6F-385B-4F87-8DAB-1BB46A56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729D-5062-40C1-986E-AFAA1D16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0148-0922-4B07-AAB9-7CB341D8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2E95-FF13-45CD-A153-744A3A58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23A7-E04C-4DD5-A663-FF92BA8C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1207-FB42-4821-9B61-57C5BE0E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4154-0155-419B-9410-5CAF8E8D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6859-F21C-46CD-A1AB-BFA9ACA0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1B8C-8922-4F60-A046-D90A212A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0212-B4E4-4DD3-A059-778C6E75FB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1238400" y="2428920"/>
            <a:ext cx="127764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1344960" y="4640760"/>
            <a:ext cx="11552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1762560" y="2357280"/>
            <a:ext cx="109512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清爽及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8"/>
          <p:cNvSpPr/>
          <p:nvPr/>
        </p:nvSpPr>
        <p:spPr>
          <a:xfrm>
            <a:off x="398844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3357720" y="30718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36406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371196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378612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714000" y="3916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16405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213800" y="384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402012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6406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4266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41407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398844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2571840" y="3786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492660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471204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398844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2286000" y="4357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40690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8550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391716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22831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64267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4020120" y="785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9"/>
          <p:cNvSpPr/>
          <p:nvPr/>
        </p:nvSpPr>
        <p:spPr>
          <a:xfrm>
            <a:off x="385488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649800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52837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22118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149760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398844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1643040" y="2643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63550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41407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398844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57121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/>
          <p:cNvSpPr/>
          <p:nvPr/>
        </p:nvSpPr>
        <p:spPr>
          <a:xfrm>
            <a:off x="25689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49978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306900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4-03-07T06:07:50Z</dcterms:modified>
  <cp:revision>35</cp:revision>
  <dc:subject/>
  <dc:title>幻灯片 1</dc:title>
</cp:coreProperties>
</file>