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6C6-B1AC-4E28-ABB4-8BD49962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32E-4027-4C9C-983A-4676B39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096-ADDE-4272-A5A4-09D3B825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D03-68D2-4620-8154-EE11F237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75A5-549E-4A7E-B0C2-38260A25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BF09-342A-4123-A1DC-BB0CDA31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A46-78D6-4601-A8C6-41AADE00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407-323C-499D-AD20-1543D1B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AF6-AC0E-45E5-B2A9-94FE3C3A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2B0-C28C-47DA-A0C1-03154E3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870-C324-41F2-B4E5-BB415ED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24E-4DA6-493D-B72F-0A4261A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4373-0260-4C81-8BD8-09C9837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BE6-945C-4375-88CF-F32589E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CE4-DF02-4091-BA3D-AA079B9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B26E-DA9E-4E82-9EDF-AFFEFF2A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219E-4E12-448C-9885-7C8AD9BE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BED-852E-49E0-808A-A4FB1CC7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26A-CA33-4261-9AFD-E0837D41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8C0-89D0-42C2-9E78-2ED12A99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413-E424-4D83-A263-6CE9D971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89D-2D0B-49FA-94D3-D45F1AC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D4A-7847-4A65-BFEC-F18397C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FB4-F956-48DD-AB52-C5C08AA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473D-7489-40B4-8B22-79B4E37592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F07-C63C-4C8E-8843-35F7D4360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" descr="2-1.pn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1" descr="2-2.png"/>
          <p:cNvPicPr/>
          <p:nvPr/>
        </p:nvPicPr>
        <p:blipFill>
          <a:blip r:embed="rId3"/>
          <a:stretch/>
        </p:blipFill>
        <p:spPr>
          <a:xfrm>
            <a:off x="4267080" y="3124080"/>
            <a:ext cx="487692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2" descr="2-3.png"/>
          <p:cNvPicPr/>
          <p:nvPr/>
        </p:nvPicPr>
        <p:blipFill>
          <a:blip r:embed="rId4"/>
          <a:stretch/>
        </p:blipFill>
        <p:spPr>
          <a:xfrm>
            <a:off x="4343400" y="2971800"/>
            <a:ext cx="4802040" cy="1228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3" descr="2-4.png"/>
          <p:cNvPicPr/>
          <p:nvPr/>
        </p:nvPicPr>
        <p:blipFill>
          <a:blip r:embed="rId5"/>
          <a:stretch/>
        </p:blipFill>
        <p:spPr>
          <a:xfrm>
            <a:off x="4495680" y="2666880"/>
            <a:ext cx="4648320" cy="1662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2-5.png"/>
          <p:cNvPicPr/>
          <p:nvPr/>
        </p:nvPicPr>
        <p:blipFill>
          <a:blip r:embed="rId6"/>
          <a:stretch/>
        </p:blipFill>
        <p:spPr>
          <a:xfrm>
            <a:off x="3886200" y="2514600"/>
            <a:ext cx="5257800" cy="1959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5" descr="3-1.png"/>
          <p:cNvPicPr/>
          <p:nvPr/>
        </p:nvPicPr>
        <p:blipFill>
          <a:blip r:embed="rId7"/>
          <a:stretch/>
        </p:blipFill>
        <p:spPr>
          <a:xfrm>
            <a:off x="0" y="2362320"/>
            <a:ext cx="47372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6" descr="3-2.png"/>
          <p:cNvPicPr/>
          <p:nvPr/>
        </p:nvPicPr>
        <p:blipFill>
          <a:blip r:embed="rId8"/>
          <a:stretch/>
        </p:blipFill>
        <p:spPr>
          <a:xfrm>
            <a:off x="0" y="2362320"/>
            <a:ext cx="4757760" cy="230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7" descr="3-3.png"/>
          <p:cNvPicPr/>
          <p:nvPr/>
        </p:nvPicPr>
        <p:blipFill>
          <a:blip r:embed="rId9"/>
          <a:stretch/>
        </p:blipFill>
        <p:spPr>
          <a:xfrm>
            <a:off x="0" y="3124080"/>
            <a:ext cx="4297320" cy="1044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8" descr="3-4.png"/>
          <p:cNvPicPr/>
          <p:nvPr/>
        </p:nvPicPr>
        <p:blipFill>
          <a:blip r:embed="rId10"/>
          <a:stretch/>
        </p:blipFill>
        <p:spPr>
          <a:xfrm>
            <a:off x="0" y="3200400"/>
            <a:ext cx="4525920" cy="1238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9" descr="3-5.png"/>
          <p:cNvPicPr/>
          <p:nvPr/>
        </p:nvPicPr>
        <p:blipFill>
          <a:blip r:embed="rId11"/>
          <a:stretch/>
        </p:blipFill>
        <p:spPr>
          <a:xfrm>
            <a:off x="0" y="3200400"/>
            <a:ext cx="452592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2" descr="光.png"/>
          <p:cNvPicPr/>
          <p:nvPr/>
        </p:nvPicPr>
        <p:blipFill>
          <a:blip r:embed="rId12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3" descr="光.png"/>
          <p:cNvPicPr/>
          <p:nvPr/>
        </p:nvPicPr>
        <p:blipFill>
          <a:blip r:embed="rId13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4" descr="地球2.png"/>
          <p:cNvPicPr/>
          <p:nvPr/>
        </p:nvPicPr>
        <p:blipFill>
          <a:blip r:embed="rId14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5" descr="地球2.png"/>
          <p:cNvPicPr/>
          <p:nvPr/>
        </p:nvPicPr>
        <p:blipFill>
          <a:blip r:embed="rId15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9" descr="未标题-1.png"/>
          <p:cNvPicPr/>
          <p:nvPr/>
        </p:nvPicPr>
        <p:blipFill>
          <a:blip r:embed="rId1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2">
                                  <p:stCondLst>
                                    <p:cond delay="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900"/>
                            </p:stCondLst>
                            <p:childTnLst>
                              <p:par>
                                <p:cTn id="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57200" y="4648320"/>
            <a:ext cx="4110120" cy="1137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4" descr="未标题-1.png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地球2.png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1481 L -0.98333 0.01111 E">
                                      <p:cBhvr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225360" y="5562720"/>
            <a:ext cx="9369000" cy="1294920"/>
            <a:chOff x="-225360" y="5562720"/>
            <a:chExt cx="9369000" cy="1294920"/>
          </a:xfrm>
        </p:grpSpPr>
        <p:sp>
          <p:nvSpPr>
            <p:cNvPr id="105" name="Rectangle 3"/>
            <p:cNvSpPr/>
            <p:nvPr/>
          </p:nvSpPr>
          <p:spPr>
            <a:xfrm>
              <a:off x="-225360" y="5855760"/>
              <a:ext cx="9369000" cy="1001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 flipV="1">
              <a:off x="-225360" y="5562360"/>
              <a:ext cx="9369000" cy="301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rc 13"/>
          <p:cNvSpPr/>
          <p:nvPr/>
        </p:nvSpPr>
        <p:spPr>
          <a:xfrm>
            <a:off x="-3654360" y="0"/>
            <a:ext cx="6854760" cy="68580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365200" y="1255680"/>
            <a:ext cx="560520" cy="560520"/>
            <a:chOff x="2365200" y="1255680"/>
            <a:chExt cx="560520" cy="560520"/>
          </a:xfrm>
        </p:grpSpPr>
        <p:pic>
          <p:nvPicPr>
            <p:cNvPr id="109" name="Oval 14" descr=""/>
            <p:cNvPicPr/>
            <p:nvPr/>
          </p:nvPicPr>
          <p:blipFill>
            <a:blip r:embed="rId3"/>
            <a:stretch/>
          </p:blipFill>
          <p:spPr>
            <a:xfrm>
              <a:off x="2365200" y="125568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38360" y="1415880"/>
              <a:ext cx="2206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65600" y="2523960"/>
            <a:ext cx="560160" cy="560520"/>
            <a:chOff x="2865600" y="2523960"/>
            <a:chExt cx="560160" cy="560520"/>
          </a:xfrm>
        </p:grpSpPr>
        <p:pic>
          <p:nvPicPr>
            <p:cNvPr id="112" name="Oval 15" descr=""/>
            <p:cNvPicPr/>
            <p:nvPr/>
          </p:nvPicPr>
          <p:blipFill>
            <a:blip r:embed="rId4"/>
            <a:stretch/>
          </p:blipFill>
          <p:spPr>
            <a:xfrm>
              <a:off x="2865600" y="252396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36600" y="268416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865600" y="3790800"/>
            <a:ext cx="560160" cy="561960"/>
            <a:chOff x="2865600" y="3790800"/>
            <a:chExt cx="560160" cy="561960"/>
          </a:xfrm>
        </p:grpSpPr>
        <p:pic>
          <p:nvPicPr>
            <p:cNvPr id="115" name="Oval 16" descr=""/>
            <p:cNvPicPr/>
            <p:nvPr/>
          </p:nvPicPr>
          <p:blipFill>
            <a:blip r:embed="rId5"/>
            <a:stretch/>
          </p:blipFill>
          <p:spPr>
            <a:xfrm>
              <a:off x="2865600" y="379080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38400" y="3952800"/>
              <a:ext cx="22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78160" y="5059440"/>
            <a:ext cx="560160" cy="560160"/>
            <a:chOff x="2378160" y="5059440"/>
            <a:chExt cx="560160" cy="560160"/>
          </a:xfrm>
        </p:grpSpPr>
        <p:pic>
          <p:nvPicPr>
            <p:cNvPr id="118" name="Oval 17" descr=""/>
            <p:cNvPicPr/>
            <p:nvPr/>
          </p:nvPicPr>
          <p:blipFill>
            <a:blip r:embed="rId6"/>
            <a:stretch/>
          </p:blipFill>
          <p:spPr>
            <a:xfrm>
              <a:off x="2378160" y="5059440"/>
              <a:ext cx="5601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50960" y="5221080"/>
              <a:ext cx="2203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228600" y="1901880"/>
            <a:ext cx="1533600" cy="3060720"/>
            <a:chOff x="-228600" y="1901880"/>
            <a:chExt cx="1533600" cy="3060720"/>
          </a:xfrm>
        </p:grpSpPr>
        <p:pic>
          <p:nvPicPr>
            <p:cNvPr id="121" name="Arc 18" descr=""/>
            <p:cNvPicPr/>
            <p:nvPr/>
          </p:nvPicPr>
          <p:blipFill>
            <a:blip r:embed="rId7"/>
            <a:stretch/>
          </p:blipFill>
          <p:spPr>
            <a:xfrm>
              <a:off x="-228600" y="1901880"/>
              <a:ext cx="153360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-225360" y="1905120"/>
              <a:ext cx="152064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46320" y="306720"/>
            <a:ext cx="228960" cy="6245280"/>
            <a:chOff x="-346320" y="306720"/>
            <a:chExt cx="228960" cy="6245280"/>
          </a:xfrm>
        </p:grpSpPr>
        <p:grpSp>
          <p:nvGrpSpPr>
            <p:cNvPr id="124" name=""/>
            <p:cNvGrpSpPr/>
            <p:nvPr/>
          </p:nvGrpSpPr>
          <p:grpSpPr>
            <a:xfrm>
              <a:off x="-345960" y="3236040"/>
              <a:ext cx="228600" cy="3315960"/>
              <a:chOff x="-345960" y="3236040"/>
              <a:chExt cx="228600" cy="3315960"/>
            </a:xfrm>
          </p:grpSpPr>
          <p:pic>
            <p:nvPicPr>
              <p:cNvPr id="125" name="Rounded Rectangl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-345960" y="323604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5"/>
              <p:cNvSpPr/>
              <p:nvPr/>
            </p:nvSpPr>
            <p:spPr>
              <a:xfrm rot="10800000">
                <a:off x="-273600" y="3368520"/>
                <a:ext cx="86040" cy="30301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-346320" y="306720"/>
              <a:ext cx="228600" cy="3315960"/>
              <a:chOff x="-346320" y="306720"/>
              <a:chExt cx="228600" cy="3315960"/>
            </a:xfrm>
          </p:grpSpPr>
          <p:pic>
            <p:nvPicPr>
              <p:cNvPr id="128" name="Rounded Rectangle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346320" y="306720"/>
                <a:ext cx="22860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8"/>
              <p:cNvSpPr/>
              <p:nvPr/>
            </p:nvSpPr>
            <p:spPr>
              <a:xfrm rot="10800000">
                <a:off x="-272880" y="441720"/>
                <a:ext cx="86040" cy="30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 txBox="1"/>
          <p:nvPr/>
        </p:nvSpPr>
        <p:spPr>
          <a:xfrm>
            <a:off x="4191120" y="2286000"/>
            <a:ext cx="396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379880">
                                      <p:cBhvr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20000">
                                      <p:cBhvr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4000" y="4437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dc:language>en-US</dc:language>
  <cp:lastModifiedBy>arkey</cp:lastModifiedBy>
  <cp:lastPrinted>1899-12-30T00:00:00Z</cp:lastPrinted>
  <dcterms:modified xsi:type="dcterms:W3CDTF">2010-07-11T11:0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