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C2E-41B1-4437-ACD7-CDD971DB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D40-D6A7-4608-AEB0-9E8CD4FE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1F4-0BA3-4646-AE58-F221B3BD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1F3-C8E4-493B-870B-9306BA5E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E1A-144D-4F2B-84C4-B48632FC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A29-303D-4380-8877-B826D117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AF8-75A9-4DFE-8A28-63190557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9BD-AD2A-4BC1-B0A1-AB2E1F2C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C76-6D57-4664-9782-0FEC7F5D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F6B-1FB2-4A5E-8907-07836FFB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2AF-218C-4D08-99F5-94EEB95A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C23-7EC2-44A2-AA70-C6DA3E51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7372-4738-46F3-B677-2320074AE4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91BC-3D35-44D8-B0B1-3B456FFDD3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6" descr=""/>
          <p:cNvPicPr/>
          <p:nvPr/>
        </p:nvPicPr>
        <p:blipFill>
          <a:blip r:embed="rId1"/>
          <a:stretch/>
        </p:blipFill>
        <p:spPr>
          <a:xfrm>
            <a:off x="-1440" y="0"/>
            <a:ext cx="3573360" cy="574524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44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64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Point Template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艺术抽象类应用模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1"/>
          <a:stretch/>
        </p:blipFill>
        <p:spPr>
          <a:xfrm>
            <a:off x="-1440" y="0"/>
            <a:ext cx="2485800" cy="574524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79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90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94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98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102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dc:language>en-US</dc:language>
  <cp:lastModifiedBy>微软用户</cp:lastModifiedBy>
  <dcterms:modified xsi:type="dcterms:W3CDTF">2014-09-06T14:37:13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