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137-3E05-45AA-923E-D74E40D6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20A-987A-4B21-AFEA-1F9F9044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D13-C6A9-4BB4-867C-3884DA2B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30E-4232-4B3B-A93B-833B0771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AC6-CD08-41F6-8DB1-D684BB1E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901-4BB1-4CC9-BC4E-426FEF01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704-AB7C-4FEE-935C-D97E9CC8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361-E623-4B19-AEF0-87C28BCE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167-BC1A-4AB8-B6D9-CEF14312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880-0C61-4AA7-8FB8-07326E98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7D5-6999-4399-A15F-AEFA76C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C3B-9736-45DD-9418-8643C2A4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D13F-465B-4C1D-B953-AC63FB44D3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CE72-6138-4B79-BD61-87D572DF72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" descr=""/>
          <p:cNvPicPr/>
          <p:nvPr/>
        </p:nvPicPr>
        <p:blipFill>
          <a:blip r:embed="rId1"/>
          <a:stretch/>
        </p:blipFill>
        <p:spPr>
          <a:xfrm>
            <a:off x="-1440" y="0"/>
            <a:ext cx="3573360" cy="5745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Point Template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-1440" y="0"/>
            <a:ext cx="2485800" cy="57452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79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0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4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98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2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微软用户</cp:lastModifiedBy>
  <dcterms:modified xsi:type="dcterms:W3CDTF">2014-09-06T14:37:13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