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93D0-97A3-4299-9DAC-46DA6DB2F3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0D5B-7A02-45BE-8CC5-2B39F21E22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807-16A8-4FA7-8BF6-04702676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EB8-E8E5-485C-A348-79F2E082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F3D-E7D1-43EB-AF29-500DB96C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B42-1FE0-43D3-9DE6-15C36088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D8B-68B0-4D61-8443-2FEA78BA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1E3-50D2-4CA5-8992-FBC4D4BC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00D-C411-4FBB-921C-250DAB7B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B7B-800C-4395-AE8B-7D95B3D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79E-CB9F-4E4C-A411-15AA30E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2F2-1E60-4366-B444-85AB516C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192-9920-405D-B1C8-49D2795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CEB-DD9A-4993-A802-607D2D6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BC81-68F1-47E5-A1BD-46C1D1A24E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096640" y="6093000"/>
            <a:ext cx="44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4T13:49:21Z</dcterms:modified>
  <cp:revision>74</cp:revision>
  <dc:subject/>
  <dc:title>幻灯片 1</dc:title>
</cp:coreProperties>
</file>