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6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C7CAE66-BA7C-4630-8D90-02A2AB521A87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68360" y="52527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429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1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2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1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5b8cc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2a568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3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00285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4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66b2f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1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00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2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3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2454120" y="1460520"/>
            <a:ext cx="4911840" cy="652320"/>
            <a:chOff x="2454120" y="1460520"/>
            <a:chExt cx="4911840" cy="652320"/>
          </a:xfrm>
        </p:grpSpPr>
        <p:sp>
          <p:nvSpPr>
            <p:cNvPr id="222" name="AutoShape 4"/>
            <p:cNvSpPr/>
            <p:nvPr/>
          </p:nvSpPr>
          <p:spPr>
            <a:xfrm>
              <a:off x="2539800" y="1981080"/>
              <a:ext cx="4815720" cy="131760"/>
            </a:xfrm>
            <a:custGeom>
              <a:avLst/>
              <a:gdLst>
                <a:gd name="textAreaLeft" fmla="*/ 430920 w 4815720"/>
                <a:gd name="textAreaRight" fmla="*/ 4384800 w 481572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5"/>
            <p:cNvGrpSpPr/>
            <p:nvPr/>
          </p:nvGrpSpPr>
          <p:grpSpPr>
            <a:xfrm>
              <a:off x="2454120" y="1460520"/>
              <a:ext cx="4911840" cy="528480"/>
              <a:chOff x="2454120" y="1460520"/>
              <a:chExt cx="4911840" cy="528480"/>
            </a:xfrm>
          </p:grpSpPr>
          <p:sp>
            <p:nvSpPr>
              <p:cNvPr id="224" name="AutoShape 6"/>
              <p:cNvSpPr/>
              <p:nvPr/>
            </p:nvSpPr>
            <p:spPr>
              <a:xfrm>
                <a:off x="2454120" y="146052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262160" indent="-6382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7"/>
              <p:cNvSpPr/>
              <p:nvPr/>
            </p:nvSpPr>
            <p:spPr>
              <a:xfrm>
                <a:off x="2565720" y="1488960"/>
                <a:ext cx="4766040" cy="889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Group 8"/>
          <p:cNvGrpSpPr/>
          <p:nvPr/>
        </p:nvGrpSpPr>
        <p:grpSpPr>
          <a:xfrm>
            <a:off x="2468520" y="2612880"/>
            <a:ext cx="4911840" cy="662040"/>
            <a:chOff x="2468520" y="2612880"/>
            <a:chExt cx="4911840" cy="662040"/>
          </a:xfrm>
        </p:grpSpPr>
        <p:sp>
          <p:nvSpPr>
            <p:cNvPr id="227" name="AutoShape 9"/>
            <p:cNvSpPr/>
            <p:nvPr/>
          </p:nvSpPr>
          <p:spPr>
            <a:xfrm>
              <a:off x="2543760" y="3143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0"/>
            <p:cNvGrpSpPr/>
            <p:nvPr/>
          </p:nvGrpSpPr>
          <p:grpSpPr>
            <a:xfrm>
              <a:off x="2468520" y="2612880"/>
              <a:ext cx="4911840" cy="528480"/>
              <a:chOff x="2468520" y="2612880"/>
              <a:chExt cx="4911840" cy="528480"/>
            </a:xfrm>
          </p:grpSpPr>
          <p:sp>
            <p:nvSpPr>
              <p:cNvPr id="229" name="AutoShape 11"/>
              <p:cNvSpPr/>
              <p:nvPr/>
            </p:nvSpPr>
            <p:spPr>
              <a:xfrm>
                <a:off x="2468520" y="261288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utoShape 12"/>
              <p:cNvSpPr/>
              <p:nvPr/>
            </p:nvSpPr>
            <p:spPr>
              <a:xfrm>
                <a:off x="2570040" y="263844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Group 13"/>
          <p:cNvGrpSpPr/>
          <p:nvPr/>
        </p:nvGrpSpPr>
        <p:grpSpPr>
          <a:xfrm>
            <a:off x="2468520" y="3765600"/>
            <a:ext cx="4911840" cy="652320"/>
            <a:chOff x="2468520" y="3765600"/>
            <a:chExt cx="4911840" cy="652320"/>
          </a:xfrm>
        </p:grpSpPr>
        <p:sp>
          <p:nvSpPr>
            <p:cNvPr id="232" name="AutoShape 14"/>
            <p:cNvSpPr/>
            <p:nvPr/>
          </p:nvSpPr>
          <p:spPr>
            <a:xfrm>
              <a:off x="2543760" y="4286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5"/>
            <p:cNvGrpSpPr/>
            <p:nvPr/>
          </p:nvGrpSpPr>
          <p:grpSpPr>
            <a:xfrm>
              <a:off x="2468520" y="3765600"/>
              <a:ext cx="4911840" cy="528480"/>
              <a:chOff x="2468520" y="3765600"/>
              <a:chExt cx="4911840" cy="528480"/>
            </a:xfrm>
          </p:grpSpPr>
          <p:sp>
            <p:nvSpPr>
              <p:cNvPr id="234" name="AutoShape 16"/>
              <p:cNvSpPr/>
              <p:nvPr/>
            </p:nvSpPr>
            <p:spPr>
              <a:xfrm>
                <a:off x="2468520" y="376560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17"/>
              <p:cNvSpPr/>
              <p:nvPr/>
            </p:nvSpPr>
            <p:spPr>
              <a:xfrm>
                <a:off x="2570040" y="379116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18"/>
          <p:cNvGrpSpPr/>
          <p:nvPr/>
        </p:nvGrpSpPr>
        <p:grpSpPr>
          <a:xfrm>
            <a:off x="2468520" y="4917960"/>
            <a:ext cx="4911840" cy="642960"/>
            <a:chOff x="2468520" y="4917960"/>
            <a:chExt cx="4911840" cy="642960"/>
          </a:xfrm>
        </p:grpSpPr>
        <p:sp>
          <p:nvSpPr>
            <p:cNvPr id="237" name="AutoShape 19"/>
            <p:cNvSpPr/>
            <p:nvPr/>
          </p:nvSpPr>
          <p:spPr>
            <a:xfrm>
              <a:off x="2543760" y="5429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20"/>
            <p:cNvGrpSpPr/>
            <p:nvPr/>
          </p:nvGrpSpPr>
          <p:grpSpPr>
            <a:xfrm>
              <a:off x="2468520" y="4917960"/>
              <a:ext cx="4911840" cy="528480"/>
              <a:chOff x="2468520" y="4917960"/>
              <a:chExt cx="4911840" cy="528480"/>
            </a:xfrm>
          </p:grpSpPr>
          <p:sp>
            <p:nvSpPr>
              <p:cNvPr id="239" name="AutoShape 21"/>
              <p:cNvSpPr/>
              <p:nvPr/>
            </p:nvSpPr>
            <p:spPr>
              <a:xfrm>
                <a:off x="2468520" y="491796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22"/>
              <p:cNvSpPr/>
              <p:nvPr/>
            </p:nvSpPr>
            <p:spPr>
              <a:xfrm>
                <a:off x="2570040" y="494352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1" name="Picture 23" descr="显示器1"/>
          <p:cNvPicPr/>
          <p:nvPr/>
        </p:nvPicPr>
        <p:blipFill>
          <a:blip r:embed="rId1"/>
          <a:stretch/>
        </p:blipFill>
        <p:spPr>
          <a:xfrm>
            <a:off x="1763640" y="119700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242" name="WordArt 24"/>
          <p:cNvSpPr txBox="1"/>
          <p:nvPr/>
        </p:nvSpPr>
        <p:spPr>
          <a:xfrm>
            <a:off x="2036880" y="153360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1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3" name="Picture 25" descr="显示器1"/>
          <p:cNvPicPr/>
          <p:nvPr/>
        </p:nvPicPr>
        <p:blipFill>
          <a:blip r:embed="rId2"/>
          <a:stretch/>
        </p:blipFill>
        <p:spPr>
          <a:xfrm>
            <a:off x="1778040" y="234936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44" name="WordArt 26"/>
          <p:cNvSpPr txBox="1"/>
          <p:nvPr/>
        </p:nvSpPr>
        <p:spPr>
          <a:xfrm>
            <a:off x="2036880" y="265284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2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Picture 27" descr="显示器1"/>
          <p:cNvPicPr/>
          <p:nvPr/>
        </p:nvPicPr>
        <p:blipFill>
          <a:blip r:embed="rId3"/>
          <a:stretch/>
        </p:blipFill>
        <p:spPr>
          <a:xfrm>
            <a:off x="1778040" y="350208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246" name="WordArt 28"/>
          <p:cNvSpPr txBox="1"/>
          <p:nvPr/>
        </p:nvSpPr>
        <p:spPr>
          <a:xfrm>
            <a:off x="2036880" y="3844800"/>
            <a:ext cx="504720" cy="2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3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7" name="Picture 29" descr="显示器1"/>
          <p:cNvPicPr/>
          <p:nvPr/>
        </p:nvPicPr>
        <p:blipFill>
          <a:blip r:embed="rId4"/>
          <a:stretch/>
        </p:blipFill>
        <p:spPr>
          <a:xfrm>
            <a:off x="1778040" y="465444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48" name="WordArt 30"/>
          <p:cNvSpPr txBox="1"/>
          <p:nvPr/>
        </p:nvSpPr>
        <p:spPr>
          <a:xfrm>
            <a:off x="2036880" y="499752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4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971640" y="1484280"/>
            <a:ext cx="7632720" cy="4524480"/>
            <a:chOff x="971640" y="1484280"/>
            <a:chExt cx="7632720" cy="4524480"/>
          </a:xfrm>
        </p:grpSpPr>
        <p:sp>
          <p:nvSpPr>
            <p:cNvPr id="251" name="AutoShape 4"/>
            <p:cNvSpPr/>
            <p:nvPr/>
          </p:nvSpPr>
          <p:spPr>
            <a:xfrm>
              <a:off x="98100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5"/>
            <p:cNvSpPr/>
            <p:nvPr/>
          </p:nvSpPr>
          <p:spPr>
            <a:xfrm>
              <a:off x="971640" y="5805360"/>
              <a:ext cx="3529080" cy="203400"/>
            </a:xfrm>
            <a:custGeom>
              <a:avLst/>
              <a:gdLst>
                <a:gd name="textAreaLeft" fmla="*/ 480960 w 3529080"/>
                <a:gd name="textAreaRight" fmla="*/ 3048120 w 352908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6"/>
            <p:cNvSpPr/>
            <p:nvPr/>
          </p:nvSpPr>
          <p:spPr>
            <a:xfrm>
              <a:off x="5075280" y="5805360"/>
              <a:ext cx="3529080" cy="203400"/>
            </a:xfrm>
            <a:custGeom>
              <a:avLst/>
              <a:gdLst>
                <a:gd name="textAreaLeft" fmla="*/ 480960 w 3529080"/>
                <a:gd name="textAreaRight" fmla="*/ 3048120 w 352908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7"/>
          <p:cNvGrpSpPr/>
          <p:nvPr/>
        </p:nvGrpSpPr>
        <p:grpSpPr>
          <a:xfrm>
            <a:off x="5032440" y="1484280"/>
            <a:ext cx="3579840" cy="4321080"/>
            <a:chOff x="5032440" y="1484280"/>
            <a:chExt cx="3579840" cy="4321080"/>
          </a:xfrm>
        </p:grpSpPr>
        <p:sp>
          <p:nvSpPr>
            <p:cNvPr id="255" name="AutoShape 8"/>
            <p:cNvSpPr/>
            <p:nvPr/>
          </p:nvSpPr>
          <p:spPr>
            <a:xfrm>
              <a:off x="503244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9"/>
            <p:cNvSpPr/>
            <p:nvPr/>
          </p:nvSpPr>
          <p:spPr>
            <a:xfrm>
              <a:off x="5167440" y="2205000"/>
              <a:ext cx="3321000" cy="343836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360"/>
                <a:gd name="textAreaBottom" fmla="*/ 3425760 h 3438360"/>
              </a:gdLst>
              <a:ahLst/>
              <a:rect l="textAreaLeft" t="textAreaTop" r="textAreaRight" b="textAreaBottom"/>
              <a:pathLst>
                <a:path w="21600" h="22363">
                  <a:moveTo>
                    <a:pt x="286" y="0"/>
                  </a:moveTo>
                  <a:arcTo wR="286" hR="286" stAng="16200000" swAng="-5400000"/>
                  <a:lnTo>
                    <a:pt x="0" y="22077"/>
                  </a:lnTo>
                  <a:arcTo wR="286" hR="286" stAng="10800000" swAng="-5400000"/>
                  <a:lnTo>
                    <a:pt x="21314" y="22363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0"/>
            <p:cNvGrpSpPr/>
            <p:nvPr/>
          </p:nvGrpSpPr>
          <p:grpSpPr>
            <a:xfrm>
              <a:off x="5148360" y="1557360"/>
              <a:ext cx="3343320" cy="592200"/>
              <a:chOff x="5148360" y="1557360"/>
              <a:chExt cx="3343320" cy="592200"/>
            </a:xfrm>
          </p:grpSpPr>
          <p:sp>
            <p:nvSpPr>
              <p:cNvPr id="258" name="AutoShape 11"/>
              <p:cNvSpPr/>
              <p:nvPr/>
            </p:nvSpPr>
            <p:spPr>
              <a:xfrm>
                <a:off x="514836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12"/>
              <p:cNvSpPr/>
              <p:nvPr/>
            </p:nvSpPr>
            <p:spPr>
              <a:xfrm>
                <a:off x="51879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13"/>
              <p:cNvSpPr/>
              <p:nvPr/>
            </p:nvSpPr>
            <p:spPr>
              <a:xfrm>
                <a:off x="5186520" y="2079720"/>
                <a:ext cx="3273480" cy="69840"/>
              </a:xfrm>
              <a:custGeom>
                <a:avLst/>
                <a:gdLst>
                  <a:gd name="textAreaLeft" fmla="*/ 446040 w 3273480"/>
                  <a:gd name="textAreaRight" fmla="*/ 2827440 w 3273480"/>
                  <a:gd name="textAreaTop" fmla="*/ 9360 h 69840"/>
                  <a:gd name="textAreaBottom" fmla="*/ 6048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283" y="21600"/>
                    </a:lnTo>
                    <a:lnTo>
                      <a:pt x="1931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14"/>
          <p:cNvGrpSpPr/>
          <p:nvPr/>
        </p:nvGrpSpPr>
        <p:grpSpPr>
          <a:xfrm>
            <a:off x="1096920" y="1557360"/>
            <a:ext cx="3343320" cy="4086360"/>
            <a:chOff x="1096920" y="1557360"/>
            <a:chExt cx="3343320" cy="4086360"/>
          </a:xfrm>
        </p:grpSpPr>
        <p:sp>
          <p:nvSpPr>
            <p:cNvPr id="262" name="AutoShape 15"/>
            <p:cNvSpPr/>
            <p:nvPr/>
          </p:nvSpPr>
          <p:spPr>
            <a:xfrm>
              <a:off x="1116000" y="2205000"/>
              <a:ext cx="3321000" cy="343872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720"/>
                <a:gd name="textAreaBottom" fmla="*/ 3426120 h 3438720"/>
              </a:gdLst>
              <a:ahLst/>
              <a:rect l="textAreaLeft" t="textAreaTop" r="textAreaRight" b="textAreaBottom"/>
              <a:pathLst>
                <a:path w="21600" h="22366">
                  <a:moveTo>
                    <a:pt x="286" y="0"/>
                  </a:moveTo>
                  <a:arcTo wR="286" hR="286" stAng="16200000" swAng="-5400000"/>
                  <a:lnTo>
                    <a:pt x="0" y="22080"/>
                  </a:lnTo>
                  <a:arcTo wR="286" hR="286" stAng="10800000" swAng="-5400000"/>
                  <a:lnTo>
                    <a:pt x="21314" y="22366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16"/>
            <p:cNvGrpSpPr/>
            <p:nvPr/>
          </p:nvGrpSpPr>
          <p:grpSpPr>
            <a:xfrm>
              <a:off x="1096920" y="1557360"/>
              <a:ext cx="3343320" cy="592200"/>
              <a:chOff x="1096920" y="1557360"/>
              <a:chExt cx="3343320" cy="592200"/>
            </a:xfrm>
          </p:grpSpPr>
          <p:sp>
            <p:nvSpPr>
              <p:cNvPr id="264" name="AutoShape 17"/>
              <p:cNvSpPr/>
              <p:nvPr/>
            </p:nvSpPr>
            <p:spPr>
              <a:xfrm>
                <a:off x="109692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18"/>
              <p:cNvSpPr/>
              <p:nvPr/>
            </p:nvSpPr>
            <p:spPr>
              <a:xfrm>
                <a:off x="11397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19"/>
              <p:cNvSpPr/>
              <p:nvPr/>
            </p:nvSpPr>
            <p:spPr>
              <a:xfrm>
                <a:off x="1139760" y="2079720"/>
                <a:ext cx="3273480" cy="69840"/>
              </a:xfrm>
              <a:custGeom>
                <a:avLst/>
                <a:gdLst>
                  <a:gd name="textAreaLeft" fmla="*/ 446040 w 3273480"/>
                  <a:gd name="textAreaRight" fmla="*/ 2827440 w 3273480"/>
                  <a:gd name="textAreaTop" fmla="*/ 9360 h 69840"/>
                  <a:gd name="textAreaBottom" fmla="*/ 6048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283" y="21600"/>
                    </a:lnTo>
                    <a:lnTo>
                      <a:pt x="1931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7" name="Picture 20" descr="显示器1"/>
          <p:cNvPicPr/>
          <p:nvPr/>
        </p:nvPicPr>
        <p:blipFill>
          <a:blip r:embed="rId1"/>
          <a:stretch/>
        </p:blipFill>
        <p:spPr>
          <a:xfrm>
            <a:off x="684360" y="451008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68" name="WordArt 21"/>
          <p:cNvSpPr txBox="1"/>
          <p:nvPr/>
        </p:nvSpPr>
        <p:spPr>
          <a:xfrm>
            <a:off x="1042920" y="5013360"/>
            <a:ext cx="11509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116000" y="5446800"/>
            <a:ext cx="6840720" cy="203040"/>
          </a:xfrm>
          <a:custGeom>
            <a:avLst/>
            <a:gdLst>
              <a:gd name="textAreaLeft" fmla="*/ 931680 w 6840720"/>
              <a:gd name="textAreaRight" fmla="*/ 5909040 w 6840720"/>
              <a:gd name="textAreaTop" fmla="*/ 27360 h 203040"/>
              <a:gd name="textAreaBottom" fmla="*/ 17568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83" y="21600"/>
                </a:lnTo>
                <a:lnTo>
                  <a:pt x="1931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1116000" y="1125360"/>
            <a:ext cx="6873840" cy="432144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>
                  <a:alpha val="10196"/>
                </a:srgbClr>
              </a:gs>
            </a:gsLst>
            <a:lin ang="81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1251000" y="1846440"/>
            <a:ext cx="6642000" cy="3438360"/>
          </a:xfrm>
          <a:prstGeom prst="roundRect">
            <a:avLst>
              <a:gd name="adj" fmla="val 1324"/>
            </a:avLst>
          </a:prstGeom>
          <a:blipFill rotWithShape="0">
            <a:blip r:embed="rId1"/>
            <a:srcRect/>
            <a:stretch/>
          </a:blipFill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显示器1"/>
          <p:cNvPicPr/>
          <p:nvPr/>
        </p:nvPicPr>
        <p:blipFill>
          <a:blip r:embed="rId2"/>
          <a:stretch/>
        </p:blipFill>
        <p:spPr>
          <a:xfrm>
            <a:off x="468360" y="41511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74" name="WordArt 7"/>
          <p:cNvSpPr txBox="1"/>
          <p:nvPr/>
        </p:nvSpPr>
        <p:spPr>
          <a:xfrm>
            <a:off x="826920" y="4654440"/>
            <a:ext cx="115128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75" name="WordArt 8"/>
          <p:cNvSpPr txBox="1"/>
          <p:nvPr/>
        </p:nvSpPr>
        <p:spPr>
          <a:xfrm>
            <a:off x="1984320" y="2935440"/>
            <a:ext cx="258768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替换图片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1231920" y="1198440"/>
            <a:ext cx="6653160" cy="592200"/>
            <a:chOff x="1231920" y="1198440"/>
            <a:chExt cx="6653160" cy="592200"/>
          </a:xfrm>
        </p:grpSpPr>
        <p:sp>
          <p:nvSpPr>
            <p:cNvPr id="277" name="AutoShape 10"/>
            <p:cNvSpPr/>
            <p:nvPr/>
          </p:nvSpPr>
          <p:spPr>
            <a:xfrm>
              <a:off x="1231920" y="1198440"/>
              <a:ext cx="6653160" cy="52848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标题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1"/>
            <p:cNvSpPr/>
            <p:nvPr/>
          </p:nvSpPr>
          <p:spPr>
            <a:xfrm>
              <a:off x="1258920" y="1211040"/>
              <a:ext cx="6595920" cy="123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2"/>
            <p:cNvSpPr/>
            <p:nvPr/>
          </p:nvSpPr>
          <p:spPr>
            <a:xfrm>
              <a:off x="1252440" y="1712880"/>
              <a:ext cx="6593040" cy="77760"/>
            </a:xfrm>
            <a:custGeom>
              <a:avLst/>
              <a:gdLst>
                <a:gd name="textAreaLeft" fmla="*/ 765000 w 6593040"/>
                <a:gd name="textAreaRight" fmla="*/ 5828040 w 6593040"/>
                <a:gd name="textAreaTop" fmla="*/ 9360 h 77760"/>
                <a:gd name="textAreaBottom" fmla="*/ 68400 h 7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16" y="21600"/>
                  </a:lnTo>
                  <a:lnTo>
                    <a:pt x="2018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468360" y="5891040"/>
            <a:ext cx="8240760" cy="203400"/>
          </a:xfrm>
          <a:custGeom>
            <a:avLst/>
            <a:gdLst>
              <a:gd name="textAreaLeft" fmla="*/ 1122120 w 8240760"/>
              <a:gd name="textAreaRight" fmla="*/ 7118640 w 8240760"/>
              <a:gd name="textAreaTop" fmla="*/ 27720 h 203400"/>
              <a:gd name="textAreaBottom" fmla="*/ 175680 h 2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83" y="21600"/>
                </a:lnTo>
                <a:lnTo>
                  <a:pt x="1931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68360" y="1265400"/>
            <a:ext cx="8207280" cy="462564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 flipV="1">
            <a:off x="74628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 flipV="1">
            <a:off x="6773760" y="2028960"/>
            <a:ext cx="50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7"/>
          <p:cNvSpPr/>
          <p:nvPr/>
        </p:nvSpPr>
        <p:spPr>
          <a:xfrm flipV="1">
            <a:off x="60642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 flipV="1">
            <a:off x="5330880" y="2028960"/>
            <a:ext cx="612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4602240" y="2028960"/>
            <a:ext cx="14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 flipV="1">
            <a:off x="386388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 flipV="1">
            <a:off x="315432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 flipV="1">
            <a:off x="2424240" y="2028960"/>
            <a:ext cx="28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 flipV="1">
            <a:off x="1692360" y="2030400"/>
            <a:ext cx="32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3800520" y="2852640"/>
            <a:ext cx="1635120" cy="576000"/>
            <a:chOff x="3800520" y="2852640"/>
            <a:chExt cx="1635120" cy="576000"/>
          </a:xfrm>
        </p:grpSpPr>
        <p:sp>
          <p:nvSpPr>
            <p:cNvPr id="293" name="AutoShape 15"/>
            <p:cNvSpPr/>
            <p:nvPr/>
          </p:nvSpPr>
          <p:spPr>
            <a:xfrm>
              <a:off x="3800520" y="2852640"/>
              <a:ext cx="1635120" cy="57600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6"/>
            <p:cNvSpPr/>
            <p:nvPr/>
          </p:nvSpPr>
          <p:spPr>
            <a:xfrm>
              <a:off x="3807000" y="2866320"/>
              <a:ext cx="1621080" cy="135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7"/>
          <p:cNvGrpSpPr/>
          <p:nvPr/>
        </p:nvGrpSpPr>
        <p:grpSpPr>
          <a:xfrm>
            <a:off x="1042920" y="5425920"/>
            <a:ext cx="7057800" cy="287640"/>
            <a:chOff x="1042920" y="5425920"/>
            <a:chExt cx="7057800" cy="287640"/>
          </a:xfrm>
        </p:grpSpPr>
        <p:sp>
          <p:nvSpPr>
            <p:cNvPr id="296" name="AutoShape 18"/>
            <p:cNvSpPr/>
            <p:nvPr/>
          </p:nvSpPr>
          <p:spPr>
            <a:xfrm>
              <a:off x="1042920" y="5425920"/>
              <a:ext cx="7057800" cy="28764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19"/>
            <p:cNvSpPr/>
            <p:nvPr/>
          </p:nvSpPr>
          <p:spPr>
            <a:xfrm>
              <a:off x="1071360" y="5432760"/>
              <a:ext cx="6997320" cy="6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20"/>
          <p:cNvSpPr/>
          <p:nvPr/>
        </p:nvSpPr>
        <p:spPr>
          <a:xfrm>
            <a:off x="154656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226728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298656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370728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442620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51469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586620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65869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72997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29"/>
          <p:cNvGrpSpPr/>
          <p:nvPr/>
        </p:nvGrpSpPr>
        <p:grpSpPr>
          <a:xfrm>
            <a:off x="1042920" y="2259000"/>
            <a:ext cx="7056360" cy="3092040"/>
            <a:chOff x="1042920" y="2259000"/>
            <a:chExt cx="7056360" cy="3092040"/>
          </a:xfrm>
        </p:grpSpPr>
        <p:sp>
          <p:nvSpPr>
            <p:cNvPr id="308" name="Freeform 30"/>
            <p:cNvSpPr/>
            <p:nvPr/>
          </p:nvSpPr>
          <p:spPr>
            <a:xfrm>
              <a:off x="1042920" y="2259000"/>
              <a:ext cx="7056360" cy="2392920"/>
            </a:xfrm>
            <a:custGeom>
              <a:avLst/>
              <a:gdLst/>
              <a:ahLst/>
              <a:rect l="l" t="t" r="r" b="b"/>
              <a:pathLst>
                <a:path w="5221" h="1711">
                  <a:moveTo>
                    <a:pt x="1770" y="1489"/>
                  </a:moveTo>
                  <a:lnTo>
                    <a:pt x="2594" y="1172"/>
                  </a:lnTo>
                  <a:lnTo>
                    <a:pt x="3489" y="1489"/>
                  </a:lnTo>
                  <a:lnTo>
                    <a:pt x="4441" y="959"/>
                  </a:lnTo>
                  <a:lnTo>
                    <a:pt x="5221" y="695"/>
                  </a:lnTo>
                  <a:lnTo>
                    <a:pt x="5221" y="0"/>
                  </a:lnTo>
                  <a:lnTo>
                    <a:pt x="3489" y="1323"/>
                  </a:lnTo>
                  <a:lnTo>
                    <a:pt x="2620" y="907"/>
                  </a:lnTo>
                  <a:lnTo>
                    <a:pt x="1751" y="1304"/>
                  </a:lnTo>
                  <a:lnTo>
                    <a:pt x="881" y="1217"/>
                  </a:lnTo>
                  <a:lnTo>
                    <a:pt x="0" y="1538"/>
                  </a:lnTo>
                  <a:lnTo>
                    <a:pt x="0" y="1711"/>
                  </a:lnTo>
                  <a:lnTo>
                    <a:pt x="851" y="1399"/>
                  </a:lnTo>
                  <a:lnTo>
                    <a:pt x="1770" y="1489"/>
                  </a:lnTo>
                  <a:close/>
                </a:path>
              </a:pathLst>
            </a:custGeom>
            <a:gradFill rotWithShape="0">
              <a:gsLst>
                <a:gs pos="0">
                  <a:srgbClr val="002850"/>
                </a:gs>
                <a:gs pos="100000">
                  <a:srgbClr val="001325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1"/>
            <p:cNvSpPr/>
            <p:nvPr/>
          </p:nvSpPr>
          <p:spPr>
            <a:xfrm>
              <a:off x="1042920" y="4119120"/>
              <a:ext cx="7056360" cy="1231920"/>
            </a:xfrm>
            <a:custGeom>
              <a:avLst/>
              <a:gdLst/>
              <a:ahLst/>
              <a:rect l="l" t="t" r="r" b="b"/>
              <a:pathLst>
                <a:path w="5221" h="881">
                  <a:moveTo>
                    <a:pt x="4484" y="163"/>
                  </a:moveTo>
                  <a:lnTo>
                    <a:pt x="3470" y="461"/>
                  </a:lnTo>
                  <a:lnTo>
                    <a:pt x="2639" y="291"/>
                  </a:lnTo>
                  <a:lnTo>
                    <a:pt x="1833" y="454"/>
                  </a:lnTo>
                  <a:lnTo>
                    <a:pt x="837" y="428"/>
                  </a:lnTo>
                  <a:lnTo>
                    <a:pt x="0" y="579"/>
                  </a:lnTo>
                  <a:lnTo>
                    <a:pt x="0" y="881"/>
                  </a:lnTo>
                  <a:lnTo>
                    <a:pt x="5221" y="881"/>
                  </a:lnTo>
                  <a:lnTo>
                    <a:pt x="5221" y="0"/>
                  </a:lnTo>
                  <a:lnTo>
                    <a:pt x="448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4159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2"/>
            <p:cNvSpPr/>
            <p:nvPr/>
          </p:nvSpPr>
          <p:spPr>
            <a:xfrm>
              <a:off x="1042920" y="3231000"/>
              <a:ext cx="7056360" cy="1697760"/>
            </a:xfrm>
            <a:custGeom>
              <a:avLst/>
              <a:gdLst/>
              <a:ahLst/>
              <a:rect l="l" t="t" r="r" b="b"/>
              <a:pathLst>
                <a:path w="5221" h="1214">
                  <a:moveTo>
                    <a:pt x="1833" y="1089"/>
                  </a:moveTo>
                  <a:lnTo>
                    <a:pt x="2639" y="926"/>
                  </a:lnTo>
                  <a:lnTo>
                    <a:pt x="3470" y="1096"/>
                  </a:lnTo>
                  <a:lnTo>
                    <a:pt x="4484" y="798"/>
                  </a:lnTo>
                  <a:lnTo>
                    <a:pt x="5221" y="635"/>
                  </a:lnTo>
                  <a:lnTo>
                    <a:pt x="5221" y="0"/>
                  </a:lnTo>
                  <a:lnTo>
                    <a:pt x="4441" y="264"/>
                  </a:lnTo>
                  <a:lnTo>
                    <a:pt x="3489" y="794"/>
                  </a:lnTo>
                  <a:lnTo>
                    <a:pt x="2594" y="477"/>
                  </a:lnTo>
                  <a:lnTo>
                    <a:pt x="1770" y="794"/>
                  </a:lnTo>
                  <a:lnTo>
                    <a:pt x="851" y="704"/>
                  </a:lnTo>
                  <a:lnTo>
                    <a:pt x="0" y="1016"/>
                  </a:lnTo>
                  <a:lnTo>
                    <a:pt x="0" y="1214"/>
                  </a:lnTo>
                  <a:lnTo>
                    <a:pt x="837" y="1063"/>
                  </a:lnTo>
                  <a:lnTo>
                    <a:pt x="1833" y="1089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13283c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33"/>
          <p:cNvSpPr/>
          <p:nvPr/>
        </p:nvSpPr>
        <p:spPr>
          <a:xfrm>
            <a:off x="601920" y="48610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601920" y="438156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5"/>
          <p:cNvSpPr/>
          <p:nvPr/>
        </p:nvSpPr>
        <p:spPr>
          <a:xfrm>
            <a:off x="601920" y="39038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601920" y="342576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7"/>
          <p:cNvSpPr/>
          <p:nvPr/>
        </p:nvSpPr>
        <p:spPr>
          <a:xfrm>
            <a:off x="601920" y="29462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601920" y="24685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9"/>
          <p:cNvSpPr/>
          <p:nvPr/>
        </p:nvSpPr>
        <p:spPr>
          <a:xfrm>
            <a:off x="601920" y="199080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0"/>
          <p:cNvSpPr/>
          <p:nvPr/>
        </p:nvSpPr>
        <p:spPr>
          <a:xfrm flipH="1" rot="10800000">
            <a:off x="723600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0028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1"/>
          <p:cNvSpPr/>
          <p:nvPr/>
        </p:nvSpPr>
        <p:spPr>
          <a:xfrm>
            <a:off x="757332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2"/>
          <p:cNvSpPr/>
          <p:nvPr/>
        </p:nvSpPr>
        <p:spPr>
          <a:xfrm flipH="1" rot="10800000">
            <a:off x="622764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3"/>
          <p:cNvSpPr/>
          <p:nvPr/>
        </p:nvSpPr>
        <p:spPr>
          <a:xfrm>
            <a:off x="6564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4"/>
          <p:cNvSpPr/>
          <p:nvPr/>
        </p:nvSpPr>
        <p:spPr>
          <a:xfrm flipH="1" rot="10800000">
            <a:off x="5219640" y="1557360"/>
            <a:ext cx="155520" cy="146160"/>
          </a:xfrm>
          <a:prstGeom prst="roundRect">
            <a:avLst>
              <a:gd name="adj" fmla="val 0"/>
            </a:avLst>
          </a:prstGeom>
          <a:solidFill>
            <a:srgbClr val="5b8cc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5"/>
          <p:cNvSpPr/>
          <p:nvPr/>
        </p:nvSpPr>
        <p:spPr>
          <a:xfrm>
            <a:off x="5556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46"/>
          <p:cNvSpPr/>
          <p:nvPr/>
        </p:nvSpPr>
        <p:spPr>
          <a:xfrm>
            <a:off x="1042920" y="1535040"/>
            <a:ext cx="7416720" cy="381816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1763640" y="2060640"/>
            <a:ext cx="6767640" cy="2952360"/>
            <a:chOff x="1763640" y="2060640"/>
            <a:chExt cx="6767640" cy="2952360"/>
          </a:xfrm>
        </p:grpSpPr>
        <p:sp>
          <p:nvSpPr>
            <p:cNvPr id="327" name="AutoShape 4"/>
            <p:cNvSpPr/>
            <p:nvPr/>
          </p:nvSpPr>
          <p:spPr>
            <a:xfrm>
              <a:off x="1763640" y="4889160"/>
              <a:ext cx="6767640" cy="123840"/>
            </a:xfrm>
            <a:custGeom>
              <a:avLst/>
              <a:gdLst>
                <a:gd name="textAreaLeft" fmla="*/ 921600 w 6767640"/>
                <a:gd name="textAreaRight" fmla="*/ 5846040 w 6767640"/>
                <a:gd name="textAreaTop" fmla="*/ 16200 h 123840"/>
                <a:gd name="textAreaBottom" fmla="*/ 10764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763640" y="2060640"/>
              <a:ext cx="6739920" cy="2828520"/>
            </a:xfrm>
            <a:prstGeom prst="roundRect">
              <a:avLst>
                <a:gd name="adj" fmla="val 1324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Oval 6"/>
          <p:cNvSpPr/>
          <p:nvPr/>
        </p:nvSpPr>
        <p:spPr>
          <a:xfrm>
            <a:off x="324000" y="4940280"/>
            <a:ext cx="3457440" cy="576360"/>
          </a:xfrm>
          <a:prstGeom prst="ellipse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7"/>
          <p:cNvSpPr/>
          <p:nvPr/>
        </p:nvSpPr>
        <p:spPr>
          <a:xfrm rot="900000">
            <a:off x="2133720" y="3338640"/>
            <a:ext cx="1006200" cy="199836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8"/>
          <p:cNvSpPr/>
          <p:nvPr/>
        </p:nvSpPr>
        <p:spPr>
          <a:xfrm rot="900000">
            <a:off x="1028520" y="1744560"/>
            <a:ext cx="763560" cy="23508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9"/>
          <p:cNvSpPr/>
          <p:nvPr/>
        </p:nvSpPr>
        <p:spPr>
          <a:xfrm rot="900000">
            <a:off x="1695600" y="2190240"/>
            <a:ext cx="939600" cy="29556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0"/>
          <p:cNvSpPr/>
          <p:nvPr/>
        </p:nvSpPr>
        <p:spPr>
          <a:xfrm rot="900000">
            <a:off x="2730240" y="2154240"/>
            <a:ext cx="174600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1"/>
          <p:cNvSpPr/>
          <p:nvPr/>
        </p:nvSpPr>
        <p:spPr>
          <a:xfrm rot="900000">
            <a:off x="1034640" y="170028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2"/>
          <p:cNvSpPr/>
          <p:nvPr/>
        </p:nvSpPr>
        <p:spPr>
          <a:xfrm rot="900000">
            <a:off x="2068560" y="1817640"/>
            <a:ext cx="156672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3"/>
          <p:cNvSpPr/>
          <p:nvPr/>
        </p:nvSpPr>
        <p:spPr>
          <a:xfrm rot="900000">
            <a:off x="1711080" y="2063880"/>
            <a:ext cx="1946160" cy="55692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gradFill rotWithShape="0">
            <a:gsLst>
              <a:gs pos="0">
                <a:srgbClr val="5b8cc1"/>
              </a:gs>
              <a:gs pos="100000">
                <a:srgbClr val="66b2fe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4"/>
          <p:cNvSpPr/>
          <p:nvPr/>
        </p:nvSpPr>
        <p:spPr>
          <a:xfrm rot="900000">
            <a:off x="1028520" y="174312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5"/>
          <p:cNvSpPr/>
          <p:nvPr/>
        </p:nvSpPr>
        <p:spPr>
          <a:xfrm rot="900000">
            <a:off x="871200" y="1760400"/>
            <a:ext cx="104760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6"/>
          <p:cNvSpPr/>
          <p:nvPr/>
        </p:nvSpPr>
        <p:spPr>
          <a:xfrm rot="900000">
            <a:off x="1491840" y="2166840"/>
            <a:ext cx="939960" cy="184968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a5682"/>
              </a:gs>
              <a:gs pos="100000">
                <a:srgbClr val="002850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7"/>
          <p:cNvSpPr/>
          <p:nvPr/>
        </p:nvSpPr>
        <p:spPr>
          <a:xfrm rot="900000">
            <a:off x="2427120" y="2459160"/>
            <a:ext cx="1351080" cy="161280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8"/>
          <p:cNvSpPr/>
          <p:nvPr/>
        </p:nvSpPr>
        <p:spPr>
          <a:xfrm rot="900000">
            <a:off x="2865600" y="343656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9"/>
          <p:cNvSpPr/>
          <p:nvPr/>
        </p:nvSpPr>
        <p:spPr>
          <a:xfrm rot="900000">
            <a:off x="3470400" y="241740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20"/>
          <p:cNvSpPr/>
          <p:nvPr/>
        </p:nvSpPr>
        <p:spPr>
          <a:xfrm rot="900000">
            <a:off x="612360" y="253008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1"/>
          <p:cNvSpPr/>
          <p:nvPr/>
        </p:nvSpPr>
        <p:spPr>
          <a:xfrm rot="900000">
            <a:off x="858960" y="326232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2"/>
          <p:cNvSpPr/>
          <p:nvPr/>
        </p:nvSpPr>
        <p:spPr>
          <a:xfrm>
            <a:off x="4548240" y="275760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3"/>
          <p:cNvSpPr/>
          <p:nvPr/>
        </p:nvSpPr>
        <p:spPr>
          <a:xfrm flipV="1">
            <a:off x="2963880" y="2759040"/>
            <a:ext cx="1584360" cy="4320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4548240" y="23274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4621320" y="283068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>
            <a:off x="4548240" y="405612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7"/>
          <p:cNvSpPr/>
          <p:nvPr/>
        </p:nvSpPr>
        <p:spPr>
          <a:xfrm flipV="1">
            <a:off x="3710160" y="4068360"/>
            <a:ext cx="850680" cy="27468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8"/>
          <p:cNvSpPr/>
          <p:nvPr/>
        </p:nvSpPr>
        <p:spPr>
          <a:xfrm>
            <a:off x="4548240" y="36241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4621320" y="412740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468360" y="400536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pc</cp:lastModifiedBy>
  <dcterms:modified xsi:type="dcterms:W3CDTF">2015-03-25T16:19:59Z</dcterms:modified>
  <cp:revision>26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