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5A64-A77F-4CBA-B382-CDB3DD76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213-5120-4F9D-9A53-4DBD528C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69288-A713-4C78-AFED-0E1D7951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EFFE3-DDEA-4965-8831-D3B48D94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DE9CB-AB08-4EFE-8D42-F8F5DB60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FAF12-6312-4E77-83C8-D41E945B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4859A-8FAE-4007-904B-82AA5F6A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1F965-2B4A-425E-85EF-E88D5003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43D8B-148E-42BB-A02C-6EA694DD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C464C-FA01-4C89-BD2D-FFADBB42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DB207-70CF-4E6E-89F6-0B436DCE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03525-2540-40D8-ACA3-0CB2E90E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F84-5BD8-417E-A721-5CDD7461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FB02C-1E30-4E9F-862C-462A1B4E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995B8-F6E0-49BC-88ED-8C0DDA71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97B35-9A48-45F9-B605-FDE3F25E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439E2-9D76-4B0F-AE7D-14538330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E9BD1-B4E3-4B27-81F2-6F021E29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C8FA6-BCE6-4DEB-814C-DD4A3A03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330B1-91CE-458A-952C-EAFD5808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F2C66-C24C-479F-B8CA-90A348C3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7FA16-1119-4B26-AE44-055958F1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1930A-DC8A-406E-A916-F91178C5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7E7B-F52D-4FFD-B97E-7B2CF316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E62AF-8385-46FC-B6F9-0761DEC7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C71C9-3D10-4563-8BB4-E9E6D5C1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5BF85-8BCE-431E-82C2-42FCDDDB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754DE-99E8-42F8-BEDE-224ACE51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0C660-3681-49D5-BA5D-23C26067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C566A-BD1E-4A53-B596-BC7B9CA0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8A600-CF56-4162-8E04-2DE5C7CD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EBD68-0C1A-4619-8245-7B65DB47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6247C-3845-4025-BA9C-4669F7D9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7D586-1AE5-4711-977A-0931E6B5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900D-6DFD-4DFC-B015-4DCEBFC4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6A010-2551-451C-8F02-58F94639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0DAAF-168E-44C8-A57C-801C2B8B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B6D84-D8AA-4812-979A-9CD11D67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8D701-6EA0-44FD-A2D3-FBCC7C33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C5FB7-E0C8-444C-A2DD-6B641F5B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BA846-46E3-44AC-85B5-71694734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CEDA6-A802-40E9-AF62-C3EA58C9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E6E41-0647-4C12-B7C4-4E9D6C20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2805A-5D81-4BBB-A683-007DE888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69EFF-ECD1-4880-B871-D3B0FD33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9367-4FA4-449B-ADD1-7DEFA70B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C13DA-1EF5-468E-9BA4-48494F8D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BC08A-58B8-4C44-9754-5C485869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2E0D7-290D-454D-ACFE-8A3E2978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6FEDE-A5AD-46B9-B69E-DF41D5A0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622C3-564C-4356-BDD0-CF0C2556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33823-0DE5-4517-A516-E3828DCE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5D5EA-F480-43E1-B765-087C53B8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24413-B58C-42FB-B018-839FE507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DE04F-FD89-4E0B-828C-8A69FAFE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CC483-7081-4DDC-9F97-0CF4EDCE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1675-3B72-494C-B8BC-CC7324B5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C5E03-FEC7-4E77-9B82-331978E2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B8075-583E-4D20-B348-4C2A7BD0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32D97-15B6-4107-9439-82C46EA2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F095C2-647F-43A9-A4EC-4731093D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FD9B4-5D7E-49B5-AEC8-380B9210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615659-D5F1-48CA-B6C5-515D2E37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CE68E8-A34F-457B-961F-576763EE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3488-DE78-4635-8AEC-0AAF6168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0786-5530-4BD4-B420-B2B91D08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2C2F-7B51-49BD-A8D6-BF844661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8D7C-84A9-4D8B-B5B0-207AB271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C86B-EFB5-45C1-A989-5F1F2C58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3C05-7EEC-4008-BB6E-05132F76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3FF4-CB9E-42A2-98B9-7B712260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C93C-BDA6-43C5-A540-93C0F98D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49FC-E67D-434C-B459-32279AB1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A7C8-4FEB-48D4-A62A-E2E91BBD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2B85C-397D-4F77-91C4-75E1AC72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52772-30F2-4DA6-828A-0F6FCC8E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FA941-222D-4294-9EBE-37F64847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91955-A526-4DC8-AC8C-F187D4FC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3A192-12B5-4E6A-B598-F2890226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D7E9-0151-4920-BDF9-1B4C115D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05216-1633-4682-99E9-0BA1F13B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ACC06-17BE-44AB-84F6-0C3DC275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67D7A-FB73-426B-94DB-C871941D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EF271-6B63-4AC8-8F48-A853FDF2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CA88E-F903-485A-B1A3-48DEFB6F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5F074-5DBE-4008-A2D9-896BA2C1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B550D-C6F8-44CE-98A9-911F9FA0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A45F0-6E64-48F2-AD2A-EC57092F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EF976-DB8B-4311-AE25-46BF071D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EDB22-3A34-4008-A4C9-99491BD2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D7BF-D3EB-4C3F-9730-25FB02A9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0A80C-F0E8-413D-BDC1-CE415D8F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C9111-18F6-457C-B2E0-F5436C95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58F5A-5AA8-4D7C-8D42-125993A2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2A388-C6E5-45A9-9DBE-70D71D9D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4A364-A261-49BE-9953-410DBD8D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66E9E-181E-45E6-89AE-4F1F9DD5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CEA23-95C0-45E8-9050-093468F4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AAB9F-2011-48FD-87B6-141768A1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7D43E-356E-4973-ABF9-5480E11F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0836D-AE2A-4E89-A856-A2BB5864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152C-06A6-4D23-857B-75E5488F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18015-EE5B-479D-9707-3ED6E20B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C7363-9964-4DCE-B288-A4DA2F34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87828-0A92-47B3-8333-14E3F4E4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9FF79-9EEC-4C1D-A052-BCD5D617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9CE89-9E30-4DEA-94D9-91C98F77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45AF3-A2EA-497F-9BAE-59B4C4D7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53C1D-E129-4DE0-9FF6-B4578178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1508D-F74D-4AC1-9B58-0A1F816B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E4548-D784-4953-B8C5-7EBC1C2D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75FF5-3E18-4295-B71F-4C8E0347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FA8D-A6DD-4FF8-9FD3-D213ED0A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7AAC8-FB24-48E0-BA41-A1A2D759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5421B-8616-4140-A598-B6BC5BED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897BF-6BEA-45F1-80B7-3200D3D4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42E85-4827-4FDB-87A0-A002B6EF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84EAE-CD29-4707-B3E3-EA89B36A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BA8A0-5301-4F57-9A59-E7258325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2E48D-120D-46E8-AC01-DEF44B2E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2ACD3-8B5C-4943-8DC7-7B01559A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82D38-B0D6-41BD-8ADF-5097D16B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8F7C5-F631-4C35-B574-66D12B22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9E6-1954-44CE-98AC-8976EAEB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6DA31-7591-4D8B-ADF6-FB547AB4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CD5C2-0B47-4F40-858F-941A6D41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230DE-677E-4D94-BB5C-005FA4FC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703FA-E395-481A-B507-F8F2FE59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46881-5993-476C-8FB3-291E371D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EFDA7-4F3E-4E7E-B216-B479C08F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36EF9-64A2-4965-B9F8-8A525327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DCDAA-BBD0-4E05-9E72-CCB5A13C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6B618-1DC5-4EB5-88A0-BA13D0A6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0F102-0739-4A76-8704-C449A085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6A23-061E-4C75-828D-2EAA9589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D9176-3A5B-489F-8D76-B7668266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FF5D5-679E-48C2-8A15-CC4E2DF7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B3AFB-1DE3-4ECE-AD7A-2F276715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FBC33-3CFE-4D9E-BEB3-24F4C35F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9269D-1CD4-42C4-9625-FF56FB23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4A61F-F9B5-490F-97F1-0519EC5B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8B18E-B850-471B-BDDA-0315A0CF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AA3F5-7F24-43FE-A0F2-A53A3332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29377-E189-436A-92F1-7A402EA7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F3BF4-F989-46CF-B3AA-6DC4383C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6CDF-756E-4A9C-807A-C463E9CE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5916E-E1D1-4750-9B21-E9E50481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43ABE-7FEF-41DF-9D5E-40F890A8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62E91-8597-4EF2-A455-ACE835CA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0E3AE-7A57-4EC3-8279-2FB5F1DB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616BD-8735-4806-BFAD-663EA712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683CA-46F1-497B-BC56-DC78269A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C297F-2FC2-41A6-9683-9CBA13B8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5339C-59F1-4F09-8E30-F4FFF14B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1200D-A8CC-40CA-88BA-AD4B29DA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5D6FA-4B16-43D1-8BE8-6A62233D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0C79-82FD-46E7-A7B5-1B78858E7F4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4C63-2FD4-421C-B223-38D6DF032CA6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55B9-BE5F-4585-A100-F2BDDEDDA256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AFB8-2070-444E-BC5B-335B5D981C2B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B663-8388-4E98-BA49-E4A3CB6F024B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5775-DF04-4883-8358-34DCAEEB9947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9A70-E44E-4C4F-A2E0-0BA1CDFF7631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02DD-79F4-4C6D-A034-CB89319F0EF1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5279-E77A-4DBF-BBB6-2AD433B99752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3441-148F-4751-84C2-F8BA4C33399A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E4A3-BA8C-44D7-A59A-DDFA5606E887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B544-1134-428B-B848-DB7008559D80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CC08-1D75-4A7A-B7EB-F4F4EB89E2F2}" type="slidenum">
              <a:rPr b="0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4" name="组合 4098"/>
          <p:cNvGrpSpPr/>
          <p:nvPr/>
        </p:nvGrpSpPr>
        <p:grpSpPr>
          <a:xfrm>
            <a:off x="1601640" y="1473120"/>
            <a:ext cx="755640" cy="755640"/>
            <a:chOff x="1601640" y="1473120"/>
            <a:chExt cx="755640" cy="755640"/>
          </a:xfrm>
        </p:grpSpPr>
        <p:sp>
          <p:nvSpPr>
            <p:cNvPr id="535" name="Rectangle 3"/>
            <p:cNvSpPr/>
            <p:nvPr/>
          </p:nvSpPr>
          <p:spPr>
            <a:xfrm>
              <a:off x="1601640" y="1473120"/>
              <a:ext cx="755640" cy="755640"/>
            </a:xfrm>
            <a:prstGeom prst="rect">
              <a:avLst/>
            </a:prstGeom>
            <a:noFill/>
            <a:ln w="190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4"/>
            <p:cNvSpPr/>
            <p:nvPr/>
          </p:nvSpPr>
          <p:spPr>
            <a:xfrm>
              <a:off x="1601640" y="1473120"/>
              <a:ext cx="400320" cy="400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Rectangle 5"/>
          <p:cNvSpPr/>
          <p:nvPr/>
        </p:nvSpPr>
        <p:spPr>
          <a:xfrm>
            <a:off x="1979640" y="1855800"/>
            <a:ext cx="7845480" cy="1366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3014640" y="2030400"/>
            <a:ext cx="60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键入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4103"/>
          <p:cNvGrpSpPr/>
          <p:nvPr/>
        </p:nvGrpSpPr>
        <p:grpSpPr>
          <a:xfrm>
            <a:off x="9837720" y="3219480"/>
            <a:ext cx="793800" cy="577800"/>
            <a:chOff x="9837720" y="3219480"/>
            <a:chExt cx="793800" cy="577800"/>
          </a:xfrm>
        </p:grpSpPr>
        <p:sp>
          <p:nvSpPr>
            <p:cNvPr id="540" name="Rectangle 8"/>
            <p:cNvSpPr/>
            <p:nvPr/>
          </p:nvSpPr>
          <p:spPr>
            <a:xfrm>
              <a:off x="10198440" y="3580560"/>
              <a:ext cx="216360" cy="216720"/>
            </a:xfrm>
            <a:prstGeom prst="rect">
              <a:avLst/>
            </a:prstGeom>
            <a:solidFill>
              <a:srgbClr val="66cc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9"/>
            <p:cNvSpPr/>
            <p:nvPr/>
          </p:nvSpPr>
          <p:spPr>
            <a:xfrm>
              <a:off x="10415160" y="3363840"/>
              <a:ext cx="216360" cy="216720"/>
            </a:xfrm>
            <a:prstGeom prst="rect">
              <a:avLst/>
            </a:prstGeom>
            <a:solidFill>
              <a:srgbClr val="66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0"/>
            <p:cNvSpPr/>
            <p:nvPr/>
          </p:nvSpPr>
          <p:spPr>
            <a:xfrm>
              <a:off x="9837720" y="3219480"/>
              <a:ext cx="360720" cy="361080"/>
            </a:xfrm>
            <a:prstGeom prst="rect">
              <a:avLst/>
            </a:prstGeom>
            <a:solidFill>
              <a:srgbClr val="33cc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11"/>
          <p:cNvSpPr/>
          <p:nvPr/>
        </p:nvSpPr>
        <p:spPr>
          <a:xfrm>
            <a:off x="2128680" y="1944720"/>
            <a:ext cx="7548840" cy="1187280"/>
          </a:xfrm>
          <a:prstGeom prst="rect">
            <a:avLst/>
          </a:prstGeom>
          <a:noFill/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6560"/>
          </a:xfrm>
          <a:prstGeom prst="rect">
            <a:avLst/>
          </a:prstGeom>
          <a:ln w="0">
            <a:noFill/>
          </a:ln>
        </p:spPr>
      </p:pic>
      <p:pic>
        <p:nvPicPr>
          <p:cNvPr id="545" name="云层" descr=""/>
          <p:cNvPicPr/>
          <p:nvPr/>
        </p:nvPicPr>
        <p:blipFill>
          <a:blip r:embed="rId2"/>
          <a:srcRect l="13813" t="9223" r="29255" b="5969"/>
          <a:stretch/>
        </p:blipFill>
        <p:spPr>
          <a:xfrm rot="238800">
            <a:off x="14245920" y="592200"/>
            <a:ext cx="3968640" cy="1817640"/>
          </a:xfrm>
          <a:prstGeom prst="rect">
            <a:avLst/>
          </a:prstGeom>
          <a:ln w="0">
            <a:noFill/>
          </a:ln>
        </p:spPr>
      </p:pic>
      <p:sp>
        <p:nvSpPr>
          <p:cNvPr id="546" name="文本框 23"/>
          <p:cNvSpPr/>
          <p:nvPr/>
        </p:nvSpPr>
        <p:spPr>
          <a:xfrm>
            <a:off x="5388120" y="1133640"/>
            <a:ext cx="145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组合 5124"/>
          <p:cNvGrpSpPr/>
          <p:nvPr/>
        </p:nvGrpSpPr>
        <p:grpSpPr>
          <a:xfrm>
            <a:off x="5832360" y="2651040"/>
            <a:ext cx="561960" cy="560520"/>
            <a:chOff x="5832360" y="2651040"/>
            <a:chExt cx="561960" cy="560520"/>
          </a:xfrm>
        </p:grpSpPr>
        <p:sp>
          <p:nvSpPr>
            <p:cNvPr id="548" name="椭圆 25"/>
            <p:cNvSpPr/>
            <p:nvPr/>
          </p:nvSpPr>
          <p:spPr>
            <a:xfrm>
              <a:off x="5832360" y="2651040"/>
              <a:ext cx="56196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椭圆 26"/>
            <p:cNvSpPr/>
            <p:nvPr/>
          </p:nvSpPr>
          <p:spPr>
            <a:xfrm>
              <a:off x="5857560" y="2676240"/>
              <a:ext cx="51156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文本框 28"/>
            <p:cNvSpPr/>
            <p:nvPr/>
          </p:nvSpPr>
          <p:spPr>
            <a:xfrm>
              <a:off x="5946120" y="2731320"/>
              <a:ext cx="33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组合 5128"/>
          <p:cNvGrpSpPr/>
          <p:nvPr/>
        </p:nvGrpSpPr>
        <p:grpSpPr>
          <a:xfrm>
            <a:off x="5857920" y="3522600"/>
            <a:ext cx="560520" cy="560520"/>
            <a:chOff x="5857920" y="3522600"/>
            <a:chExt cx="560520" cy="560520"/>
          </a:xfrm>
        </p:grpSpPr>
        <p:sp>
          <p:nvSpPr>
            <p:cNvPr id="552" name="椭圆 33"/>
            <p:cNvSpPr/>
            <p:nvPr/>
          </p:nvSpPr>
          <p:spPr>
            <a:xfrm>
              <a:off x="5857920" y="3522600"/>
              <a:ext cx="56052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椭圆 34"/>
            <p:cNvSpPr/>
            <p:nvPr/>
          </p:nvSpPr>
          <p:spPr>
            <a:xfrm>
              <a:off x="5883120" y="3547800"/>
              <a:ext cx="51012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35"/>
            <p:cNvSpPr/>
            <p:nvPr/>
          </p:nvSpPr>
          <p:spPr>
            <a:xfrm>
              <a:off x="5971320" y="3602880"/>
              <a:ext cx="3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组合 5132"/>
          <p:cNvGrpSpPr/>
          <p:nvPr/>
        </p:nvGrpSpPr>
        <p:grpSpPr>
          <a:xfrm>
            <a:off x="5857920" y="4370400"/>
            <a:ext cx="560520" cy="560520"/>
            <a:chOff x="5857920" y="4370400"/>
            <a:chExt cx="560520" cy="560520"/>
          </a:xfrm>
        </p:grpSpPr>
        <p:sp>
          <p:nvSpPr>
            <p:cNvPr id="556" name="椭圆 37"/>
            <p:cNvSpPr/>
            <p:nvPr/>
          </p:nvSpPr>
          <p:spPr>
            <a:xfrm>
              <a:off x="5857920" y="4370400"/>
              <a:ext cx="56052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38"/>
            <p:cNvSpPr/>
            <p:nvPr/>
          </p:nvSpPr>
          <p:spPr>
            <a:xfrm>
              <a:off x="5883120" y="4395600"/>
              <a:ext cx="51012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文本框 39"/>
            <p:cNvSpPr/>
            <p:nvPr/>
          </p:nvSpPr>
          <p:spPr>
            <a:xfrm>
              <a:off x="5971320" y="4450680"/>
              <a:ext cx="3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Text Box 16"/>
          <p:cNvSpPr/>
          <p:nvPr/>
        </p:nvSpPr>
        <p:spPr>
          <a:xfrm>
            <a:off x="6483240" y="267660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6"/>
          <p:cNvSpPr/>
          <p:nvPr/>
        </p:nvSpPr>
        <p:spPr>
          <a:xfrm>
            <a:off x="6483240" y="352908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6483240" y="438300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77556E-017 L -0.83099 2.77556E-017 E">
                                      <p:cBhvr>
                                        <p:cTn id="6" dur="3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5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29167E-006 -4.81481E-006 L -0.15065 -4.81481E-006 E">
                                      <p:cBhvr>
                                        <p:cTn id="34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58333E-006 3.7037E-007 L -0.15157 3.7037E-007 E">
                                      <p:cBhvr>
                                        <p:cTn id="36" dur="1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58333E-006 7.40741E-007 L -0.15261 7.40741E-007 E">
                                      <p:cBhvr>
                                        <p:cTn id="38" dur="1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1.11111E-006 L -0.15703 -0.00533 E">
                                      <p:cBhvr>
                                        <p:cTn id="58" dur="75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4.07407E-006 L -0.15507 -0.00254 E">
                                      <p:cBhvr>
                                        <p:cTn id="60" dur="75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-2.96296E-006 L -0.15508 -0.00371 E">
                                      <p:cBhvr>
                                        <p:cTn id="62" dur="75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6560"/>
          </a:xfrm>
          <a:prstGeom prst="rect">
            <a:avLst/>
          </a:prstGeom>
          <a:ln w="0">
            <a:noFill/>
          </a:ln>
        </p:spPr>
      </p:pic>
      <p:grpSp>
        <p:nvGrpSpPr>
          <p:cNvPr id="563" name="组合 6146"/>
          <p:cNvGrpSpPr/>
          <p:nvPr/>
        </p:nvGrpSpPr>
        <p:grpSpPr>
          <a:xfrm>
            <a:off x="660600" y="-1409760"/>
            <a:ext cx="1533240" cy="1591920"/>
            <a:chOff x="660600" y="-1409760"/>
            <a:chExt cx="1533240" cy="1591920"/>
          </a:xfrm>
        </p:grpSpPr>
        <p:grpSp>
          <p:nvGrpSpPr>
            <p:cNvPr id="564" name="组合 6147"/>
            <p:cNvGrpSpPr/>
            <p:nvPr/>
          </p:nvGrpSpPr>
          <p:grpSpPr>
            <a:xfrm>
              <a:off x="660600" y="-1409760"/>
              <a:ext cx="1533240" cy="1591920"/>
              <a:chOff x="660600" y="-1409760"/>
              <a:chExt cx="1533240" cy="1591920"/>
            </a:xfrm>
          </p:grpSpPr>
          <p:sp>
            <p:nvSpPr>
              <p:cNvPr id="565" name="任意多边形 4"/>
              <p:cNvSpPr/>
              <p:nvPr/>
            </p:nvSpPr>
            <p:spPr>
              <a:xfrm flipH="1" rot="12492600">
                <a:off x="889560" y="-1270080"/>
                <a:ext cx="589680" cy="1119240"/>
              </a:xfrm>
              <a:custGeom>
                <a:avLst/>
                <a:gdLst/>
                <a:ahLst/>
                <a:rect l="l" t="t" r="r" b="b"/>
                <a:pathLst>
                  <a:path w="2199932" h="4183459">
                    <a:moveTo>
                      <a:pt x="2050823" y="309459"/>
                    </a:moveTo>
                    <a:cubicBezTo>
                      <a:pt x="2021688" y="401347"/>
                      <a:pt x="2030652" y="609777"/>
                      <a:pt x="1970140" y="766659"/>
                    </a:cubicBezTo>
                    <a:cubicBezTo>
                      <a:pt x="1909628" y="923541"/>
                      <a:pt x="1752746" y="1075941"/>
                      <a:pt x="1687752" y="1250753"/>
                    </a:cubicBezTo>
                    <a:cubicBezTo>
                      <a:pt x="1622758" y="1425565"/>
                      <a:pt x="1591382" y="1640718"/>
                      <a:pt x="1580176" y="1815530"/>
                    </a:cubicBezTo>
                    <a:cubicBezTo>
                      <a:pt x="1568970" y="1990342"/>
                      <a:pt x="1674305" y="2299624"/>
                      <a:pt x="1620517" y="2299624"/>
                    </a:cubicBezTo>
                    <a:cubicBezTo>
                      <a:pt x="1566729" y="2299624"/>
                      <a:pt x="1430017" y="1900695"/>
                      <a:pt x="1257446" y="1815530"/>
                    </a:cubicBezTo>
                    <a:cubicBezTo>
                      <a:pt x="1084875" y="1730365"/>
                      <a:pt x="757663" y="1811048"/>
                      <a:pt x="585093" y="1788636"/>
                    </a:cubicBezTo>
                    <a:cubicBezTo>
                      <a:pt x="412523" y="1766224"/>
                      <a:pt x="233229" y="1649683"/>
                      <a:pt x="222023" y="1681059"/>
                    </a:cubicBezTo>
                    <a:cubicBezTo>
                      <a:pt x="210817" y="1712435"/>
                      <a:pt x="455105" y="1860354"/>
                      <a:pt x="517858" y="1976895"/>
                    </a:cubicBezTo>
                    <a:cubicBezTo>
                      <a:pt x="580611" y="2093436"/>
                      <a:pt x="477517" y="2250318"/>
                      <a:pt x="598540" y="2380306"/>
                    </a:cubicBezTo>
                    <a:cubicBezTo>
                      <a:pt x="719563" y="2510294"/>
                      <a:pt x="1196934" y="2676142"/>
                      <a:pt x="1243999" y="2756824"/>
                    </a:cubicBezTo>
                    <a:cubicBezTo>
                      <a:pt x="1291064" y="2837506"/>
                      <a:pt x="1001952" y="2826300"/>
                      <a:pt x="880929" y="2864400"/>
                    </a:cubicBezTo>
                    <a:cubicBezTo>
                      <a:pt x="759906" y="2902500"/>
                      <a:pt x="636641" y="2895777"/>
                      <a:pt x="517858" y="2985424"/>
                    </a:cubicBezTo>
                    <a:cubicBezTo>
                      <a:pt x="399075" y="3075071"/>
                      <a:pt x="253399" y="3310395"/>
                      <a:pt x="168234" y="3402283"/>
                    </a:cubicBezTo>
                    <a:cubicBezTo>
                      <a:pt x="83069" y="3494171"/>
                      <a:pt x="-28989" y="3521065"/>
                      <a:pt x="6870" y="3536753"/>
                    </a:cubicBezTo>
                    <a:cubicBezTo>
                      <a:pt x="42729" y="3552441"/>
                      <a:pt x="239952" y="3509859"/>
                      <a:pt x="383387" y="3496412"/>
                    </a:cubicBezTo>
                    <a:cubicBezTo>
                      <a:pt x="526822" y="3482965"/>
                      <a:pt x="703875" y="3496412"/>
                      <a:pt x="867481" y="3456071"/>
                    </a:cubicBezTo>
                    <a:cubicBezTo>
                      <a:pt x="1031087" y="3415730"/>
                      <a:pt x="1338129" y="3236436"/>
                      <a:pt x="1365023" y="3254365"/>
                    </a:cubicBezTo>
                    <a:cubicBezTo>
                      <a:pt x="1391917" y="3272294"/>
                      <a:pt x="1131940" y="3451588"/>
                      <a:pt x="1028846" y="3563647"/>
                    </a:cubicBezTo>
                    <a:cubicBezTo>
                      <a:pt x="925752" y="3675706"/>
                      <a:pt x="847311" y="3823624"/>
                      <a:pt x="746458" y="3926718"/>
                    </a:cubicBezTo>
                    <a:cubicBezTo>
                      <a:pt x="645605" y="4029812"/>
                      <a:pt x="396835" y="4166524"/>
                      <a:pt x="423729" y="4182212"/>
                    </a:cubicBezTo>
                    <a:cubicBezTo>
                      <a:pt x="450623" y="4197900"/>
                      <a:pt x="726288" y="4061188"/>
                      <a:pt x="907823" y="4020847"/>
                    </a:cubicBezTo>
                    <a:cubicBezTo>
                      <a:pt x="1089358" y="3980506"/>
                      <a:pt x="1356058" y="3969300"/>
                      <a:pt x="1512940" y="3940165"/>
                    </a:cubicBezTo>
                    <a:cubicBezTo>
                      <a:pt x="1669822" y="3911030"/>
                      <a:pt x="1741541" y="3881895"/>
                      <a:pt x="1849117" y="3846036"/>
                    </a:cubicBezTo>
                    <a:cubicBezTo>
                      <a:pt x="1956693" y="3810177"/>
                      <a:pt x="2100129" y="3745183"/>
                      <a:pt x="2158399" y="3725012"/>
                    </a:cubicBezTo>
                    <a:cubicBezTo>
                      <a:pt x="2216670" y="3704841"/>
                      <a:pt x="2194258" y="3796730"/>
                      <a:pt x="2198740" y="3725012"/>
                    </a:cubicBezTo>
                    <a:cubicBezTo>
                      <a:pt x="2203222" y="3653294"/>
                      <a:pt x="2194258" y="3879653"/>
                      <a:pt x="2185293" y="3294706"/>
                    </a:cubicBezTo>
                    <a:cubicBezTo>
                      <a:pt x="2176328" y="2709759"/>
                      <a:pt x="2165122" y="708389"/>
                      <a:pt x="2144952" y="215330"/>
                    </a:cubicBezTo>
                    <a:cubicBezTo>
                      <a:pt x="2124782" y="-277729"/>
                      <a:pt x="2079958" y="217571"/>
                      <a:pt x="2050823" y="3094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任意多边形 5"/>
              <p:cNvSpPr/>
              <p:nvPr/>
            </p:nvSpPr>
            <p:spPr>
              <a:xfrm rot="12492600">
                <a:off x="1374480" y="-1009800"/>
                <a:ext cx="589680" cy="1119240"/>
              </a:xfrm>
              <a:custGeom>
                <a:avLst/>
                <a:gdLst/>
                <a:ahLst/>
                <a:rect l="l" t="t" r="r" b="b"/>
                <a:pathLst>
                  <a:path w="2199932" h="4183459">
                    <a:moveTo>
                      <a:pt x="2050823" y="309459"/>
                    </a:moveTo>
                    <a:cubicBezTo>
                      <a:pt x="2021688" y="401347"/>
                      <a:pt x="2030652" y="609777"/>
                      <a:pt x="1970140" y="766659"/>
                    </a:cubicBezTo>
                    <a:cubicBezTo>
                      <a:pt x="1909628" y="923541"/>
                      <a:pt x="1752746" y="1075941"/>
                      <a:pt x="1687752" y="1250753"/>
                    </a:cubicBezTo>
                    <a:cubicBezTo>
                      <a:pt x="1622758" y="1425565"/>
                      <a:pt x="1591382" y="1640718"/>
                      <a:pt x="1580176" y="1815530"/>
                    </a:cubicBezTo>
                    <a:cubicBezTo>
                      <a:pt x="1568970" y="1990342"/>
                      <a:pt x="1674305" y="2299624"/>
                      <a:pt x="1620517" y="2299624"/>
                    </a:cubicBezTo>
                    <a:cubicBezTo>
                      <a:pt x="1566729" y="2299624"/>
                      <a:pt x="1430017" y="1900695"/>
                      <a:pt x="1257446" y="1815530"/>
                    </a:cubicBezTo>
                    <a:cubicBezTo>
                      <a:pt x="1084875" y="1730365"/>
                      <a:pt x="757663" y="1811048"/>
                      <a:pt x="585093" y="1788636"/>
                    </a:cubicBezTo>
                    <a:cubicBezTo>
                      <a:pt x="412523" y="1766224"/>
                      <a:pt x="233229" y="1649683"/>
                      <a:pt x="222023" y="1681059"/>
                    </a:cubicBezTo>
                    <a:cubicBezTo>
                      <a:pt x="210817" y="1712435"/>
                      <a:pt x="455105" y="1860354"/>
                      <a:pt x="517858" y="1976895"/>
                    </a:cubicBezTo>
                    <a:cubicBezTo>
                      <a:pt x="580611" y="2093436"/>
                      <a:pt x="477517" y="2250318"/>
                      <a:pt x="598540" y="2380306"/>
                    </a:cubicBezTo>
                    <a:cubicBezTo>
                      <a:pt x="719563" y="2510294"/>
                      <a:pt x="1196934" y="2676142"/>
                      <a:pt x="1243999" y="2756824"/>
                    </a:cubicBezTo>
                    <a:cubicBezTo>
                      <a:pt x="1291064" y="2837506"/>
                      <a:pt x="1001952" y="2826300"/>
                      <a:pt x="880929" y="2864400"/>
                    </a:cubicBezTo>
                    <a:cubicBezTo>
                      <a:pt x="759906" y="2902500"/>
                      <a:pt x="636641" y="2895777"/>
                      <a:pt x="517858" y="2985424"/>
                    </a:cubicBezTo>
                    <a:cubicBezTo>
                      <a:pt x="399075" y="3075071"/>
                      <a:pt x="253399" y="3310395"/>
                      <a:pt x="168234" y="3402283"/>
                    </a:cubicBezTo>
                    <a:cubicBezTo>
                      <a:pt x="83069" y="3494171"/>
                      <a:pt x="-28989" y="3521065"/>
                      <a:pt x="6870" y="3536753"/>
                    </a:cubicBezTo>
                    <a:cubicBezTo>
                      <a:pt x="42729" y="3552441"/>
                      <a:pt x="239952" y="3509859"/>
                      <a:pt x="383387" y="3496412"/>
                    </a:cubicBezTo>
                    <a:cubicBezTo>
                      <a:pt x="526822" y="3482965"/>
                      <a:pt x="703875" y="3496412"/>
                      <a:pt x="867481" y="3456071"/>
                    </a:cubicBezTo>
                    <a:cubicBezTo>
                      <a:pt x="1031087" y="3415730"/>
                      <a:pt x="1338129" y="3236436"/>
                      <a:pt x="1365023" y="3254365"/>
                    </a:cubicBezTo>
                    <a:cubicBezTo>
                      <a:pt x="1391917" y="3272294"/>
                      <a:pt x="1131940" y="3451588"/>
                      <a:pt x="1028846" y="3563647"/>
                    </a:cubicBezTo>
                    <a:cubicBezTo>
                      <a:pt x="925752" y="3675706"/>
                      <a:pt x="847311" y="3823624"/>
                      <a:pt x="746458" y="3926718"/>
                    </a:cubicBezTo>
                    <a:cubicBezTo>
                      <a:pt x="645605" y="4029812"/>
                      <a:pt x="396835" y="4166524"/>
                      <a:pt x="423729" y="4182212"/>
                    </a:cubicBezTo>
                    <a:cubicBezTo>
                      <a:pt x="450623" y="4197900"/>
                      <a:pt x="726288" y="4061188"/>
                      <a:pt x="907823" y="4020847"/>
                    </a:cubicBezTo>
                    <a:cubicBezTo>
                      <a:pt x="1089358" y="3980506"/>
                      <a:pt x="1356058" y="3969300"/>
                      <a:pt x="1512940" y="3940165"/>
                    </a:cubicBezTo>
                    <a:cubicBezTo>
                      <a:pt x="1669822" y="3911030"/>
                      <a:pt x="1741541" y="3881895"/>
                      <a:pt x="1849117" y="3846036"/>
                    </a:cubicBezTo>
                    <a:cubicBezTo>
                      <a:pt x="1956693" y="3810177"/>
                      <a:pt x="2100129" y="3745183"/>
                      <a:pt x="2158399" y="3725012"/>
                    </a:cubicBezTo>
                    <a:cubicBezTo>
                      <a:pt x="2216670" y="3704841"/>
                      <a:pt x="2194258" y="3796730"/>
                      <a:pt x="2198740" y="3725012"/>
                    </a:cubicBezTo>
                    <a:cubicBezTo>
                      <a:pt x="2203222" y="3653294"/>
                      <a:pt x="2194258" y="3879653"/>
                      <a:pt x="2185293" y="3294706"/>
                    </a:cubicBezTo>
                    <a:cubicBezTo>
                      <a:pt x="2176328" y="2709759"/>
                      <a:pt x="2165122" y="708389"/>
                      <a:pt x="2144952" y="215330"/>
                    </a:cubicBezTo>
                    <a:cubicBezTo>
                      <a:pt x="2124782" y="-277729"/>
                      <a:pt x="2079958" y="217571"/>
                      <a:pt x="2050823" y="3094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任意多边形 6"/>
              <p:cNvSpPr/>
              <p:nvPr/>
            </p:nvSpPr>
            <p:spPr>
              <a:xfrm rot="12492600">
                <a:off x="1681560" y="-1426320"/>
                <a:ext cx="70920" cy="559800"/>
              </a:xfrm>
              <a:custGeom>
                <a:avLst/>
                <a:gdLst/>
                <a:ahLst/>
                <a:rect l="l" t="t" r="r" b="b"/>
                <a:pathLst>
                  <a:path w="264569" h="2092698">
                    <a:moveTo>
                      <a:pt x="121267" y="49632"/>
                    </a:moveTo>
                    <a:cubicBezTo>
                      <a:pt x="92132" y="139279"/>
                      <a:pt x="4725" y="291679"/>
                      <a:pt x="243" y="560620"/>
                    </a:cubicBezTo>
                    <a:cubicBezTo>
                      <a:pt x="-4239" y="829561"/>
                      <a:pt x="54032" y="1410026"/>
                      <a:pt x="94373" y="1663279"/>
                    </a:cubicBezTo>
                    <a:cubicBezTo>
                      <a:pt x="134714" y="1916532"/>
                      <a:pt x="215396" y="2033073"/>
                      <a:pt x="242290" y="2080138"/>
                    </a:cubicBezTo>
                    <a:cubicBezTo>
                      <a:pt x="269184" y="2127203"/>
                      <a:pt x="269184" y="2033073"/>
                      <a:pt x="255737" y="1945667"/>
                    </a:cubicBezTo>
                    <a:cubicBezTo>
                      <a:pt x="242290" y="1858261"/>
                      <a:pt x="190743" y="1748444"/>
                      <a:pt x="161608" y="1555703"/>
                    </a:cubicBezTo>
                    <a:cubicBezTo>
                      <a:pt x="132473" y="1362962"/>
                      <a:pt x="92132" y="990926"/>
                      <a:pt x="80926" y="789220"/>
                    </a:cubicBezTo>
                    <a:cubicBezTo>
                      <a:pt x="69720" y="587514"/>
                      <a:pt x="78685" y="457526"/>
                      <a:pt x="94373" y="345467"/>
                    </a:cubicBezTo>
                    <a:cubicBezTo>
                      <a:pt x="110061" y="233408"/>
                      <a:pt x="161608" y="170655"/>
                      <a:pt x="175055" y="116867"/>
                    </a:cubicBezTo>
                    <a:cubicBezTo>
                      <a:pt x="188502" y="63079"/>
                      <a:pt x="186261" y="27220"/>
                      <a:pt x="175055" y="22738"/>
                    </a:cubicBezTo>
                    <a:cubicBezTo>
                      <a:pt x="163849" y="18256"/>
                      <a:pt x="150402" y="-40015"/>
                      <a:pt x="121267" y="496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椭圆 7"/>
              <p:cNvSpPr/>
              <p:nvPr/>
            </p:nvSpPr>
            <p:spPr>
              <a:xfrm rot="12492600">
                <a:off x="1606320" y="-983520"/>
                <a:ext cx="70920" cy="23400"/>
              </a:xfrm>
              <a:custGeom>
                <a:avLst/>
                <a:gdLst/>
                <a:ahLst/>
                <a:rect l="l" t="t" r="r" b="b"/>
                <a:pathLst>
                  <a:path w="264821" h="88460">
                    <a:moveTo>
                      <a:pt x="794" y="85388"/>
                    </a:moveTo>
                    <a:cubicBezTo>
                      <a:pt x="8638" y="75395"/>
                      <a:pt x="74108" y="3128"/>
                      <a:pt x="117849" y="123"/>
                    </a:cubicBezTo>
                    <a:cubicBezTo>
                      <a:pt x="161590" y="-2882"/>
                      <a:pt x="249189" y="49636"/>
                      <a:pt x="263238" y="67357"/>
                    </a:cubicBezTo>
                    <a:cubicBezTo>
                      <a:pt x="277287" y="85078"/>
                      <a:pt x="193750" y="33853"/>
                      <a:pt x="173812" y="44630"/>
                    </a:cubicBezTo>
                    <a:cubicBezTo>
                      <a:pt x="153874" y="55407"/>
                      <a:pt x="135021" y="85653"/>
                      <a:pt x="117849" y="88229"/>
                    </a:cubicBezTo>
                    <a:cubicBezTo>
                      <a:pt x="100677" y="90805"/>
                      <a:pt x="96301" y="71290"/>
                      <a:pt x="70782" y="60084"/>
                    </a:cubicBezTo>
                    <a:cubicBezTo>
                      <a:pt x="45263" y="48878"/>
                      <a:pt x="-7050" y="95381"/>
                      <a:pt x="794" y="85388"/>
                    </a:cubicBez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文本框 9"/>
            <p:cNvSpPr/>
            <p:nvPr/>
          </p:nvSpPr>
          <p:spPr>
            <a:xfrm>
              <a:off x="1336680" y="-1017360"/>
              <a:ext cx="54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任意多边形 13"/>
          <p:cNvSpPr/>
          <p:nvPr/>
        </p:nvSpPr>
        <p:spPr>
          <a:xfrm>
            <a:off x="2063880" y="1008000"/>
            <a:ext cx="8534160" cy="4772160"/>
          </a:xfrm>
          <a:custGeom>
            <a:avLst/>
            <a:gdLst/>
            <a:ahLst/>
            <a:rect l="l" t="t" r="r" b="b"/>
            <a:pathLst>
              <a:path w="8533201" h="4771292">
                <a:moveTo>
                  <a:pt x="7500929" y="1337629"/>
                </a:moveTo>
                <a:lnTo>
                  <a:pt x="7642247" y="1594339"/>
                </a:lnTo>
                <a:lnTo>
                  <a:pt x="7783564" y="1337629"/>
                </a:lnTo>
                <a:lnTo>
                  <a:pt x="7500929" y="1337629"/>
                </a:lnTo>
                <a:close/>
                <a:moveTo>
                  <a:pt x="8124321" y="1079394"/>
                </a:moveTo>
                <a:lnTo>
                  <a:pt x="7924471" y="1279244"/>
                </a:lnTo>
                <a:lnTo>
                  <a:pt x="8205875" y="1360798"/>
                </a:lnTo>
                <a:lnTo>
                  <a:pt x="8124321" y="1079394"/>
                </a:lnTo>
                <a:close/>
                <a:moveTo>
                  <a:pt x="7160172" y="1079394"/>
                </a:moveTo>
                <a:lnTo>
                  <a:pt x="7078544" y="1360798"/>
                </a:lnTo>
                <a:lnTo>
                  <a:pt x="7360022" y="1279244"/>
                </a:lnTo>
                <a:lnTo>
                  <a:pt x="7160172" y="1079394"/>
                </a:lnTo>
                <a:close/>
                <a:moveTo>
                  <a:pt x="0" y="949569"/>
                </a:moveTo>
                <a:lnTo>
                  <a:pt x="7176391" y="949569"/>
                </a:lnTo>
                <a:lnTo>
                  <a:pt x="7188575" y="988820"/>
                </a:lnTo>
                <a:cubicBezTo>
                  <a:pt x="7263320" y="1165537"/>
                  <a:pt x="7438303" y="1289534"/>
                  <a:pt x="7642247" y="1289534"/>
                </a:cubicBezTo>
                <a:cubicBezTo>
                  <a:pt x="7846191" y="1289534"/>
                  <a:pt x="8021174" y="1165537"/>
                  <a:pt x="8095919" y="988820"/>
                </a:cubicBezTo>
                <a:lnTo>
                  <a:pt x="8108103" y="949569"/>
                </a:lnTo>
                <a:lnTo>
                  <a:pt x="8533201" y="949569"/>
                </a:lnTo>
                <a:lnTo>
                  <a:pt x="8533201" y="4771292"/>
                </a:lnTo>
                <a:lnTo>
                  <a:pt x="0" y="4771292"/>
                </a:lnTo>
                <a:lnTo>
                  <a:pt x="0" y="949569"/>
                </a:lnTo>
                <a:close/>
                <a:moveTo>
                  <a:pt x="8182706" y="655852"/>
                </a:moveTo>
                <a:lnTo>
                  <a:pt x="8439416" y="797170"/>
                </a:lnTo>
                <a:lnTo>
                  <a:pt x="8182706" y="938487"/>
                </a:lnTo>
                <a:lnTo>
                  <a:pt x="8182706" y="655852"/>
                </a:lnTo>
                <a:close/>
                <a:moveTo>
                  <a:pt x="7101787" y="655852"/>
                </a:moveTo>
                <a:lnTo>
                  <a:pt x="7101787" y="938487"/>
                </a:lnTo>
                <a:lnTo>
                  <a:pt x="6845077" y="797170"/>
                </a:lnTo>
                <a:lnTo>
                  <a:pt x="7101787" y="655852"/>
                </a:lnTo>
                <a:close/>
                <a:moveTo>
                  <a:pt x="7642247" y="304806"/>
                </a:moveTo>
                <a:cubicBezTo>
                  <a:pt x="7914172" y="304806"/>
                  <a:pt x="8134611" y="525245"/>
                  <a:pt x="8134611" y="797170"/>
                </a:cubicBezTo>
                <a:cubicBezTo>
                  <a:pt x="8134611" y="831161"/>
                  <a:pt x="8131167" y="864347"/>
                  <a:pt x="8124608" y="896398"/>
                </a:cubicBezTo>
                <a:lnTo>
                  <a:pt x="8108103" y="949569"/>
                </a:lnTo>
                <a:lnTo>
                  <a:pt x="7176391" y="949569"/>
                </a:lnTo>
                <a:lnTo>
                  <a:pt x="7159886" y="896398"/>
                </a:lnTo>
                <a:cubicBezTo>
                  <a:pt x="7153327" y="864347"/>
                  <a:pt x="7149883" y="831161"/>
                  <a:pt x="7149883" y="797170"/>
                </a:cubicBezTo>
                <a:cubicBezTo>
                  <a:pt x="7149883" y="525245"/>
                  <a:pt x="7370322" y="304806"/>
                  <a:pt x="7642247" y="304806"/>
                </a:cubicBezTo>
                <a:close/>
                <a:moveTo>
                  <a:pt x="8205875" y="233467"/>
                </a:moveTo>
                <a:lnTo>
                  <a:pt x="8124321" y="514945"/>
                </a:lnTo>
                <a:lnTo>
                  <a:pt x="7924471" y="315095"/>
                </a:lnTo>
                <a:lnTo>
                  <a:pt x="8205875" y="233467"/>
                </a:lnTo>
                <a:close/>
                <a:moveTo>
                  <a:pt x="7078544" y="233467"/>
                </a:moveTo>
                <a:lnTo>
                  <a:pt x="7360022" y="315095"/>
                </a:lnTo>
                <a:lnTo>
                  <a:pt x="7160172" y="514945"/>
                </a:lnTo>
                <a:lnTo>
                  <a:pt x="7078544" y="233467"/>
                </a:lnTo>
                <a:close/>
                <a:moveTo>
                  <a:pt x="7642247" y="0"/>
                </a:moveTo>
                <a:lnTo>
                  <a:pt x="7783564" y="256710"/>
                </a:lnTo>
                <a:lnTo>
                  <a:pt x="7500929" y="256710"/>
                </a:lnTo>
                <a:lnTo>
                  <a:pt x="7642247" y="0"/>
                </a:lnTo>
                <a:close/>
              </a:path>
            </a:pathLst>
          </a:cu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1927080" y="1128600"/>
            <a:ext cx="42055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ccff"/>
                </a:solidFill>
                <a:latin typeface="微软雅黑"/>
                <a:ea typeface="微软雅黑"/>
              </a:rPr>
              <a:t>[</a:t>
            </a:r>
            <a:r>
              <a:rPr b="0" lang="zh-CN" sz="3600" spc="-1" strike="noStrike">
                <a:solidFill>
                  <a:srgbClr val="01c1ff"/>
                </a:solidFill>
                <a:latin typeface="微软雅黑"/>
                <a:ea typeface="微软雅黑"/>
              </a:rPr>
              <a:t>单击此处添加标题</a:t>
            </a:r>
            <a:r>
              <a:rPr b="1" lang="zh-CN" sz="4200" spc="-1" strike="noStrike">
                <a:solidFill>
                  <a:srgbClr val="33ccff"/>
                </a:solidFill>
                <a:latin typeface="微软雅黑"/>
                <a:ea typeface="微软雅黑"/>
              </a:rPr>
              <a:t>]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15"/>
          <p:cNvSpPr/>
          <p:nvPr/>
        </p:nvSpPr>
        <p:spPr>
          <a:xfrm>
            <a:off x="2193840" y="2309760"/>
            <a:ext cx="8180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875E-006 -1.11111E-006 L 0.00013 0.32986 E">
                                      <p:cBhvr>
                                        <p:cTn id="68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7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文本框 3"/>
          <p:cNvSpPr/>
          <p:nvPr/>
        </p:nvSpPr>
        <p:spPr>
          <a:xfrm>
            <a:off x="4603680" y="2616120"/>
            <a:ext cx="267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5"/>
          <p:cNvSpPr/>
          <p:nvPr/>
        </p:nvSpPr>
        <p:spPr>
          <a:xfrm>
            <a:off x="5491080" y="4046400"/>
            <a:ext cx="84240" cy="209520"/>
          </a:xfrm>
          <a:prstGeom prst="line">
            <a:avLst/>
          </a:prstGeom>
          <a:ln w="12600">
            <a:solidFill>
              <a:srgbClr val="ffffff">
                <a:alpha val="47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直接连接符 6"/>
          <p:cNvSpPr/>
          <p:nvPr/>
        </p:nvSpPr>
        <p:spPr>
          <a:xfrm flipH="1">
            <a:off x="6480000" y="4046400"/>
            <a:ext cx="82800" cy="20952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直接连接符 7"/>
          <p:cNvSpPr/>
          <p:nvPr/>
        </p:nvSpPr>
        <p:spPr>
          <a:xfrm>
            <a:off x="6015600" y="3799080"/>
            <a:ext cx="2160" cy="22680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图片 9" descr=""/>
          <p:cNvPicPr/>
          <p:nvPr/>
        </p:nvPicPr>
        <p:blipFill>
          <a:blip r:embed="rId2"/>
          <a:srcRect l="55276" t="24643" r="37567" b="57364"/>
          <a:stretch/>
        </p:blipFill>
        <p:spPr>
          <a:xfrm>
            <a:off x="4019400" y="2138400"/>
            <a:ext cx="400320" cy="95724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10" descr=""/>
          <p:cNvPicPr/>
          <p:nvPr/>
        </p:nvPicPr>
        <p:blipFill>
          <a:blip r:embed="rId3"/>
          <a:srcRect l="37568" t="57369" r="55280" b="24648"/>
          <a:stretch/>
        </p:blipFill>
        <p:spPr>
          <a:xfrm>
            <a:off x="7400880" y="2955960"/>
            <a:ext cx="399960" cy="955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6" dur="35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175" autoRev="1" fill="hold"/>
                                        <p:tgtEl>
                                          <p:spTgt spid="5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9" dur="35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175" autoRev="1" fill="hold"/>
                                        <p:tgtEl>
                                          <p:spTgt spid="5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92" dur="35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75" autoRev="1" fill="hold"/>
                                        <p:tgtEl>
                                          <p:spTgt spid="5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3T19:48:00Z</dcterms:created>
  <dc:creator>D13001</dc:creator>
  <dc:description/>
  <cp:keywords/>
  <dc:language>en-US</dc:language>
  <cp:lastModifiedBy>Bee Little</cp:lastModifiedBy>
  <dcterms:modified xsi:type="dcterms:W3CDTF">2017-08-06T07:36:07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