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447-435A-4DA3-AC22-DE28F97C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D9B-10F1-4734-B727-FC56ED4E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439-A30F-42B0-B92D-9672C969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090-CEFB-4FC6-BB68-F36D38FB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D16-23B8-4C2F-950E-73F600D6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0B8-9607-4CF6-9C62-055227E0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E8D-86F2-46B2-ACAF-99297C15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512-F9DE-49D8-8B85-8FBD3AA0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019-380C-4862-9285-7F30E418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2C4-3BC6-41CE-BA0D-700F9EC9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F54-ED78-4BAA-9B3F-8802AEA9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C2A-1D53-4694-A24C-CAC227C5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4E16-A5DB-4F0C-BE25-121508E273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00240" y="14335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286080" y="22147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514800" y="428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4000680" y="2214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712120" y="5214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497920" y="342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211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6140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926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97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99788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071880" y="2071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569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2497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711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4-06-23T07:56:29Z</dcterms:modified>
  <cp:revision>36</cp:revision>
  <dc:subject/>
  <dc:title>幻灯片 1</dc:title>
</cp:coreProperties>
</file>