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0314-151A-47C7-8F80-3EA15A9B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6807-BBB5-4B4A-96FC-17E2A1E5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EC98-7ACB-4C2B-B331-9C727251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208E-3DBA-4CD7-9356-2ACC345B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E185-8A83-492E-8385-46F5F583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BF18-6664-4C48-861F-FE39C1B2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8822-CEA8-4A2C-AC6D-A1DFD2CE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C88D-FC55-46A5-9FA3-AECA35D9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4367-D4F4-4E80-81B8-A6AD0A48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CBB0-25BB-4EC3-BE1E-7711E6F4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BE1D-38AC-4B06-AF05-5A0513B8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7E5-7CB5-43BB-BA21-B13AEAC6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62D5-D627-440E-BD34-EB08AC7F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2667-2C6D-4C69-8328-BD39F2BD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9420-D2C9-4F84-A47D-1A162F91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D25E-D15B-4193-8E65-7FA11BFF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7E85-AC71-4874-97EE-46A96313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9428-C94F-4110-933E-6A035B1D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F69B-6B7E-4EA9-BB4C-EDB315F3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51AE-F034-41D5-9A10-694A1049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A2E8-D326-4D88-AA4C-5DD645CE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9334-091F-4281-9096-601C0B68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6FD2-F124-465F-BFC2-7CFC4291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C588-3DEC-4D03-83D1-3F6574DE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2FC4-967C-4006-B412-D9A57C78CA94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60D9-ED4F-4DF6-974B-89907EF9CA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微软用户</cp:lastModifiedBy>
  <dcterms:modified xsi:type="dcterms:W3CDTF">2013-09-30T03:39:36Z</dcterms:modified>
  <cp:revision>3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