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652D-4D37-4BA1-8D0F-45D67743E38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B7D3-46B5-486B-8F29-A60787CD2BB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51D0-FC8B-44B9-80B4-8450F9E9AD3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F55D-6E83-4D3E-B7A4-74536EEF13A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10B1-56A0-4575-91C1-E3F05B34F7C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0E52-798A-4148-BB90-24502762BEB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51665-3A96-4C08-A4EC-F5DFC0B8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CA29D-CF1B-4C86-BEE9-5FFD9301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325A0-AF9B-4FF2-81C8-088DBF7E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B81CB-DBFD-41B0-974E-B40F7C2F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D9DAA-DADE-4152-8B51-DA9F4597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545DF-CDFF-4F03-A479-808AFE05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758C7-1324-4041-A14D-2A11F541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0F1F8-FC00-490E-97EC-4EAD38998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B2C76-F8D0-414C-965E-84D88671D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2CF1C-48B2-4E94-8D58-A4CC898BB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59421-19FA-4C8B-A1FF-348BE26C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F39DA-C377-49D2-B5B0-FBB2EA10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C8214-E539-48EF-8A23-1DCF2C79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DF6B5-47CD-4F32-AE4A-FF94B699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49AAA-7B37-4BDB-89B3-8637A0CC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CB0BE-224C-4D31-9923-E8CA56CB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8303E-B9EF-4AC9-B3B1-71487F0A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8C1EB-E30D-447F-B1BF-4EB34B5F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165C7-A8D4-4A4D-9E85-5390DDBE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D6A43-A9F6-4EFE-AF12-80D66A411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060C0-389E-4B4D-AFCF-DBE942C0F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E868E4-161B-47C4-83F9-DA16529FD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6A156A-1557-44FA-9515-1B9F1A9B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91EA7B-EB6B-472C-837F-B85DD384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3FBF3D-1BF3-4C54-9947-479071EB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1DDA86-94DD-43FF-89D9-57F8298D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932C3F-4A30-4834-BA6A-00B89641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5622A2-5A11-48E4-B666-A67187A0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CD41AF-364C-49A2-A6F4-5775B3AC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B23F78-B87A-4F5C-A4E8-5EA57F5D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CAD6-E9D6-43CB-8A6F-BF5B11586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2BE531-15B2-4CBC-8B1D-5261569C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D8B16F-3E74-4FE7-A82E-0C034AD5C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C0932-9986-41EB-9EDF-1A675A629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BF7650-5864-46E0-A5EE-3269BE62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032F1B-821F-45B1-A322-A84CE168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FF6683-F405-46C2-B550-1F50AC7E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F10BA0-E6FC-40C6-B547-E1640AA4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4F036-E31A-4908-B68B-893A0C61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443675-8B0E-4BA0-83E9-01002E48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8F3B13-4AA1-4423-8A86-546EC864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AE73-9B12-4892-9908-A376AB04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FED511-CF3E-4857-B84B-A4876F42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D906CD-8C74-47CA-8A62-672DF911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C17DBE-DDFE-461F-A4B2-155225D7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671EA4-7315-46CE-BD31-0D5C199D2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39A639-5A18-4571-AEE9-A8F36785D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11201A-4D57-4A07-8621-35EE05905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CD135-B9E4-4267-BD31-CFEE490C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839128-30B8-4B06-91FC-092E5F63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4E3CD9-43F1-4933-B05D-BC1498F2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E9EC5D-4673-49D9-945E-34F0A663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0974-9EE8-4AAF-891F-4FCC457F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DFE87D-720C-4E64-A793-C38FBCBA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6378CC-10AF-4347-96E6-60F6D74C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A9BD6-A0D1-40C3-A8F2-6B5BEABD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E5DE43-2FED-413D-8490-1D3ADEA4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80D21-313D-49D3-AD02-7CBBC505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3E0B5-D1A1-4248-A7ED-63BA7AE52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ADAD54-466F-41DC-BDAC-E51A9650E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02769C-8707-44DD-9BD4-824852BC2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F01996-16BD-4AAD-80D6-624A32D3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ECAFC8-C377-4D0C-BEC9-FC96C375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E2BE-ED06-4BC3-811E-C064ACA9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CCEA21-A282-41AF-89E1-E86BE14D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877AE4-118B-4B22-AA4B-131F6BDC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A6B343-52E7-49CC-A27F-B126C966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34B1DE-1207-4702-8F83-B59C2CA5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447C7C-BC29-4FB7-B2D4-C01BD45E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E62388-4859-4F3B-BE73-2F0FFA1A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CD70CE-3568-4439-8BA0-EE201792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6CD468-24A8-4813-B875-0FB389B34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F0E5F2-5330-40D4-A5FB-CA424506A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802121-DAE3-4084-859B-69B628561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9C62-41BF-4B0A-A96E-4EA1DE6C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5453D3-E1DD-45FF-94CE-3DD39827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58554D-F09F-452F-872B-B84784AF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08420D-906B-43AE-B8AA-A9478CE6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7DE584-A907-48DD-B936-4ED77C49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1DF35A-EDB2-4FE7-B0CE-541D70E0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77D25C-546D-49A9-95F0-19E18795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7917CF-132E-404B-85CC-07B64356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BF7097-0223-41F6-927D-7425E7D4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645E4E-4E4C-4600-A6D3-288DD1CA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6E84F3-746E-4911-A352-D66EFD1CE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20BC-5B27-4F23-9C80-84F68D65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243604-4F69-4515-B891-C123A255E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CAC856-D659-4049-970B-78D5CDBFE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3053A0-F76F-4222-B78F-02DEAEC0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26CAA2-FE83-4B5B-B186-1718C9ED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2BB5BE-E48E-4CD1-A088-0D706D17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C9A94D-0EAF-4E28-9271-EEC8826C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5DB74A-BDD4-4593-83DA-5F6372A3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C21649-DEEE-47EE-A943-7F6E3B52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0D90CF-AA62-495F-A0F1-D8DCB118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0C8ECB-187F-4180-BBC7-4B835FCF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8F1C-F178-4FDD-A345-8FCE28F0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3AE579-9B34-4A80-A9E7-0D94559F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EA4B4D-076E-4F96-8211-65D38F057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D4D1AA-30BA-4702-BFA4-31CAE93CD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17DA-9B19-4C0C-9A95-21879A1E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4F71-4CB0-4420-AA71-492FA82C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B4B4-2D1C-4722-A211-95407EE2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D5BE-5E46-4000-8505-029E71377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4DFC-C527-47B4-ABB4-F4A4FC13D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7037-6424-4DC8-A6F3-DC6F0A0C4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6EF8-0B4B-4FE0-BB7D-FD268409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97B68-FE79-4D17-990F-F969ADE7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F927-36F4-4F28-AE39-ADD5955F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420E-3E03-4EE1-8DA6-F047E80D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D81B-A900-4FED-B772-0D1D22E7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A6EE-DB08-4B9D-85F2-F8D1FD96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B07A-91B3-485E-9C17-7D95F11F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0CEC-B531-4044-808B-06B76A99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A9BD-6708-464E-B586-728E2BA4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9451-0E18-487D-9B07-A205FBAEB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539B-A3E0-45DE-AFDF-BFBAAC9B8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18CFD-8D18-4711-8172-82E5D6417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B32D5-D35E-4D6C-8F12-17B7A273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ED0B3-DC02-4F99-9191-64A2005D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F857A-982C-4055-A8B4-84DD31EF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7145C-4A3F-4F16-9015-584AD996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D8EB5-2981-45BC-A324-75125131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7D655-2D33-4F84-A236-5993F98E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DE692-0AB5-49FB-8308-A89D9B88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F05BE-A4E3-4571-AC17-4EA2A0CC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A4052-7415-4864-8408-5DC96714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0B367-61BE-4B47-8260-1D7E6D469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FF9FC-B4BD-4590-8817-B3B13E4E8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EAD0A-33AB-4194-9D76-7753995B2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48F51-5B14-45A0-8CE1-C9842413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4EC92-1A8E-4452-BE26-85BD270E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ECA95-EB0E-4089-B5DD-371B3249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0A52F-9C6F-4E80-808B-D8134CC2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35E3A-5E5E-4AE3-862A-D3528FD1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BEBF3-2DBD-403F-9BF2-3AB31003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C05C8-4111-4282-B57A-BF7FEBA7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7E69E-D844-492F-865D-B614697F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6B460-7FD3-4062-9713-E17DB12A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58B04-3E73-4591-ABFB-92226A47E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6A1BD-111F-4FEC-880D-98C42C8BF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E2F20-EEC1-4F80-BF01-53ED399F3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293DC-8813-4410-B838-A52D4C6D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8A342-55BB-46E3-BB6F-6A5CBFF0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7E64F-9879-4697-B7E4-3F2C2C93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5F89B-98B0-45A9-8E63-356D56FE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9DCDE-585C-4595-A131-553F3B29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8040F-6651-4793-9830-B5CA85ED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842F3-EFAE-4BC7-97A9-63323117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C8F62-2B18-4325-947F-C23C205F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68FFA-E914-433A-9F5E-F5033AC1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7E960-3870-45EF-903A-6248B34F3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3750A-56DD-4AEF-BA84-01A5CC719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E2FE5-2023-48C8-9736-CCC8A27ED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12E28-964E-4584-BE07-846D388B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C1776-CCEF-4547-8394-F13F34D9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621BA-6084-42AD-87A7-0A463581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0627E-ACE1-4E2B-847B-28425DF7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FB0E9-DB7A-40AA-93BB-B86DADA6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44E5B-589B-47B3-9495-032B3ED6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6823F-9EF7-4DD4-BC33-8B27173B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6B2C3-569D-4C41-BBB8-3E796832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39696-947C-403A-8563-5708A536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FD8C5-A468-4124-B26A-20E60CC82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EB0B1-51E4-40D3-89EF-65324E522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5AC46-CD56-449A-BD29-92FFC7A15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F7443-59EE-4744-BA08-96B7FFDE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E6F29-4B88-43C5-8B6E-003D57EC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37.xml"/><Relationship Id="rId13" Type="http://schemas.openxmlformats.org/officeDocument/2006/relationships/slideLayout" Target="../slideLayouts/slideLayout38.xml"/><Relationship Id="rId14" Type="http://schemas.openxmlformats.org/officeDocument/2006/relationships/slideLayout" Target="../slideLayouts/slideLayout39.xml"/><Relationship Id="rId15" Type="http://schemas.openxmlformats.org/officeDocument/2006/relationships/slideLayout" Target="../slideLayouts/slideLayout40.xml"/><Relationship Id="rId16" Type="http://schemas.openxmlformats.org/officeDocument/2006/relationships/slideLayout" Target="../slideLayouts/slideLayout41.xml"/><Relationship Id="rId17" Type="http://schemas.openxmlformats.org/officeDocument/2006/relationships/slideLayout" Target="../slideLayouts/slideLayout42.xml"/><Relationship Id="rId18" Type="http://schemas.openxmlformats.org/officeDocument/2006/relationships/slideLayout" Target="../slideLayouts/slideLayout43.xml"/><Relationship Id="rId19" Type="http://schemas.openxmlformats.org/officeDocument/2006/relationships/slideLayout" Target="../slideLayouts/slideLayout44.xml"/><Relationship Id="rId20" Type="http://schemas.openxmlformats.org/officeDocument/2006/relationships/slideLayout" Target="../slideLayouts/slideLayout45.xml"/><Relationship Id="rId21" Type="http://schemas.openxmlformats.org/officeDocument/2006/relationships/slideLayout" Target="../slideLayouts/slideLayout46.xml"/><Relationship Id="rId22" Type="http://schemas.openxmlformats.org/officeDocument/2006/relationships/slideLayout" Target="../slideLayouts/slideLayout47.xml"/><Relationship Id="rId2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62680"/>
          </a:xfrm>
          <a:prstGeom prst="rect">
            <a:avLst/>
          </a:prstGeom>
          <a:ln w="0">
            <a:noFill/>
          </a:ln>
        </p:spPr>
      </p:pic>
      <p:pic>
        <p:nvPicPr>
          <p:cNvPr id="1" name="图片 8" descr=""/>
          <p:cNvPicPr/>
          <p:nvPr/>
        </p:nvPicPr>
        <p:blipFill>
          <a:blip r:embed="rId3"/>
          <a:stretch/>
        </p:blipFill>
        <p:spPr>
          <a:xfrm>
            <a:off x="2631960" y="293760"/>
            <a:ext cx="7166160" cy="6275160"/>
          </a:xfrm>
          <a:prstGeom prst="rect">
            <a:avLst/>
          </a:prstGeom>
          <a:ln w="0">
            <a:noFill/>
          </a:ln>
        </p:spPr>
      </p:pic>
      <p:sp>
        <p:nvSpPr>
          <p:cNvPr id="2" name="矩形 9"/>
          <p:cNvSpPr/>
          <p:nvPr/>
        </p:nvSpPr>
        <p:spPr>
          <a:xfrm>
            <a:off x="0" y="2498760"/>
            <a:ext cx="12192120" cy="13827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35A5-AFA9-4769-82BE-F102AB9CE25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748F-258C-43F3-9AFC-BA66B2510C0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FD79-7A07-44FE-AC53-A4828141CBD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74AF-E13A-4E94-9EEE-030934FD86A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EA8C-F42B-4D5E-8181-535D0731F2A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A380-48A9-4601-8C93-29A299065DC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dt" idx="4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 type="sldNum" idx="4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DD32-BC93-402E-93E0-43E0C617CCF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5AD0-1DFB-46CE-B552-012DDD204B8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62680"/>
          </a:xfrm>
          <a:prstGeom prst="rect">
            <a:avLst/>
          </a:prstGeom>
          <a:ln w="0">
            <a:noFill/>
          </a:ln>
        </p:spPr>
      </p:pic>
      <p:pic>
        <p:nvPicPr>
          <p:cNvPr id="81" name="图片 8" descr=""/>
          <p:cNvPicPr/>
          <p:nvPr/>
        </p:nvPicPr>
        <p:blipFill>
          <a:blip r:embed="rId3"/>
          <a:stretch/>
        </p:blipFill>
        <p:spPr>
          <a:xfrm>
            <a:off x="2631960" y="293760"/>
            <a:ext cx="7166160" cy="6275160"/>
          </a:xfrm>
          <a:prstGeom prst="rect">
            <a:avLst/>
          </a:prstGeom>
          <a:ln w="0">
            <a:noFill/>
          </a:ln>
        </p:spPr>
      </p:pic>
      <p:sp>
        <p:nvSpPr>
          <p:cNvPr id="82" name="矩形 9"/>
          <p:cNvSpPr/>
          <p:nvPr/>
        </p:nvSpPr>
        <p:spPr>
          <a:xfrm>
            <a:off x="0" y="2498760"/>
            <a:ext cx="12192120" cy="13827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179D-E2E7-4551-AAF1-AC6A68D9A75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4" descr=""/>
          <p:cNvPicPr/>
          <p:nvPr/>
        </p:nvPicPr>
        <p:blipFill>
          <a:blip r:embed="rId2"/>
          <a:stretch/>
        </p:blipFill>
        <p:spPr>
          <a:xfrm>
            <a:off x="0" y="-12600"/>
            <a:ext cx="12192120" cy="690084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5" descr=""/>
          <p:cNvPicPr/>
          <p:nvPr/>
        </p:nvPicPr>
        <p:blipFill>
          <a:blip r:embed="rId3"/>
          <a:srcRect l="73006" t="0" r="0" b="53188"/>
          <a:stretch/>
        </p:blipFill>
        <p:spPr>
          <a:xfrm>
            <a:off x="0" y="-905040"/>
            <a:ext cx="2313000" cy="321156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7" descr=""/>
          <p:cNvPicPr/>
          <p:nvPr/>
        </p:nvPicPr>
        <p:blipFill>
          <a:blip r:embed="rId4"/>
          <a:srcRect l="0" t="51264" r="75214" b="14816"/>
          <a:stretch/>
        </p:blipFill>
        <p:spPr>
          <a:xfrm rot="2437800">
            <a:off x="3470040" y="-127080"/>
            <a:ext cx="1095120" cy="12002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10" descr=""/>
          <p:cNvPicPr/>
          <p:nvPr/>
        </p:nvPicPr>
        <p:blipFill>
          <a:blip r:embed="rId5"/>
          <a:srcRect l="40279" t="0" r="27947" b="54523"/>
          <a:stretch/>
        </p:blipFill>
        <p:spPr>
          <a:xfrm rot="1719000">
            <a:off x="9354600" y="4119480"/>
            <a:ext cx="2722680" cy="311940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11" descr=""/>
          <p:cNvPicPr/>
          <p:nvPr/>
        </p:nvPicPr>
        <p:blipFill>
          <a:blip r:embed="rId6"/>
          <a:srcRect l="36364" t="50817" r="49291" b="29337"/>
          <a:stretch/>
        </p:blipFill>
        <p:spPr>
          <a:xfrm>
            <a:off x="8774280" y="5361120"/>
            <a:ext cx="1230120" cy="136044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12" descr=""/>
          <p:cNvPicPr/>
          <p:nvPr/>
        </p:nvPicPr>
        <p:blipFill>
          <a:blip r:embed="rId7"/>
          <a:srcRect l="90557" t="53931" r="0" b="33040"/>
          <a:stretch/>
        </p:blipFill>
        <p:spPr>
          <a:xfrm>
            <a:off x="10312560" y="6146640"/>
            <a:ext cx="809640" cy="89568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13" descr=""/>
          <p:cNvPicPr/>
          <p:nvPr/>
        </p:nvPicPr>
        <p:blipFill>
          <a:blip r:embed="rId8"/>
          <a:srcRect l="55939" t="51712" r="25457" b="2227"/>
          <a:stretch/>
        </p:blipFill>
        <p:spPr>
          <a:xfrm rot="19798800">
            <a:off x="11264760" y="5405040"/>
            <a:ext cx="747720" cy="148428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14" descr=""/>
          <p:cNvPicPr/>
          <p:nvPr/>
        </p:nvPicPr>
        <p:blipFill>
          <a:blip r:embed="rId9"/>
          <a:srcRect l="9685" t="-288" r="70753" b="76447"/>
          <a:stretch/>
        </p:blipFill>
        <p:spPr>
          <a:xfrm>
            <a:off x="173160" y="5678640"/>
            <a:ext cx="1676160" cy="163656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15" descr=""/>
          <p:cNvPicPr/>
          <p:nvPr/>
        </p:nvPicPr>
        <p:blipFill>
          <a:blip r:embed="rId10"/>
          <a:srcRect l="32690" t="81342" r="45264" b="0"/>
          <a:stretch/>
        </p:blipFill>
        <p:spPr>
          <a:xfrm>
            <a:off x="7223040" y="6041880"/>
            <a:ext cx="1263600" cy="85428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16" descr=""/>
          <p:cNvPicPr/>
          <p:nvPr/>
        </p:nvPicPr>
        <p:blipFill>
          <a:blip r:embed="rId11"/>
          <a:srcRect l="11224" t="34225" r="76684" b="51853"/>
          <a:stretch/>
        </p:blipFill>
        <p:spPr>
          <a:xfrm>
            <a:off x="2981160" y="6146640"/>
            <a:ext cx="1036800" cy="95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2"/>
    <p:sldLayoutId id="2147483689" r:id="rId13"/>
    <p:sldLayoutId id="2147483690" r:id="rId14"/>
    <p:sldLayoutId id="2147483691" r:id="rId15"/>
    <p:sldLayoutId id="2147483692" r:id="rId16"/>
    <p:sldLayoutId id="2147483693" r:id="rId17"/>
    <p:sldLayoutId id="2147483694" r:id="rId18"/>
    <p:sldLayoutId id="2147483695" r:id="rId19"/>
    <p:sldLayoutId id="2147483696" r:id="rId20"/>
    <p:sldLayoutId id="2147483697" r:id="rId21"/>
    <p:sldLayoutId id="2147483698" r:id="rId22"/>
    <p:sldLayoutId id="2147483699" r:id="rId2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6268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8" descr=""/>
          <p:cNvPicPr/>
          <p:nvPr/>
        </p:nvPicPr>
        <p:blipFill>
          <a:blip r:embed="rId3"/>
          <a:stretch/>
        </p:blipFill>
        <p:spPr>
          <a:xfrm>
            <a:off x="2631960" y="293760"/>
            <a:ext cx="7166160" cy="6275160"/>
          </a:xfrm>
          <a:prstGeom prst="rect">
            <a:avLst/>
          </a:prstGeom>
          <a:ln w="0">
            <a:noFill/>
          </a:ln>
        </p:spPr>
      </p:pic>
      <p:sp>
        <p:nvSpPr>
          <p:cNvPr id="170" name="矩形 9"/>
          <p:cNvSpPr/>
          <p:nvPr/>
        </p:nvSpPr>
        <p:spPr>
          <a:xfrm>
            <a:off x="0" y="2498760"/>
            <a:ext cx="12192120" cy="13827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D972-602F-4496-BF12-BAFC6BF41F7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80A6-1A6E-4D22-B6D1-B57EF261D4F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006C-9ED1-45C7-B34C-F072A090046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C8EA-9CA4-492E-84FA-3A5CDC1900F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01C6-25F5-433B-A54C-8D73EE0F61E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585960" y="2651040"/>
            <a:ext cx="46465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b050"/>
                </a:solidFill>
                <a:latin typeface="方正剪纸简体"/>
                <a:ea typeface="方正剪纸简体"/>
              </a:rPr>
              <a:t>请添加标题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4854600" y="3396960"/>
            <a:ext cx="21096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2d050"/>
                </a:solidFill>
                <a:latin typeface="方正剪纸简体"/>
                <a:ea typeface="方正剪纸简体"/>
              </a:rPr>
              <a:t>请添加作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0" name="图片 3" descr=""/>
          <p:cNvPicPr/>
          <p:nvPr/>
        </p:nvPicPr>
        <p:blipFill>
          <a:blip r:embed="rId1"/>
          <a:srcRect l="90557" t="53931" r="0" b="33040"/>
          <a:stretch/>
        </p:blipFill>
        <p:spPr>
          <a:xfrm>
            <a:off x="3586320" y="2541600"/>
            <a:ext cx="809640" cy="893880"/>
          </a:xfrm>
          <a:prstGeom prst="rect">
            <a:avLst/>
          </a:prstGeom>
          <a:ln w="0">
            <a:noFill/>
          </a:ln>
        </p:spPr>
      </p:pic>
      <p:pic>
        <p:nvPicPr>
          <p:cNvPr id="671" name="图片 4" descr=""/>
          <p:cNvPicPr/>
          <p:nvPr/>
        </p:nvPicPr>
        <p:blipFill>
          <a:blip r:embed="rId2"/>
          <a:srcRect l="55939" t="51712" r="25457" b="2227"/>
          <a:stretch/>
        </p:blipFill>
        <p:spPr>
          <a:xfrm rot="3466200">
            <a:off x="7261560" y="2458080"/>
            <a:ext cx="74772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直接连接符 74"/>
          <p:cNvSpPr/>
          <p:nvPr/>
        </p:nvSpPr>
        <p:spPr>
          <a:xfrm flipV="1">
            <a:off x="2152800" y="2420640"/>
            <a:ext cx="8291520" cy="28440"/>
          </a:xfrm>
          <a:prstGeom prst="line">
            <a:avLst/>
          </a:prstGeom>
          <a:ln w="63360">
            <a:solidFill>
              <a:srgbClr val="76717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直接连接符 75"/>
          <p:cNvSpPr/>
          <p:nvPr/>
        </p:nvSpPr>
        <p:spPr>
          <a:xfrm>
            <a:off x="317808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流程图: 准备 76"/>
          <p:cNvSpPr/>
          <p:nvPr/>
        </p:nvSpPr>
        <p:spPr>
          <a:xfrm>
            <a:off x="2482920" y="2193840"/>
            <a:ext cx="1390680" cy="463680"/>
          </a:xfrm>
          <a:prstGeom prst="flowChartPreparation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圆角矩形 77"/>
          <p:cNvSpPr/>
          <p:nvPr/>
        </p:nvSpPr>
        <p:spPr>
          <a:xfrm>
            <a:off x="2508120" y="2965320"/>
            <a:ext cx="1339920" cy="2422800"/>
          </a:xfrm>
          <a:custGeom>
            <a:avLst/>
            <a:gdLst>
              <a:gd name="textAreaLeft" fmla="*/ 65160 w 1339920"/>
              <a:gd name="textAreaRight" fmla="*/ 1274760 w 133992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52">
                <a:moveTo>
                  <a:pt x="3600" y="0"/>
                </a:moveTo>
                <a:arcTo wR="3600" hR="3600" stAng="16200000" swAng="-5400000"/>
                <a:lnTo>
                  <a:pt x="0" y="35452"/>
                </a:lnTo>
                <a:arcTo wR="3600" hR="3600" stAng="10800000" swAng="-5400000"/>
                <a:lnTo>
                  <a:pt x="18000" y="3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Text Box 39"/>
          <p:cNvSpPr/>
          <p:nvPr/>
        </p:nvSpPr>
        <p:spPr>
          <a:xfrm>
            <a:off x="2508120" y="3249720"/>
            <a:ext cx="133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b38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椭圆 79"/>
          <p:cNvSpPr/>
          <p:nvPr/>
        </p:nvSpPr>
        <p:spPr>
          <a:xfrm>
            <a:off x="3051000" y="2838600"/>
            <a:ext cx="254160" cy="253800"/>
          </a:xfrm>
          <a:prstGeom prst="ellipse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直接连接符 80"/>
          <p:cNvSpPr/>
          <p:nvPr/>
        </p:nvSpPr>
        <p:spPr>
          <a:xfrm>
            <a:off x="468324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流程图: 准备 81"/>
          <p:cNvSpPr/>
          <p:nvPr/>
        </p:nvSpPr>
        <p:spPr>
          <a:xfrm>
            <a:off x="3987720" y="2193840"/>
            <a:ext cx="1392480" cy="463680"/>
          </a:xfrm>
          <a:prstGeom prst="flowChartPreparation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圆角矩形 82"/>
          <p:cNvSpPr/>
          <p:nvPr/>
        </p:nvSpPr>
        <p:spPr>
          <a:xfrm>
            <a:off x="4013280" y="2965320"/>
            <a:ext cx="1339920" cy="2422800"/>
          </a:xfrm>
          <a:custGeom>
            <a:avLst/>
            <a:gdLst>
              <a:gd name="textAreaLeft" fmla="*/ 65160 w 1339920"/>
              <a:gd name="textAreaRight" fmla="*/ 1274760 w 133992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52">
                <a:moveTo>
                  <a:pt x="3600" y="0"/>
                </a:moveTo>
                <a:arcTo wR="3600" hR="3600" stAng="16200000" swAng="-5400000"/>
                <a:lnTo>
                  <a:pt x="0" y="35452"/>
                </a:lnTo>
                <a:arcTo wR="3600" hR="3600" stAng="10800000" swAng="-5400000"/>
                <a:lnTo>
                  <a:pt x="18000" y="3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Text Box 39"/>
          <p:cNvSpPr/>
          <p:nvPr/>
        </p:nvSpPr>
        <p:spPr>
          <a:xfrm>
            <a:off x="4013280" y="3249720"/>
            <a:ext cx="133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3a537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椭圆 84"/>
          <p:cNvSpPr/>
          <p:nvPr/>
        </p:nvSpPr>
        <p:spPr>
          <a:xfrm>
            <a:off x="4557600" y="2838600"/>
            <a:ext cx="252360" cy="253800"/>
          </a:xfrm>
          <a:prstGeom prst="ellipse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直接连接符 85"/>
          <p:cNvSpPr/>
          <p:nvPr/>
        </p:nvSpPr>
        <p:spPr>
          <a:xfrm>
            <a:off x="618984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流程图: 准备 86"/>
          <p:cNvSpPr/>
          <p:nvPr/>
        </p:nvSpPr>
        <p:spPr>
          <a:xfrm>
            <a:off x="5492880" y="2193840"/>
            <a:ext cx="1392120" cy="463680"/>
          </a:xfrm>
          <a:prstGeom prst="flowChartPreparation">
            <a:avLst/>
          </a:prstGeom>
          <a:solidFill>
            <a:srgbClr val="37a7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圆角矩形 87"/>
          <p:cNvSpPr/>
          <p:nvPr/>
        </p:nvSpPr>
        <p:spPr>
          <a:xfrm>
            <a:off x="5519880" y="2965320"/>
            <a:ext cx="1339560" cy="2422800"/>
          </a:xfrm>
          <a:custGeom>
            <a:avLst/>
            <a:gdLst>
              <a:gd name="textAreaLeft" fmla="*/ 65160 w 1339560"/>
              <a:gd name="textAreaRight" fmla="*/ 1274400 w 133956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62">
                <a:moveTo>
                  <a:pt x="3600" y="0"/>
                </a:moveTo>
                <a:arcTo wR="3600" hR="3600" stAng="16200000" swAng="-5400000"/>
                <a:lnTo>
                  <a:pt x="0" y="35462"/>
                </a:lnTo>
                <a:arcTo wR="3600" hR="3600" stAng="10800000" swAng="-5400000"/>
                <a:lnTo>
                  <a:pt x="18000" y="390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Text Box 39"/>
          <p:cNvSpPr/>
          <p:nvPr/>
        </p:nvSpPr>
        <p:spPr>
          <a:xfrm>
            <a:off x="5519880" y="3249720"/>
            <a:ext cx="13395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7a76f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椭圆 89"/>
          <p:cNvSpPr/>
          <p:nvPr/>
        </p:nvSpPr>
        <p:spPr>
          <a:xfrm>
            <a:off x="6062760" y="2838600"/>
            <a:ext cx="252360" cy="253800"/>
          </a:xfrm>
          <a:prstGeom prst="ellipse">
            <a:avLst/>
          </a:prstGeom>
          <a:solidFill>
            <a:srgbClr val="37a7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直接连接符 90"/>
          <p:cNvSpPr/>
          <p:nvPr/>
        </p:nvSpPr>
        <p:spPr>
          <a:xfrm>
            <a:off x="769464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流程图: 准备 91"/>
          <p:cNvSpPr/>
          <p:nvPr/>
        </p:nvSpPr>
        <p:spPr>
          <a:xfrm>
            <a:off x="6999120" y="2193840"/>
            <a:ext cx="1390680" cy="463680"/>
          </a:xfrm>
          <a:prstGeom prst="flowChartPreparation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圆角矩形 92"/>
          <p:cNvSpPr/>
          <p:nvPr/>
        </p:nvSpPr>
        <p:spPr>
          <a:xfrm>
            <a:off x="7024680" y="2965320"/>
            <a:ext cx="1339920" cy="2422800"/>
          </a:xfrm>
          <a:custGeom>
            <a:avLst/>
            <a:gdLst>
              <a:gd name="textAreaLeft" fmla="*/ 65160 w 1339920"/>
              <a:gd name="textAreaRight" fmla="*/ 1274760 w 133992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52">
                <a:moveTo>
                  <a:pt x="3600" y="0"/>
                </a:moveTo>
                <a:arcTo wR="3600" hR="3600" stAng="16200000" swAng="-5400000"/>
                <a:lnTo>
                  <a:pt x="0" y="35452"/>
                </a:lnTo>
                <a:arcTo wR="3600" hR="3600" stAng="10800000" swAng="-5400000"/>
                <a:lnTo>
                  <a:pt x="18000" y="3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Text Box 39"/>
          <p:cNvSpPr/>
          <p:nvPr/>
        </p:nvSpPr>
        <p:spPr>
          <a:xfrm>
            <a:off x="7024680" y="3249720"/>
            <a:ext cx="133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3a537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椭圆 94"/>
          <p:cNvSpPr/>
          <p:nvPr/>
        </p:nvSpPr>
        <p:spPr>
          <a:xfrm>
            <a:off x="7567560" y="2838600"/>
            <a:ext cx="254160" cy="253800"/>
          </a:xfrm>
          <a:prstGeom prst="ellipse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直接连接符 95"/>
          <p:cNvSpPr/>
          <p:nvPr/>
        </p:nvSpPr>
        <p:spPr>
          <a:xfrm>
            <a:off x="919944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流程图: 准备 96"/>
          <p:cNvSpPr/>
          <p:nvPr/>
        </p:nvSpPr>
        <p:spPr>
          <a:xfrm>
            <a:off x="8504280" y="2193840"/>
            <a:ext cx="1390680" cy="463680"/>
          </a:xfrm>
          <a:prstGeom prst="flowChartPreparation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圆角矩形 97"/>
          <p:cNvSpPr/>
          <p:nvPr/>
        </p:nvSpPr>
        <p:spPr>
          <a:xfrm>
            <a:off x="8529480" y="2965320"/>
            <a:ext cx="1339920" cy="2422800"/>
          </a:xfrm>
          <a:custGeom>
            <a:avLst/>
            <a:gdLst>
              <a:gd name="textAreaLeft" fmla="*/ 65160 w 1339920"/>
              <a:gd name="textAreaRight" fmla="*/ 1274760 w 133992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52">
                <a:moveTo>
                  <a:pt x="3600" y="0"/>
                </a:moveTo>
                <a:arcTo wR="3600" hR="3600" stAng="16200000" swAng="-5400000"/>
                <a:lnTo>
                  <a:pt x="0" y="35452"/>
                </a:lnTo>
                <a:arcTo wR="3600" hR="3600" stAng="10800000" swAng="-5400000"/>
                <a:lnTo>
                  <a:pt x="18000" y="3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Text Box 39"/>
          <p:cNvSpPr/>
          <p:nvPr/>
        </p:nvSpPr>
        <p:spPr>
          <a:xfrm>
            <a:off x="8529480" y="3249720"/>
            <a:ext cx="133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b38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椭圆 99"/>
          <p:cNvSpPr/>
          <p:nvPr/>
        </p:nvSpPr>
        <p:spPr>
          <a:xfrm>
            <a:off x="9072720" y="2838600"/>
            <a:ext cx="253800" cy="253800"/>
          </a:xfrm>
          <a:prstGeom prst="ellipse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32040" y="97740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2d050"/>
                </a:solidFill>
                <a:latin typeface="方正汉真广标简体"/>
                <a:ea typeface="方正汉真广标简体"/>
              </a:rPr>
              <a:t>请在这里输入您的标题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矩形 6"/>
          <p:cNvSpPr/>
          <p:nvPr/>
        </p:nvSpPr>
        <p:spPr>
          <a:xfrm>
            <a:off x="2828880" y="1417680"/>
            <a:ext cx="2050920" cy="4874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矩形 4"/>
          <p:cNvSpPr/>
          <p:nvPr/>
        </p:nvSpPr>
        <p:spPr>
          <a:xfrm>
            <a:off x="2352600" y="1417680"/>
            <a:ext cx="596880" cy="48744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TextBox 17"/>
          <p:cNvSpPr/>
          <p:nvPr/>
        </p:nvSpPr>
        <p:spPr>
          <a:xfrm>
            <a:off x="2828880" y="191304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矩形 6"/>
          <p:cNvSpPr/>
          <p:nvPr/>
        </p:nvSpPr>
        <p:spPr>
          <a:xfrm>
            <a:off x="3371760" y="2519280"/>
            <a:ext cx="2051280" cy="4874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矩形 4"/>
          <p:cNvSpPr/>
          <p:nvPr/>
        </p:nvSpPr>
        <p:spPr>
          <a:xfrm>
            <a:off x="2895480" y="2519280"/>
            <a:ext cx="596880" cy="48744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Box 17"/>
          <p:cNvSpPr/>
          <p:nvPr/>
        </p:nvSpPr>
        <p:spPr>
          <a:xfrm>
            <a:off x="3371760" y="301464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矩形 6"/>
          <p:cNvSpPr/>
          <p:nvPr/>
        </p:nvSpPr>
        <p:spPr>
          <a:xfrm>
            <a:off x="3857760" y="3621240"/>
            <a:ext cx="2050920" cy="4870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矩形 4"/>
          <p:cNvSpPr/>
          <p:nvPr/>
        </p:nvSpPr>
        <p:spPr>
          <a:xfrm>
            <a:off x="3381480" y="3621240"/>
            <a:ext cx="596880" cy="48708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Box 17"/>
          <p:cNvSpPr/>
          <p:nvPr/>
        </p:nvSpPr>
        <p:spPr>
          <a:xfrm>
            <a:off x="3857760" y="411624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矩形 6"/>
          <p:cNvSpPr/>
          <p:nvPr/>
        </p:nvSpPr>
        <p:spPr>
          <a:xfrm>
            <a:off x="4330800" y="4722840"/>
            <a:ext cx="2050920" cy="4874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矩形 4"/>
          <p:cNvSpPr/>
          <p:nvPr/>
        </p:nvSpPr>
        <p:spPr>
          <a:xfrm>
            <a:off x="3854520" y="4722840"/>
            <a:ext cx="596880" cy="48744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TextBox 17"/>
          <p:cNvSpPr/>
          <p:nvPr/>
        </p:nvSpPr>
        <p:spPr>
          <a:xfrm>
            <a:off x="4330800" y="521820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123920" y="5875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方正汉真广标简体"/>
                <a:ea typeface="方正汉真广标简体"/>
              </a:rPr>
              <a:t>请在这里输入您的标题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直接连接符 38"/>
          <p:cNvSpPr/>
          <p:nvPr/>
        </p:nvSpPr>
        <p:spPr>
          <a:xfrm flipH="1">
            <a:off x="3254040" y="3701880"/>
            <a:ext cx="647640" cy="1081080"/>
          </a:xfrm>
          <a:prstGeom prst="line">
            <a:avLst/>
          </a:prstGeom>
          <a:ln w="381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KSO_GT3.1"/>
          <p:cNvSpPr/>
          <p:nvPr/>
        </p:nvSpPr>
        <p:spPr>
          <a:xfrm>
            <a:off x="3902040" y="4089240"/>
            <a:ext cx="58658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KSO_GT3"/>
          <p:cNvSpPr/>
          <p:nvPr/>
        </p:nvSpPr>
        <p:spPr>
          <a:xfrm>
            <a:off x="3902040" y="3780000"/>
            <a:ext cx="5865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b38"/>
                </a:solidFill>
                <a:latin typeface="微软雅黑"/>
                <a:ea typeface="微软雅黑"/>
              </a:rPr>
              <a:t>请在此处输入您的小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KSO_GN3"/>
          <p:cNvSpPr/>
          <p:nvPr/>
        </p:nvSpPr>
        <p:spPr>
          <a:xfrm>
            <a:off x="2495520" y="3701880"/>
            <a:ext cx="9540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b38"/>
                </a:solidFill>
                <a:latin typeface="Arial"/>
                <a:ea typeface="Arial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直接连接符 42"/>
          <p:cNvSpPr/>
          <p:nvPr/>
        </p:nvSpPr>
        <p:spPr>
          <a:xfrm flipH="1">
            <a:off x="3254040" y="2557440"/>
            <a:ext cx="647640" cy="1079640"/>
          </a:xfrm>
          <a:prstGeom prst="line">
            <a:avLst/>
          </a:prstGeom>
          <a:ln w="381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KSO_GT2.1"/>
          <p:cNvSpPr/>
          <p:nvPr/>
        </p:nvSpPr>
        <p:spPr>
          <a:xfrm>
            <a:off x="3902040" y="2943360"/>
            <a:ext cx="58658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KSO_GT2"/>
          <p:cNvSpPr/>
          <p:nvPr/>
        </p:nvSpPr>
        <p:spPr>
          <a:xfrm>
            <a:off x="3902040" y="2633760"/>
            <a:ext cx="5865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3a537"/>
                </a:solidFill>
                <a:latin typeface="微软雅黑"/>
                <a:ea typeface="微软雅黑"/>
              </a:rPr>
              <a:t>请在此处输入您的小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KSO_GN2"/>
          <p:cNvSpPr/>
          <p:nvPr/>
        </p:nvSpPr>
        <p:spPr>
          <a:xfrm>
            <a:off x="2495520" y="2557440"/>
            <a:ext cx="954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3a537"/>
                </a:solidFill>
                <a:latin typeface="Arial"/>
                <a:ea typeface="Arial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直接连接符 46"/>
          <p:cNvSpPr/>
          <p:nvPr/>
        </p:nvSpPr>
        <p:spPr>
          <a:xfrm flipH="1">
            <a:off x="3254040" y="1411200"/>
            <a:ext cx="647640" cy="1081080"/>
          </a:xfrm>
          <a:prstGeom prst="line">
            <a:avLst/>
          </a:prstGeom>
          <a:ln w="381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KSO_GT1.1"/>
          <p:cNvSpPr/>
          <p:nvPr/>
        </p:nvSpPr>
        <p:spPr>
          <a:xfrm>
            <a:off x="3902040" y="1798560"/>
            <a:ext cx="58658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KSO_GT1"/>
          <p:cNvSpPr/>
          <p:nvPr/>
        </p:nvSpPr>
        <p:spPr>
          <a:xfrm>
            <a:off x="3902040" y="1488960"/>
            <a:ext cx="58658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b38"/>
                </a:solidFill>
                <a:latin typeface="微软雅黑"/>
                <a:ea typeface="微软雅黑"/>
              </a:rPr>
              <a:t>请在此处输入您的小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KSO_GN1"/>
          <p:cNvSpPr/>
          <p:nvPr/>
        </p:nvSpPr>
        <p:spPr>
          <a:xfrm>
            <a:off x="2495520" y="1411200"/>
            <a:ext cx="9540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b38"/>
                </a:solidFill>
                <a:latin typeface="Arial"/>
                <a:ea typeface="微软雅黑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直接连接符 50"/>
          <p:cNvSpPr/>
          <p:nvPr/>
        </p:nvSpPr>
        <p:spPr>
          <a:xfrm flipH="1">
            <a:off x="3254040" y="4848120"/>
            <a:ext cx="647640" cy="1079640"/>
          </a:xfrm>
          <a:prstGeom prst="line">
            <a:avLst/>
          </a:prstGeom>
          <a:ln w="381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KSO_GT3.1"/>
          <p:cNvSpPr/>
          <p:nvPr/>
        </p:nvSpPr>
        <p:spPr>
          <a:xfrm>
            <a:off x="3902040" y="5234040"/>
            <a:ext cx="58658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KSO_GT3"/>
          <p:cNvSpPr/>
          <p:nvPr/>
        </p:nvSpPr>
        <p:spPr>
          <a:xfrm>
            <a:off x="3902040" y="4924440"/>
            <a:ext cx="5865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3a537"/>
                </a:solidFill>
                <a:latin typeface="微软雅黑"/>
                <a:ea typeface="微软雅黑"/>
              </a:rPr>
              <a:t>请在此处输入您的小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KSO_GN3"/>
          <p:cNvSpPr/>
          <p:nvPr/>
        </p:nvSpPr>
        <p:spPr>
          <a:xfrm>
            <a:off x="2495520" y="4848120"/>
            <a:ext cx="954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3a537"/>
                </a:solidFill>
                <a:latin typeface="Arial"/>
                <a:ea typeface="Arial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879480" y="5763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48235"/>
                </a:solidFill>
                <a:latin typeface="方正汉真广标简体"/>
                <a:ea typeface="方正汉真广标简体"/>
              </a:rPr>
              <a:t>请在这里输入您的标题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矩形 38"/>
          <p:cNvSpPr/>
          <p:nvPr/>
        </p:nvSpPr>
        <p:spPr>
          <a:xfrm>
            <a:off x="2152800" y="3268800"/>
            <a:ext cx="7886520" cy="1681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TextBox 57"/>
          <p:cNvSpPr/>
          <p:nvPr/>
        </p:nvSpPr>
        <p:spPr>
          <a:xfrm>
            <a:off x="2924280" y="4319640"/>
            <a:ext cx="20113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定置的位置是提高工作效率的先决条件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矩形 2"/>
          <p:cNvSpPr/>
          <p:nvPr/>
        </p:nvSpPr>
        <p:spPr>
          <a:xfrm>
            <a:off x="3195720" y="2905200"/>
            <a:ext cx="1363680" cy="363600"/>
          </a:xfrm>
          <a:custGeom>
            <a:avLst/>
            <a:gdLst/>
            <a:ahLst/>
            <a:rect l="l" t="t" r="r" b="b"/>
            <a:pathLst>
              <a:path w="1363811" h="364765">
                <a:moveTo>
                  <a:pt x="352425" y="0"/>
                </a:moveTo>
                <a:lnTo>
                  <a:pt x="1363811" y="3175"/>
                </a:lnTo>
                <a:lnTo>
                  <a:pt x="1363811" y="364765"/>
                </a:lnTo>
                <a:lnTo>
                  <a:pt x="0" y="364765"/>
                </a:lnTo>
                <a:lnTo>
                  <a:pt x="352425" y="0"/>
                </a:lnTo>
                <a:close/>
              </a:path>
            </a:pathLst>
          </a:cu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等腰三角形 37"/>
          <p:cNvSpPr/>
          <p:nvPr/>
        </p:nvSpPr>
        <p:spPr>
          <a:xfrm flipV="1">
            <a:off x="3503520" y="3436200"/>
            <a:ext cx="755640" cy="801720"/>
          </a:xfrm>
          <a:prstGeom prst="triangle">
            <a:avLst>
              <a:gd name="adj" fmla="val 50000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矩形 2"/>
          <p:cNvSpPr/>
          <p:nvPr/>
        </p:nvSpPr>
        <p:spPr>
          <a:xfrm>
            <a:off x="5502240" y="2905200"/>
            <a:ext cx="1363680" cy="363600"/>
          </a:xfrm>
          <a:custGeom>
            <a:avLst/>
            <a:gdLst/>
            <a:ahLst/>
            <a:rect l="l" t="t" r="r" b="b"/>
            <a:pathLst>
              <a:path w="1363811" h="364765">
                <a:moveTo>
                  <a:pt x="352425" y="0"/>
                </a:moveTo>
                <a:lnTo>
                  <a:pt x="1363811" y="3175"/>
                </a:lnTo>
                <a:lnTo>
                  <a:pt x="1363811" y="364765"/>
                </a:lnTo>
                <a:lnTo>
                  <a:pt x="0" y="364765"/>
                </a:lnTo>
                <a:lnTo>
                  <a:pt x="352425" y="0"/>
                </a:lnTo>
                <a:close/>
              </a:path>
            </a:pathLst>
          </a:cu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等腰三角形 69"/>
          <p:cNvSpPr/>
          <p:nvPr/>
        </p:nvSpPr>
        <p:spPr>
          <a:xfrm flipV="1">
            <a:off x="5811840" y="3436200"/>
            <a:ext cx="755640" cy="801720"/>
          </a:xfrm>
          <a:prstGeom prst="triangle">
            <a:avLst>
              <a:gd name="adj" fmla="val 50000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矩形 2"/>
          <p:cNvSpPr/>
          <p:nvPr/>
        </p:nvSpPr>
        <p:spPr>
          <a:xfrm>
            <a:off x="7810560" y="2905200"/>
            <a:ext cx="1363680" cy="363600"/>
          </a:xfrm>
          <a:custGeom>
            <a:avLst/>
            <a:gdLst/>
            <a:ahLst/>
            <a:rect l="l" t="t" r="r" b="b"/>
            <a:pathLst>
              <a:path w="1363811" h="364765">
                <a:moveTo>
                  <a:pt x="352425" y="0"/>
                </a:moveTo>
                <a:lnTo>
                  <a:pt x="1363811" y="3175"/>
                </a:lnTo>
                <a:lnTo>
                  <a:pt x="1363811" y="364765"/>
                </a:lnTo>
                <a:lnTo>
                  <a:pt x="0" y="364765"/>
                </a:lnTo>
                <a:lnTo>
                  <a:pt x="352425" y="0"/>
                </a:lnTo>
                <a:close/>
              </a:path>
            </a:pathLst>
          </a:cu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等腰三角形 74"/>
          <p:cNvSpPr/>
          <p:nvPr/>
        </p:nvSpPr>
        <p:spPr>
          <a:xfrm flipV="1">
            <a:off x="8118360" y="3436200"/>
            <a:ext cx="757440" cy="801720"/>
          </a:xfrm>
          <a:prstGeom prst="triangle">
            <a:avLst>
              <a:gd name="adj" fmla="val 50000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任意多边形 78"/>
          <p:cNvSpPr/>
          <p:nvPr/>
        </p:nvSpPr>
        <p:spPr>
          <a:xfrm>
            <a:off x="3125880" y="2727360"/>
            <a:ext cx="1674720" cy="1457280"/>
          </a:xfrm>
          <a:prstGeom prst="pie">
            <a:avLst/>
          </a:prstGeom>
          <a:solidFill>
            <a:srgbClr val="ed65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效率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直角三角形 3"/>
          <p:cNvSpPr/>
          <p:nvPr/>
        </p:nvSpPr>
        <p:spPr>
          <a:xfrm flipH="1">
            <a:off x="3522600" y="1917720"/>
            <a:ext cx="1028880" cy="996840"/>
          </a:xfrm>
          <a:prstGeom prst="pie">
            <a:avLst/>
          </a:pr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28800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3c1f"/>
                </a:solidFill>
                <a:latin typeface="Calibri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任意多边形 79"/>
          <p:cNvSpPr/>
          <p:nvPr/>
        </p:nvSpPr>
        <p:spPr>
          <a:xfrm>
            <a:off x="5429160" y="2727360"/>
            <a:ext cx="1675080" cy="1457280"/>
          </a:xfrm>
          <a:prstGeom prst="pie">
            <a:avLst/>
          </a:prstGeom>
          <a:solidFill>
            <a:srgbClr val="ed65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持久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任意多边形 80"/>
          <p:cNvSpPr/>
          <p:nvPr/>
        </p:nvSpPr>
        <p:spPr>
          <a:xfrm>
            <a:off x="7732800" y="2727360"/>
            <a:ext cx="1674720" cy="1457280"/>
          </a:xfrm>
          <a:prstGeom prst="pie">
            <a:avLst/>
          </a:prstGeom>
          <a:solidFill>
            <a:srgbClr val="ed65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直角三角形 3"/>
          <p:cNvSpPr/>
          <p:nvPr/>
        </p:nvSpPr>
        <p:spPr>
          <a:xfrm flipH="1">
            <a:off x="5830200" y="1917720"/>
            <a:ext cx="1028520" cy="996840"/>
          </a:xfrm>
          <a:prstGeom prst="pie">
            <a:avLst/>
          </a:pr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28800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3c1f"/>
                </a:solidFill>
                <a:latin typeface="Calibri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直角三角形 3"/>
          <p:cNvSpPr/>
          <p:nvPr/>
        </p:nvSpPr>
        <p:spPr>
          <a:xfrm flipH="1">
            <a:off x="8137440" y="1917720"/>
            <a:ext cx="1030320" cy="996840"/>
          </a:xfrm>
          <a:prstGeom prst="pie">
            <a:avLst/>
          </a:pr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28800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3c1f"/>
                </a:solidFill>
                <a:latin typeface="Calibri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Box 57"/>
          <p:cNvSpPr/>
          <p:nvPr/>
        </p:nvSpPr>
        <p:spPr>
          <a:xfrm>
            <a:off x="5261040" y="4319640"/>
            <a:ext cx="20113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人性化，全球遵守与保持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TextBox 57"/>
          <p:cNvSpPr/>
          <p:nvPr/>
        </p:nvSpPr>
        <p:spPr>
          <a:xfrm>
            <a:off x="7597800" y="4319640"/>
            <a:ext cx="20098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管理理念适应现场场景，展示让人舒服、感动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54120" y="9604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d655f"/>
                </a:solidFill>
                <a:latin typeface="方正汉真广标简体"/>
                <a:ea typeface="方正汉真广标简体"/>
              </a:rPr>
              <a:t>6S</a:t>
            </a:r>
            <a:r>
              <a:rPr b="0" lang="zh-CN" sz="4000" spc="-1" strike="noStrike">
                <a:solidFill>
                  <a:srgbClr val="ed655f"/>
                </a:solidFill>
                <a:latin typeface="方正汉真广标简体"/>
                <a:ea typeface="方正汉真广标简体"/>
              </a:rPr>
              <a:t>管理实施原则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标题 5"/>
          <p:cNvSpPr/>
          <p:nvPr/>
        </p:nvSpPr>
        <p:spPr>
          <a:xfrm>
            <a:off x="2771640" y="1360440"/>
            <a:ext cx="592632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方正汉真广标简体"/>
                <a:ea typeface="方正汉真广标简体"/>
              </a:rPr>
              <a:t>请在这里输入您的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文本框 3"/>
          <p:cNvSpPr/>
          <p:nvPr/>
        </p:nvSpPr>
        <p:spPr>
          <a:xfrm>
            <a:off x="2144880" y="2517840"/>
            <a:ext cx="7677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请输入内容 请输入内容 请输入内容 请输入内容 请输入内容 请输入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请输入内容 请输入内容 请输入内容 请输入内容 请输入内容 请输入内容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请输入内容 请输入内容 请输入内容 请输入内容 请输入内容 请输入内容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请输入内容 请输入内容 请输入内容 请输入内容 请输入内容 请输入内容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请输入内容 请输入内容 请输入内容 请输入内容 请输入内容 请输入内容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请输入内容 请输入内容 请输入内容 请输入内容 请输入内容 请输入内容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请输入内容 请输入内容 请输入内容 请输入内容 请输入内容 请输入内容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请输入内容 请输入内容 请输入内容 请输入内容 请输入内容 请输入内容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文本框 2"/>
          <p:cNvSpPr/>
          <p:nvPr/>
        </p:nvSpPr>
        <p:spPr>
          <a:xfrm>
            <a:off x="4583160" y="2776680"/>
            <a:ext cx="330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f4e79"/>
                </a:solidFill>
                <a:latin typeface="方正剪纸简体"/>
                <a:ea typeface="方正剪纸简体"/>
              </a:rPr>
              <a:t>谢谢</a:t>
            </a:r>
            <a:r>
              <a:rPr b="0" lang="en-US" sz="4400" spc="-1" strike="noStrike">
                <a:solidFill>
                  <a:srgbClr val="1f4e79"/>
                </a:solidFill>
                <a:latin typeface="方正剪纸简体"/>
                <a:ea typeface="方正剪纸简体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9" name="图片 3" descr=""/>
          <p:cNvPicPr/>
          <p:nvPr/>
        </p:nvPicPr>
        <p:blipFill>
          <a:blip r:embed="rId1"/>
          <a:srcRect l="36368" t="50816" r="49295" b="29339"/>
          <a:stretch/>
        </p:blipFill>
        <p:spPr>
          <a:xfrm>
            <a:off x="6513480" y="2465280"/>
            <a:ext cx="7923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任意多边形 2"/>
          <p:cNvSpPr/>
          <p:nvPr/>
        </p:nvSpPr>
        <p:spPr>
          <a:xfrm>
            <a:off x="2243160" y="2946240"/>
            <a:ext cx="596880" cy="657360"/>
          </a:xfrm>
          <a:custGeom>
            <a:avLst/>
            <a:gdLst/>
            <a:ahLst/>
            <a:rect l="l" t="t" r="r" b="b"/>
            <a:pathLst>
              <a:path w="576448" h="576263">
                <a:moveTo>
                  <a:pt x="0" y="0"/>
                </a:moveTo>
                <a:lnTo>
                  <a:pt x="575933" y="576263"/>
                </a:lnTo>
                <a:cubicBezTo>
                  <a:pt x="577576" y="384175"/>
                  <a:pt x="574620" y="192088"/>
                  <a:pt x="57626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194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矩形 3"/>
          <p:cNvSpPr/>
          <p:nvPr/>
        </p:nvSpPr>
        <p:spPr>
          <a:xfrm>
            <a:off x="2832120" y="2949480"/>
            <a:ext cx="9360000" cy="657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ypppt.com    </a:t>
            </a:r>
            <a:r>
              <a:rPr b="0" lang="en-US" sz="2800" spc="-1" strike="noStrike">
                <a:solidFill>
                  <a:srgbClr val="ffffff"/>
                </a:solidFill>
                <a:latin typeface="幼圆"/>
                <a:ea typeface="幼圆"/>
              </a:rPr>
              <a:t> </a:t>
            </a:r>
            <a:r>
              <a:rPr b="0" lang="en-US" sz="2800" spc="-1" strike="noStrike">
                <a:solidFill>
                  <a:srgbClr val="ceeab0"/>
                </a:solidFill>
                <a:latin typeface="幼圆"/>
                <a:ea typeface="幼圆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矩形 6"/>
          <p:cNvSpPr/>
          <p:nvPr/>
        </p:nvSpPr>
        <p:spPr>
          <a:xfrm>
            <a:off x="0" y="2182680"/>
            <a:ext cx="9312120" cy="774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精品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资源尽在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品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直角三角形 5"/>
          <p:cNvSpPr/>
          <p:nvPr/>
        </p:nvSpPr>
        <p:spPr>
          <a:xfrm>
            <a:off x="9312120" y="2178000"/>
            <a:ext cx="854280" cy="779400"/>
          </a:xfrm>
          <a:prstGeom prst="rtTriangle">
            <a:avLst/>
          </a:prstGeom>
          <a:solidFill>
            <a:srgbClr val="007c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矩形 11"/>
          <p:cNvSpPr/>
          <p:nvPr/>
        </p:nvSpPr>
        <p:spPr>
          <a:xfrm>
            <a:off x="2581200" y="3921120"/>
            <a:ext cx="690732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moban/         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jier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beijing/          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tub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sucai/            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下载：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jiaocheng/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3T06:39:49Z</dcterms:created>
  <dc:creator>Administrator</dc:creator>
  <dc:description/>
  <dc:language>en-US</dc:language>
  <cp:lastModifiedBy>Administrator</cp:lastModifiedBy>
  <dcterms:modified xsi:type="dcterms:W3CDTF">2015-05-22T05:50:12Z</dcterms:modified>
  <cp:revision>10</cp:revision>
  <dc:subject/>
  <dc:title>PowerPoint 演示文稿</dc:title>
</cp:coreProperties>
</file>