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F118B-0FE1-4443-8041-30525F08B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E11C6-A0A1-402B-8242-F797D813C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DCB87-EDD2-444A-8BB6-DD4599132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46279-31C6-445A-9A89-5701A2D9E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914ADE-B883-4097-81E5-01438C44F9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3536E-751B-4E5A-84F4-909D13B72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8FAAC-4E95-45F4-9750-737A33247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A9DA9-3E24-476D-B850-15D8CE897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657BD-895F-47A0-A40D-37881DBB0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D7672-47AE-4DB6-8AEB-F1B82CE98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F846E-0A0F-4B2C-B0FF-4539E1236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63398-F74C-42CF-A2AC-F3312AF71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B59A2-A252-4225-81A5-16F87F5D7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F7017-164C-426F-80F1-BEDAC36CE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4BE1D-81A7-4B21-B53A-16B399F7E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326FC7-879A-4740-8E8D-B5D48AB2FD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95962-D75F-4837-8C79-36A519D39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FA737-5FB1-422B-820D-8242FF6E6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E64AC-D48F-4261-939B-AB0CB1DA5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ACD0D-EE88-48DD-ACBB-9A2F5D270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56EEF-6E32-4C49-A136-8CFD8C76F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9406A-727F-4246-BA15-7019413D2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4322C-6198-4F0A-8C3D-200E9ED58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A700B-288A-4838-A9FC-8CD10EEDB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1494-779E-4D4A-9567-E739166A8F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DA8C5-886B-4B75-9DB6-0EA29C36BA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4267080" y="838080"/>
            <a:ext cx="5029200" cy="60984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ation Subtitle</a:t>
            </a:r>
            <a:endParaRPr b="0" lang="en-US" sz="2400" spc="-1" strike="noStrike">
              <a:solidFill>
                <a:srgbClr val="000000"/>
              </a:solidFill>
              <a:latin typeface="Calibri"/>
            </a:endParaRPr>
          </a:p>
        </p:txBody>
      </p:sp>
      <p:sp>
        <p:nvSpPr>
          <p:cNvPr id="83" name="PlaceHolder 2"/>
          <p:cNvSpPr>
            <a:spLocks noGrp="1"/>
          </p:cNvSpPr>
          <p:nvPr>
            <p:ph type="title"/>
          </p:nvPr>
        </p:nvSpPr>
        <p:spPr>
          <a:xfrm>
            <a:off x="4038480" y="228240"/>
            <a:ext cx="5486400" cy="6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esentation Title</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80520" y="990360"/>
            <a:ext cx="6782040" cy="5135400"/>
          </a:xfrm>
          <a:prstGeom prst="rect">
            <a:avLst/>
          </a:prstGeom>
          <a:noFill/>
          <a:ln w="0">
            <a:noFill/>
          </a:ln>
        </p:spPr>
        <p:txBody>
          <a:bodyPr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1"/>
          <p:cNvSpPr>
            <a:spLocks noGrp="1"/>
          </p:cNvSpPr>
          <p:nvPr>
            <p:ph type="title"/>
          </p:nvPr>
        </p:nvSpPr>
        <p:spPr>
          <a:xfrm>
            <a:off x="380520" y="147240"/>
            <a:ext cx="67820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lide Master</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int Master</a:t>
            </a:r>
            <a:endParaRPr b="1" lang="en-US" sz="3200" spc="-1" strike="noStrike">
              <a:solidFill>
                <a:srgbClr val="000000"/>
              </a:solidFill>
              <a:latin typeface="Tahoma"/>
            </a:endParaRPr>
          </a:p>
        </p:txBody>
      </p:sp>
      <p:sp>
        <p:nvSpPr>
          <p:cNvPr id="87" name=""/>
          <p:cNvSpPr txBox="1"/>
          <p:nvPr/>
        </p:nvSpPr>
        <p:spPr>
          <a:xfrm>
            <a:off x="1980720" y="1600200"/>
            <a:ext cx="67057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user51</dc:creator>
  <dc:description/>
  <dc:language>en-US</dc:language>
  <cp:lastModifiedBy>Administrator</cp:lastModifiedBy>
  <dcterms:modified xsi:type="dcterms:W3CDTF">2016-03-25T21:42:08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