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02DC-22D2-44A8-A5F7-541B43529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F994-CEE4-42DA-9F80-254365BEA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8653-F92E-4858-883B-BFD523873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BDF5-D816-44AF-86F7-865DB2229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7C57-F745-40F6-BE89-020D8EFE1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5F36-CF3E-4442-94EF-A65DE8F115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6811-D99B-4CF4-80B3-DDDACD3B51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E6F8-2914-40A7-99AA-2C9F42D0A5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7535-F2B4-46BB-9471-AE954ED8FB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AC51-E460-4B85-963A-DC12F6B0E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707D-148E-432F-B104-4E761A9A0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249F-8F35-427D-8076-A0B0283CC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8C80DAA-2D02-4275-BE66-ACC6BE1446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3"/>
          <p:cNvPicPr/>
          <p:nvPr/>
        </p:nvPicPr>
        <p:blipFill>
          <a:blip r:embed="rId2"/>
          <a:stretch/>
        </p:blipFill>
        <p:spPr>
          <a:xfrm>
            <a:off x="-1764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0764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00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22353BC-D6FF-441F-98A6-26B7A9FDF0F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 txBox="1"/>
          <p:nvPr/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内容占位符 3" descr=""/>
          <p:cNvPicPr/>
          <p:nvPr/>
        </p:nvPicPr>
        <p:blipFill>
          <a:blip r:embed="rId1"/>
          <a:stretch/>
        </p:blipFill>
        <p:spPr>
          <a:xfrm>
            <a:off x="-36360" y="0"/>
            <a:ext cx="3781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" y="1125360"/>
            <a:ext cx="820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82560" y="4694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dministrator</cp:lastModifiedBy>
  <dcterms:modified xsi:type="dcterms:W3CDTF">2016-03-25T21:41:37Z</dcterms:modified>
  <cp:revision>2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