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8B84-CA9F-43B5-9D4A-9D1645B54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6DE4-068D-4AF3-9998-781021F8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81C-3E36-44C7-B01C-601675B5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74B5-1011-48B6-891F-FDE8229A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0A53-C3B2-4C82-9879-21FA9D95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5EF-6703-48E3-BB0D-10606081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D84A-7C9F-47F2-86DE-65E442E4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697A-6B66-41DE-B828-483AF6E9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BA7B-AB61-4B5A-9EC4-0EFF087C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5E3-C7CF-40E0-AF64-3356DF35F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3E2-959D-4448-949D-F0B5808E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F8AB-D6BA-4072-87B8-80EBFCD9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57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42AA2D-607A-45BB-8EF9-507DE09B4B0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10444-68CD-4B15-A895-E786771E9A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9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0" descr=""/>
          <p:cNvPicPr/>
          <p:nvPr/>
        </p:nvPicPr>
        <p:blipFill>
          <a:blip r:embed="rId2"/>
          <a:stretch/>
        </p:blipFill>
        <p:spPr>
          <a:xfrm>
            <a:off x="0" y="2185920"/>
            <a:ext cx="9144000" cy="59076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1" descr=""/>
          <p:cNvPicPr/>
          <p:nvPr/>
        </p:nvPicPr>
        <p:blipFill>
          <a:blip r:embed="rId3"/>
          <a:stretch/>
        </p:blipFill>
        <p:spPr>
          <a:xfrm>
            <a:off x="5759280" y="1492200"/>
            <a:ext cx="3021120" cy="119556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2"/>
          <p:cNvSpPr/>
          <p:nvPr/>
        </p:nvSpPr>
        <p:spPr>
          <a:xfrm>
            <a:off x="1281600" y="1494000"/>
            <a:ext cx="34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</a:rPr>
              <a:t>Simple , Powerful and f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6"/>
          <p:cNvSpPr/>
          <p:nvPr/>
        </p:nvSpPr>
        <p:spPr>
          <a:xfrm>
            <a:off x="1467720" y="1827360"/>
            <a:ext cx="1776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alibri"/>
                <a:ea typeface="微软雅黑"/>
              </a:rPr>
              <a:t>WPS office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让办公更轻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17"/>
          <p:cNvSpPr/>
          <p:nvPr/>
        </p:nvSpPr>
        <p:spPr>
          <a:xfrm>
            <a:off x="1292400" y="2173320"/>
            <a:ext cx="42336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40M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轻巧体积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1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分钟下载安装，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indows\Linux\Mac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多平台支持，全面兼容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Microsoft Office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文档格式，并提供营养丰富的海量文档资源。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为您带来轻松愉悦的办公体验，每天已有</a:t>
            </a:r>
            <a:r>
              <a:rPr b="0" lang="en-US" sz="700" spc="-1" strike="noStrike">
                <a:solidFill>
                  <a:srgbClr val="ffffff"/>
                </a:solidFill>
                <a:latin typeface="Arial"/>
                <a:ea typeface="微软雅黑"/>
              </a:rPr>
              <a:t>850</a:t>
            </a:r>
            <a:r>
              <a:rPr b="0" lang="zh-CN" sz="700" spc="-1" strike="noStrike">
                <a:solidFill>
                  <a:srgbClr val="ffffff"/>
                </a:solidFill>
                <a:latin typeface="Arial"/>
                <a:ea typeface="微软雅黑"/>
              </a:rPr>
              <a:t>万人在使用它，你还不快试试？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18"/>
          <p:cNvSpPr/>
          <p:nvPr/>
        </p:nvSpPr>
        <p:spPr>
          <a:xfrm>
            <a:off x="428400" y="4559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Kingsoft Office Corporation © 2008-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19" descr=""/>
          <p:cNvPicPr/>
          <p:nvPr/>
        </p:nvPicPr>
        <p:blipFill>
          <a:blip r:embed="rId4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  <p:sp>
        <p:nvSpPr>
          <p:cNvPr id="49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4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6" descr=""/>
          <p:cNvPicPr/>
          <p:nvPr/>
        </p:nvPicPr>
        <p:blipFill>
          <a:blip r:embed="rId2"/>
          <a:stretch/>
        </p:blipFill>
        <p:spPr>
          <a:xfrm>
            <a:off x="2101680" y="1373040"/>
            <a:ext cx="6537600" cy="100080"/>
          </a:xfrm>
          <a:prstGeom prst="rect">
            <a:avLst/>
          </a:prstGeom>
          <a:ln w="0">
            <a:noFill/>
          </a:ln>
        </p:spPr>
      </p:pic>
      <p:sp>
        <p:nvSpPr>
          <p:cNvPr id="52" name="矩形 8"/>
          <p:cNvSpPr/>
          <p:nvPr/>
        </p:nvSpPr>
        <p:spPr>
          <a:xfrm>
            <a:off x="3036960" y="1562040"/>
            <a:ext cx="357120" cy="3650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2"/>
          <p:cNvSpPr/>
          <p:nvPr/>
        </p:nvSpPr>
        <p:spPr>
          <a:xfrm>
            <a:off x="3036960" y="2006640"/>
            <a:ext cx="357120" cy="365040"/>
          </a:xfrm>
          <a:prstGeom prst="rect">
            <a:avLst/>
          </a:prstGeom>
          <a:solidFill>
            <a:srgbClr val="0931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3"/>
          <p:cNvSpPr/>
          <p:nvPr/>
        </p:nvSpPr>
        <p:spPr>
          <a:xfrm>
            <a:off x="3036960" y="2444760"/>
            <a:ext cx="357120" cy="365040"/>
          </a:xfrm>
          <a:prstGeom prst="rect">
            <a:avLst/>
          </a:prstGeom>
          <a:solidFill>
            <a:srgbClr val="e36c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4"/>
          <p:cNvSpPr/>
          <p:nvPr/>
        </p:nvSpPr>
        <p:spPr>
          <a:xfrm>
            <a:off x="3036960" y="2897280"/>
            <a:ext cx="357120" cy="365040"/>
          </a:xfrm>
          <a:prstGeom prst="rect">
            <a:avLst/>
          </a:prstGeom>
          <a:solidFill>
            <a:srgbClr val="20d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15"/>
          <p:cNvSpPr/>
          <p:nvPr/>
        </p:nvSpPr>
        <p:spPr>
          <a:xfrm>
            <a:off x="5663880" y="9936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Catalog</a:t>
            </a: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目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6" descr=""/>
          <p:cNvPicPr/>
          <p:nvPr/>
        </p:nvPicPr>
        <p:blipFill>
          <a:blip r:embed="rId3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58" name="五角星 17"/>
          <p:cNvSpPr/>
          <p:nvPr/>
        </p:nvSpPr>
        <p:spPr>
          <a:xfrm>
            <a:off x="3116160" y="1649520"/>
            <a:ext cx="190440" cy="190440"/>
          </a:xfrm>
          <a:custGeom>
            <a:avLst/>
            <a:gdLst/>
            <a:ahLst/>
            <a:rect l="l" t="t" r="r" b="b"/>
            <a:pathLst>
              <a:path w="190500" h="190500">
                <a:moveTo>
                  <a:pt x="0" y="72764"/>
                </a:moveTo>
                <a:lnTo>
                  <a:pt x="72765" y="72765"/>
                </a:lnTo>
                <a:lnTo>
                  <a:pt x="95250" y="0"/>
                </a:lnTo>
                <a:lnTo>
                  <a:pt x="117735" y="72765"/>
                </a:lnTo>
                <a:lnTo>
                  <a:pt x="190500" y="72764"/>
                </a:lnTo>
                <a:lnTo>
                  <a:pt x="131632" y="117735"/>
                </a:lnTo>
                <a:lnTo>
                  <a:pt x="154118" y="190500"/>
                </a:lnTo>
                <a:lnTo>
                  <a:pt x="95250" y="145528"/>
                </a:lnTo>
                <a:lnTo>
                  <a:pt x="36382" y="190500"/>
                </a:lnTo>
                <a:lnTo>
                  <a:pt x="58868" y="117735"/>
                </a:lnTo>
                <a:lnTo>
                  <a:pt x="0" y="727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1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2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文本框 21"/>
          <p:cNvSpPr/>
          <p:nvPr/>
        </p:nvSpPr>
        <p:spPr>
          <a:xfrm>
            <a:off x="2800080" y="14889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文本框 22"/>
          <p:cNvSpPr/>
          <p:nvPr/>
        </p:nvSpPr>
        <p:spPr>
          <a:xfrm>
            <a:off x="2800080" y="19270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文本框 23"/>
          <p:cNvSpPr/>
          <p:nvPr/>
        </p:nvSpPr>
        <p:spPr>
          <a:xfrm>
            <a:off x="2800080" y="237960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24"/>
          <p:cNvSpPr/>
          <p:nvPr/>
        </p:nvSpPr>
        <p:spPr>
          <a:xfrm>
            <a:off x="2800080" y="28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25"/>
          <p:cNvSpPr/>
          <p:nvPr/>
        </p:nvSpPr>
        <p:spPr>
          <a:xfrm>
            <a:off x="3594960" y="1612800"/>
            <a:ext cx="192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26"/>
          <p:cNvSpPr/>
          <p:nvPr/>
        </p:nvSpPr>
        <p:spPr>
          <a:xfrm>
            <a:off x="3565800" y="2035080"/>
            <a:ext cx="88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Writer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27"/>
          <p:cNvSpPr/>
          <p:nvPr/>
        </p:nvSpPr>
        <p:spPr>
          <a:xfrm>
            <a:off x="3526920" y="2487600"/>
            <a:ext cx="136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resentation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28"/>
          <p:cNvSpPr/>
          <p:nvPr/>
        </p:nvSpPr>
        <p:spPr>
          <a:xfrm>
            <a:off x="3518280" y="2924280"/>
            <a:ext cx="136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Spreadsheet </a:t>
            </a: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表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71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72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11"/>
          <p:cNvSpPr/>
          <p:nvPr/>
        </p:nvSpPr>
        <p:spPr>
          <a:xfrm>
            <a:off x="5073480" y="1219320"/>
            <a:ext cx="879480" cy="896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12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3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4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五角星 15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图片 16" descr=""/>
          <p:cNvPicPr/>
          <p:nvPr/>
        </p:nvPicPr>
        <p:blipFill>
          <a:blip r:embed="rId3"/>
          <a:stretch/>
        </p:blipFill>
        <p:spPr>
          <a:xfrm>
            <a:off x="2008080" y="1219320"/>
            <a:ext cx="2871720" cy="2809800"/>
          </a:xfrm>
          <a:prstGeom prst="rect">
            <a:avLst/>
          </a:prstGeom>
          <a:ln w="0">
            <a:noFill/>
          </a:ln>
        </p:spPr>
      </p:pic>
      <p:sp>
        <p:nvSpPr>
          <p:cNvPr id="80" name="文本框 17"/>
          <p:cNvSpPr/>
          <p:nvPr/>
        </p:nvSpPr>
        <p:spPr>
          <a:xfrm>
            <a:off x="2206080" y="1335240"/>
            <a:ext cx="2359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WPS Office 2012 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新功能介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8"/>
          <p:cNvSpPr/>
          <p:nvPr/>
        </p:nvSpPr>
        <p:spPr>
          <a:xfrm>
            <a:off x="2100600" y="1596960"/>
            <a:ext cx="12139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300" spc="-1" strike="noStrike">
                <a:solidFill>
                  <a:srgbClr val="bfbfbf"/>
                </a:solidFill>
                <a:latin typeface="Arial"/>
                <a:ea typeface="微软雅黑"/>
              </a:rPr>
              <a:t>New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19"/>
          <p:cNvSpPr/>
          <p:nvPr/>
        </p:nvSpPr>
        <p:spPr>
          <a:xfrm>
            <a:off x="2448360" y="2065320"/>
            <a:ext cx="1256040" cy="20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WPS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表格新引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文件保险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直接转换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DOC</a:t>
            </a: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格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高亮显示引用单元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在线设计模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多种界面配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支持文档并排窗口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自定义快速访问工具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1"/>
          <p:cNvSpPr/>
          <p:nvPr/>
        </p:nvSpPr>
        <p:spPr>
          <a:xfrm>
            <a:off x="2266920" y="2228760"/>
            <a:ext cx="44640" cy="4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2"/>
          <p:cNvSpPr/>
          <p:nvPr/>
        </p:nvSpPr>
        <p:spPr>
          <a:xfrm>
            <a:off x="2266920" y="244152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3"/>
          <p:cNvSpPr/>
          <p:nvPr/>
        </p:nvSpPr>
        <p:spPr>
          <a:xfrm>
            <a:off x="2266920" y="26542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4"/>
          <p:cNvSpPr/>
          <p:nvPr/>
        </p:nvSpPr>
        <p:spPr>
          <a:xfrm>
            <a:off x="2266920" y="286848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25"/>
          <p:cNvSpPr/>
          <p:nvPr/>
        </p:nvSpPr>
        <p:spPr>
          <a:xfrm>
            <a:off x="2266920" y="308124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6"/>
          <p:cNvSpPr/>
          <p:nvPr/>
        </p:nvSpPr>
        <p:spPr>
          <a:xfrm>
            <a:off x="2266920" y="3295800"/>
            <a:ext cx="44640" cy="4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7"/>
          <p:cNvSpPr/>
          <p:nvPr/>
        </p:nvSpPr>
        <p:spPr>
          <a:xfrm>
            <a:off x="2266920" y="350820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8"/>
          <p:cNvSpPr/>
          <p:nvPr/>
        </p:nvSpPr>
        <p:spPr>
          <a:xfrm>
            <a:off x="2266920" y="3722760"/>
            <a:ext cx="44640" cy="4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94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6"/>
          <p:cNvGrpSpPr/>
          <p:nvPr/>
        </p:nvGrpSpPr>
        <p:grpSpPr>
          <a:xfrm>
            <a:off x="1125360" y="1219320"/>
            <a:ext cx="3754440" cy="2880360"/>
            <a:chOff x="1125360" y="1219320"/>
            <a:chExt cx="3754440" cy="2880360"/>
          </a:xfrm>
        </p:grpSpPr>
        <p:sp>
          <p:nvSpPr>
            <p:cNvPr id="97" name="矩形 7"/>
            <p:cNvSpPr/>
            <p:nvPr/>
          </p:nvSpPr>
          <p:spPr>
            <a:xfrm>
              <a:off x="1125360" y="1219320"/>
              <a:ext cx="883080" cy="900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五角星 8"/>
            <p:cNvSpPr/>
            <p:nvPr/>
          </p:nvSpPr>
          <p:spPr>
            <a:xfrm>
              <a:off x="1245960" y="1314360"/>
              <a:ext cx="642960" cy="641160"/>
            </a:xfrm>
            <a:custGeom>
              <a:avLst/>
              <a:gdLst/>
              <a:ahLst/>
              <a:rect l="l" t="t" r="r" b="b"/>
              <a:pathLst>
                <a:path w="642841" h="641452">
                  <a:moveTo>
                    <a:pt x="1" y="245012"/>
                  </a:moveTo>
                  <a:lnTo>
                    <a:pt x="245545" y="245014"/>
                  </a:lnTo>
                  <a:lnTo>
                    <a:pt x="321421" y="0"/>
                  </a:lnTo>
                  <a:lnTo>
                    <a:pt x="397296" y="245014"/>
                  </a:lnTo>
                  <a:lnTo>
                    <a:pt x="642840" y="245012"/>
                  </a:lnTo>
                  <a:lnTo>
                    <a:pt x="444190" y="396437"/>
                  </a:lnTo>
                  <a:lnTo>
                    <a:pt x="520069" y="641450"/>
                  </a:lnTo>
                  <a:lnTo>
                    <a:pt x="321421" y="490022"/>
                  </a:lnTo>
                  <a:lnTo>
                    <a:pt x="122772" y="641450"/>
                  </a:lnTo>
                  <a:lnTo>
                    <a:pt x="198651" y="396437"/>
                  </a:lnTo>
                  <a:lnTo>
                    <a:pt x="1" y="245012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图片 9" descr=""/>
            <p:cNvPicPr/>
            <p:nvPr/>
          </p:nvPicPr>
          <p:blipFill>
            <a:blip r:embed="rId3"/>
            <a:stretch/>
          </p:blipFill>
          <p:spPr>
            <a:xfrm>
              <a:off x="2008440" y="1219320"/>
              <a:ext cx="2871360" cy="280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文本框 10"/>
            <p:cNvSpPr/>
            <p:nvPr/>
          </p:nvSpPr>
          <p:spPr>
            <a:xfrm>
              <a:off x="2206800" y="1335240"/>
              <a:ext cx="235980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 Office 2012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新功能介绍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1"/>
            <p:cNvSpPr/>
            <p:nvPr/>
          </p:nvSpPr>
          <p:spPr>
            <a:xfrm>
              <a:off x="2100600" y="1598040"/>
              <a:ext cx="12139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New functi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文本框 12"/>
            <p:cNvSpPr/>
            <p:nvPr/>
          </p:nvSpPr>
          <p:spPr>
            <a:xfrm>
              <a:off x="2448360" y="2064960"/>
              <a:ext cx="1256040" cy="203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表格新引擎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件保险箱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高亮显示引用单元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多种界面配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支持文档并排窗口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自定义快速访问工具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矩形 13"/>
            <p:cNvSpPr/>
            <p:nvPr/>
          </p:nvSpPr>
          <p:spPr>
            <a:xfrm>
              <a:off x="2266200" y="22280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矩形 14"/>
            <p:cNvSpPr/>
            <p:nvPr/>
          </p:nvSpPr>
          <p:spPr>
            <a:xfrm>
              <a:off x="2266200" y="24415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矩形 15"/>
            <p:cNvSpPr/>
            <p:nvPr/>
          </p:nvSpPr>
          <p:spPr>
            <a:xfrm>
              <a:off x="2266200" y="26550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16"/>
            <p:cNvSpPr/>
            <p:nvPr/>
          </p:nvSpPr>
          <p:spPr>
            <a:xfrm>
              <a:off x="2266200" y="286848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矩形 17"/>
            <p:cNvSpPr/>
            <p:nvPr/>
          </p:nvSpPr>
          <p:spPr>
            <a:xfrm>
              <a:off x="2266200" y="308196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矩形 18"/>
            <p:cNvSpPr/>
            <p:nvPr/>
          </p:nvSpPr>
          <p:spPr>
            <a:xfrm>
              <a:off x="2266200" y="329544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矩形 19"/>
            <p:cNvSpPr/>
            <p:nvPr/>
          </p:nvSpPr>
          <p:spPr>
            <a:xfrm>
              <a:off x="2266200" y="350892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矩形 20"/>
            <p:cNvSpPr/>
            <p:nvPr/>
          </p:nvSpPr>
          <p:spPr>
            <a:xfrm>
              <a:off x="2266200" y="3722400"/>
              <a:ext cx="4572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文本框 23"/>
          <p:cNvSpPr/>
          <p:nvPr/>
        </p:nvSpPr>
        <p:spPr>
          <a:xfrm>
            <a:off x="930240" y="996840"/>
            <a:ext cx="18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 22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pic>
          <p:nvPicPr>
            <p:cNvPr id="113" name="图片 24" descr=""/>
            <p:cNvPicPr/>
            <p:nvPr/>
          </p:nvPicPr>
          <p:blipFill>
            <a:blip r:embed="rId4"/>
            <a:stretch/>
          </p:blipFill>
          <p:spPr>
            <a:xfrm>
              <a:off x="4006800" y="0"/>
              <a:ext cx="4772160" cy="514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图片 25" descr=""/>
            <p:cNvPicPr/>
            <p:nvPr/>
          </p:nvPicPr>
          <p:blipFill>
            <a:blip r:embed="rId5"/>
            <a:stretch/>
          </p:blipFill>
          <p:spPr>
            <a:xfrm>
              <a:off x="4792320" y="1792080"/>
              <a:ext cx="340560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文本框 26"/>
            <p:cNvSpPr/>
            <p:nvPr/>
          </p:nvSpPr>
          <p:spPr>
            <a:xfrm>
              <a:off x="4437720" y="234720"/>
              <a:ext cx="866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500" spc="-1" strike="noStrike">
                  <a:solidFill>
                    <a:srgbClr val="ffff00"/>
                  </a:solidFill>
                  <a:latin typeface="Arial"/>
                  <a:ea typeface="微软雅黑"/>
                </a:rPr>
                <a:t>在线设计模板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27"/>
            <p:cNvSpPr/>
            <p:nvPr/>
          </p:nvSpPr>
          <p:spPr>
            <a:xfrm>
              <a:off x="5451840" y="56304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海量设计模板，喜欢它，一键替换吧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8271E-006 -1.43783E-006 L -0.12416 0.00648 E">
                                      <p:cBhvr>
                                        <p:cTn id="6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矩形 4"/>
          <p:cNvSpPr/>
          <p:nvPr/>
        </p:nvSpPr>
        <p:spPr>
          <a:xfrm>
            <a:off x="6058080" y="1219320"/>
            <a:ext cx="88236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7035840" y="1219320"/>
            <a:ext cx="8827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libri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1125360" y="1219320"/>
            <a:ext cx="884520" cy="900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7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8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9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0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五角星 11"/>
          <p:cNvSpPr/>
          <p:nvPr/>
        </p:nvSpPr>
        <p:spPr>
          <a:xfrm>
            <a:off x="1246320" y="1314360"/>
            <a:ext cx="641160" cy="641520"/>
          </a:xfrm>
          <a:custGeom>
            <a:avLst/>
            <a:gdLst/>
            <a:ahLst/>
            <a:rect l="l" t="t" r="r" b="b"/>
            <a:pathLst>
              <a:path w="641350" h="641350">
                <a:moveTo>
                  <a:pt x="1" y="244973"/>
                </a:moveTo>
                <a:lnTo>
                  <a:pt x="244975" y="244975"/>
                </a:lnTo>
                <a:lnTo>
                  <a:pt x="320675" y="0"/>
                </a:lnTo>
                <a:lnTo>
                  <a:pt x="396375" y="244975"/>
                </a:lnTo>
                <a:lnTo>
                  <a:pt x="641349" y="244973"/>
                </a:lnTo>
                <a:lnTo>
                  <a:pt x="443160" y="396374"/>
                </a:lnTo>
                <a:lnTo>
                  <a:pt x="518863" y="641348"/>
                </a:lnTo>
                <a:lnTo>
                  <a:pt x="320675" y="489944"/>
                </a:lnTo>
                <a:lnTo>
                  <a:pt x="122487" y="641348"/>
                </a:lnTo>
                <a:lnTo>
                  <a:pt x="198190" y="396374"/>
                </a:lnTo>
                <a:lnTo>
                  <a:pt x="1" y="24497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0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27" name="矩形 3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图片 13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文本框 14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15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16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矩形 17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18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矩形 19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0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3" descr=""/>
          <p:cNvPicPr/>
          <p:nvPr/>
        </p:nvPicPr>
        <p:blipFill>
          <a:blip r:embed="rId1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4" descr=""/>
          <p:cNvPicPr/>
          <p:nvPr/>
        </p:nvPicPr>
        <p:blipFill>
          <a:blip r:embed="rId2"/>
          <a:stretch/>
        </p:blipFill>
        <p:spPr>
          <a:xfrm>
            <a:off x="0" y="4554360"/>
            <a:ext cx="9144000" cy="589320"/>
          </a:xfrm>
          <a:prstGeom prst="rect">
            <a:avLst/>
          </a:prstGeom>
          <a:ln w="0">
            <a:noFill/>
          </a:ln>
        </p:spPr>
      </p:pic>
      <p:sp>
        <p:nvSpPr>
          <p:cNvPr id="139" name="文本框 5"/>
          <p:cNvSpPr/>
          <p:nvPr/>
        </p:nvSpPr>
        <p:spPr>
          <a:xfrm>
            <a:off x="430560" y="4554360"/>
            <a:ext cx="1349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微软雅黑"/>
              </a:rPr>
              <a:t>Simple, Powerful and fre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00"/>
                </a:solidFill>
                <a:latin typeface="Arial"/>
                <a:ea typeface="微软雅黑"/>
              </a:rPr>
              <a:t>WPS Office</a:t>
            </a:r>
            <a:r>
              <a:rPr b="0" lang="zh-CN" sz="800" spc="-1" strike="noStrike">
                <a:solidFill>
                  <a:srgbClr val="ffffff"/>
                </a:solidFill>
                <a:latin typeface="Arial"/>
                <a:ea typeface="微软雅黑"/>
              </a:rPr>
              <a:t>，让办公更轻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6"/>
          <p:cNvSpPr/>
          <p:nvPr/>
        </p:nvSpPr>
        <p:spPr>
          <a:xfrm>
            <a:off x="8542440" y="4697280"/>
            <a:ext cx="33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2127240" y="1212840"/>
            <a:ext cx="3746520" cy="2141640"/>
            <a:chOff x="2127240" y="1212840"/>
            <a:chExt cx="3746520" cy="2141640"/>
          </a:xfrm>
        </p:grpSpPr>
        <p:sp>
          <p:nvSpPr>
            <p:cNvPr id="142" name="矩形 8"/>
            <p:cNvSpPr/>
            <p:nvPr/>
          </p:nvSpPr>
          <p:spPr>
            <a:xfrm>
              <a:off x="2127240" y="1218240"/>
              <a:ext cx="880200" cy="89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Calibri"/>
                </a:rPr>
                <a:t>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图片 9" descr=""/>
            <p:cNvPicPr/>
            <p:nvPr/>
          </p:nvPicPr>
          <p:blipFill>
            <a:blip r:embed="rId4"/>
            <a:stretch/>
          </p:blipFill>
          <p:spPr>
            <a:xfrm>
              <a:off x="3001680" y="1212840"/>
              <a:ext cx="287208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文本框 10"/>
            <p:cNvSpPr/>
            <p:nvPr/>
          </p:nvSpPr>
          <p:spPr>
            <a:xfrm>
              <a:off x="3221640" y="1334520"/>
              <a:ext cx="1061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riter </a:t>
              </a:r>
              <a:r>
                <a:rPr b="1" lang="zh-CN" sz="15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文本框 11"/>
            <p:cNvSpPr/>
            <p:nvPr/>
          </p:nvSpPr>
          <p:spPr>
            <a:xfrm>
              <a:off x="3192480" y="1597320"/>
              <a:ext cx="5738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300" spc="-1" strike="noStrike">
                  <a:solidFill>
                    <a:srgbClr val="bfbfbf"/>
                  </a:solidFill>
                  <a:latin typeface="Arial"/>
                  <a:ea typeface="微软雅黑"/>
                </a:rPr>
                <a:t>word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12"/>
            <p:cNvSpPr/>
            <p:nvPr/>
          </p:nvSpPr>
          <p:spPr>
            <a:xfrm>
              <a:off x="3661200" y="2064600"/>
              <a:ext cx="1750320" cy="95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任务栏实时查看文档字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WPS</a:t>
              </a: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文字 页面颜色支持跟随系统颜色设置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PPT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直接转换</a:t>
              </a:r>
              <a:r>
                <a:rPr b="1" lang="en-US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DOC</a:t>
              </a:r>
              <a:r>
                <a:rPr b="1" lang="zh-CN" sz="1000" spc="-1" strike="noStrike">
                  <a:solidFill>
                    <a:srgbClr val="1dcbf5"/>
                  </a:solidFill>
                  <a:latin typeface="Arial"/>
                  <a:ea typeface="微软雅黑"/>
                </a:rPr>
                <a:t>格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698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优化段落布局功能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矩形 13"/>
            <p:cNvSpPr/>
            <p:nvPr/>
          </p:nvSpPr>
          <p:spPr>
            <a:xfrm>
              <a:off x="3199320" y="22276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矩形 14"/>
            <p:cNvSpPr/>
            <p:nvPr/>
          </p:nvSpPr>
          <p:spPr>
            <a:xfrm>
              <a:off x="3199320" y="244152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15"/>
            <p:cNvSpPr/>
            <p:nvPr/>
          </p:nvSpPr>
          <p:spPr>
            <a:xfrm>
              <a:off x="3199320" y="265500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矩形 16"/>
            <p:cNvSpPr/>
            <p:nvPr/>
          </p:nvSpPr>
          <p:spPr>
            <a:xfrm>
              <a:off x="3199320" y="2868480"/>
              <a:ext cx="45720" cy="4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6"/>
          <p:cNvGrpSpPr/>
          <p:nvPr/>
        </p:nvGrpSpPr>
        <p:grpSpPr>
          <a:xfrm>
            <a:off x="4006800" y="0"/>
            <a:ext cx="4772160" cy="5143680"/>
            <a:chOff x="4006800" y="0"/>
            <a:chExt cx="4772160" cy="5143680"/>
          </a:xfrm>
        </p:grpSpPr>
        <p:grpSp>
          <p:nvGrpSpPr>
            <p:cNvPr id="152" name="Group 17"/>
            <p:cNvGrpSpPr/>
            <p:nvPr/>
          </p:nvGrpSpPr>
          <p:grpSpPr>
            <a:xfrm>
              <a:off x="4006800" y="0"/>
              <a:ext cx="4772160" cy="5143680"/>
              <a:chOff x="4006800" y="0"/>
              <a:chExt cx="4772160" cy="5143680"/>
            </a:xfrm>
          </p:grpSpPr>
          <p:pic>
            <p:nvPicPr>
              <p:cNvPr id="153" name="图片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4006800" y="0"/>
                <a:ext cx="4772160" cy="514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文本框 20"/>
              <p:cNvSpPr/>
              <p:nvPr/>
            </p:nvSpPr>
            <p:spPr>
              <a:xfrm>
                <a:off x="4301280" y="234720"/>
                <a:ext cx="179352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直接转换</a:t>
                </a:r>
                <a:r>
                  <a:rPr b="1" lang="en-US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500" spc="-1" strike="noStrike">
                    <a:solidFill>
                      <a:srgbClr val="1dcbf5"/>
                    </a:solidFill>
                    <a:latin typeface="Arial"/>
                    <a:ea typeface="微软雅黑"/>
                  </a:rPr>
                  <a:t>格式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文本框 21"/>
              <p:cNvSpPr/>
              <p:nvPr/>
            </p:nvSpPr>
            <p:spPr>
              <a:xfrm>
                <a:off x="4753440" y="563040"/>
                <a:ext cx="3260880" cy="26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WPS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演示支持将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PPT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幻灯片直接转换为</a:t>
                </a:r>
                <a:r>
                  <a:rPr b="1" lang="en-US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DOC</a:t>
                </a:r>
                <a:r>
                  <a:rPr b="1" lang="zh-CN" sz="1100" spc="-1" strike="noStrike">
                    <a:solidFill>
                      <a:srgbClr val="ffffff"/>
                    </a:solidFill>
                    <a:latin typeface="Arial"/>
                    <a:ea typeface="微软雅黑"/>
                  </a:rPr>
                  <a:t>格式，进行文档资料保存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6" name="图片 22" descr=""/>
            <p:cNvPicPr/>
            <p:nvPr/>
          </p:nvPicPr>
          <p:blipFill>
            <a:blip r:embed="rId6"/>
            <a:stretch/>
          </p:blipFill>
          <p:spPr>
            <a:xfrm>
              <a:off x="4243320" y="1401480"/>
              <a:ext cx="3985200" cy="357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32679E-006 -2.19068E-007 L -0.23302 -2.19068E-007 E">
                                      <p:cBhvr>
                                        <p:cTn id="18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3" descr=""/>
          <p:cNvPicPr/>
          <p:nvPr/>
        </p:nvPicPr>
        <p:blipFill>
          <a:blip r:embed="rId1"/>
          <a:stretch/>
        </p:blipFill>
        <p:spPr>
          <a:xfrm>
            <a:off x="3208320" y="1971720"/>
            <a:ext cx="2703600" cy="117468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4" descr=""/>
          <p:cNvPicPr/>
          <p:nvPr/>
        </p:nvPicPr>
        <p:blipFill>
          <a:blip r:embed="rId2"/>
          <a:stretch/>
        </p:blipFill>
        <p:spPr>
          <a:xfrm>
            <a:off x="414360" y="235080"/>
            <a:ext cx="892080" cy="19656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5"/>
          <p:cNvSpPr/>
          <p:nvPr/>
        </p:nvSpPr>
        <p:spPr>
          <a:xfrm>
            <a:off x="428400" y="4559400"/>
            <a:ext cx="26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Kingsoft Office Corporation © 2008-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Calibri"/>
              </a:rPr>
              <a:t>shigaofeng@kingsoft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图片 6" descr=""/>
          <p:cNvPicPr/>
          <p:nvPr/>
        </p:nvPicPr>
        <p:blipFill>
          <a:blip r:embed="rId3"/>
          <a:stretch/>
        </p:blipFill>
        <p:spPr>
          <a:xfrm>
            <a:off x="7978680" y="4622760"/>
            <a:ext cx="798480" cy="298440"/>
          </a:xfrm>
          <a:prstGeom prst="rect">
            <a:avLst/>
          </a:prstGeom>
          <a:ln w="0">
            <a:noFill/>
          </a:ln>
        </p:spPr>
      </p:pic>
      <p:sp>
        <p:nvSpPr>
          <p:cNvPr id="162" name="TextBox 3"/>
          <p:cNvSpPr/>
          <p:nvPr/>
        </p:nvSpPr>
        <p:spPr>
          <a:xfrm>
            <a:off x="2657520" y="4921200"/>
            <a:ext cx="3902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校联盟 官方微信 </a:t>
            </a:r>
            <a:r>
              <a:rPr b="0" lang="en-US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unit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5:12:00Z</dcterms:created>
  <dc:creator>Diana</dc:creator>
  <dc:description/>
  <cp:keywords/>
  <dc:language>en-US</dc:language>
  <cp:lastModifiedBy>姜天宝</cp:lastModifiedBy>
  <dcterms:modified xsi:type="dcterms:W3CDTF">2014-11-15T01:50:30Z</dcterms:modified>
  <cp:revision>7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DE64AEEDD9B7A4D93545ACBE97D4615</vt:lpwstr>
  </property>
  <property fmtid="{D5CDD505-2E9C-101B-9397-08002B2CF9AE}" pid="3" name="KSOProductBuildVer">
    <vt:lpwstr>2052-9.1.0.4856</vt:lpwstr>
  </property>
</Properties>
</file>