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2D0B2-042E-4A5E-825C-78AA86749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E9B54-63D6-4A0C-8C6F-D9BACAA5C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B9F6DB-594F-4658-917D-D5F474537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C41579-D76E-4D9F-935C-5C3253360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CFC5DE-8E29-491F-9BD3-B7DE2A903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4698A5-FC87-4E72-B516-4691C4309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48F20F-3B7F-4323-9FBE-3511A6EA5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47D394-ED7F-4EBA-83B9-8DFF480EE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8E7AF1-2DFD-4467-A198-61E08C4A0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136C6F-DAAF-4385-89C6-EA1C51609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031034-1705-4093-8A95-8E1C1DF2F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1B817E-691A-47F2-B5D5-3E5E18B6B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5ABD3-7975-4487-84DA-2047BEB7A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04D337-38EB-43DD-9259-6B5635333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A46FB0-7F81-4C2B-8206-BBD312CF8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75503B-DD6F-4FDE-8A10-70FD2DF3C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27CF81-4728-4D23-8C88-F58F5A2EF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0FC3B0-0CE4-4201-B5EB-1C878501C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4A44DB-C9D0-4D07-9D2B-6A505B78D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62B6E6-529D-46ED-9A02-C432EE464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1A3941-2171-4234-AA8C-0E2849AD4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C1612E-D51A-41C0-8DDA-14C180A92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361552-EC88-4DF8-9C74-A22EE8157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E24EE-D2A9-428E-9CF4-BD138A742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4C7078-A708-48CE-AA28-2AB2E2076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BEA172-82FA-43FC-A77D-575201C0E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511CDB-F866-4C18-8410-7804D17F9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7684AB-31E0-4116-A68B-FE3B7FC7C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D6ADDE-5212-44C4-A186-DAE15CD21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0531F2-223A-4D54-A936-E1C9E703E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0CE51E-6D90-40DF-8938-4A9518E3A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9BF4D9-B9A4-40EF-84A1-846CCD020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2E5E48-6D96-4C67-903B-5ED5A9246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C8A0B8-087F-4E86-AEEC-5F0245285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A7F53-4329-4655-AE08-EA2D640F9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357FD5-5FC4-49EB-84B0-1764BDA0E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211267-037E-4159-9299-889080594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CDE752-8CBD-4BED-B465-3D195E418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48290F-8365-4E64-9F69-4AC41150C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3E5DAD-2634-46C8-9689-4A3F4D9DB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98DCE1-2814-4BF3-A4B7-FA85730C8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5DA391-2D34-48F8-B839-4BAABC393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7E305A-7975-4D01-BE12-31BCDA9A6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8F0515-B4F2-4E65-B556-8DCD0B1C8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97F27A-143E-4267-8F48-42337325B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F2955-38F1-4D6B-8B62-432A9C922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B8FDDE-CFC7-4901-AAAE-B63D1246A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091A89-4391-403F-AE47-28CDD7A8C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51F930-44D1-4461-B438-2BAA96644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2DCA55-3C79-45D0-A3B6-58F30DC3E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8B4499-9B6E-4133-A891-3F2BF24B3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9AA63C1-A9E1-47D9-B5CD-7DA81FEA6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E2473B9-6FF5-437A-ABA4-94D345407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D65C5FD-338C-461B-8E90-4EB287844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7551879-D6E0-40EC-8D80-618B76599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375043F-5B09-42C6-A02E-E6038DB34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3EFF0-BDE7-4FF2-AED7-5D3463F66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3AFCF93-5371-45B6-8F10-B8B680310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52E92C3-77EA-47DC-B48F-7640C921A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40712CC-239A-42AC-A7DD-A7260BCA5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4B05293-3586-46BE-A291-58981EB2A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036EEC5-466B-4AED-90A7-96BC6EB80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1FF3EEB-6E71-40C7-AFC8-F068CC238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FF0D824-D624-4D7A-A220-3FA6C0CBA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90C7A-DD17-4AA9-B3CC-9F899A717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614C2-63B0-4851-9225-BBEEDE15D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12D36-F406-4811-A196-866D121E9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5D9FD-692F-46E5-AF94-DEDFEB59D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1D713-07CB-435D-A651-0CFDBEA13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31715-4182-41DF-A075-97AC20D02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91D6A-8344-4769-86FF-43DE46DC9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D6356-2E57-48ED-8164-69BED0459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7E320-E4F0-4D74-9BF0-B1ED06ED9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ACD36-6E6F-4C56-9203-91292A9AF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2AA934-C362-45C1-9918-63D7B5265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BA0381-97C4-4270-9D61-4AAD0F150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8D83DC-6CBE-4F1C-9D3D-AF226E878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E1B5C3-AB0F-450E-A638-1A663B353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000163-43EC-4E1E-B74A-2FDFB8443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1EE95-9455-44E5-B178-E376336B8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94A2C9-5ECA-42E7-970B-D5A122BFA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123105-8288-4E9F-8891-450360521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49AA71-3646-4C65-AE1E-D3F166701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BCC722-5C50-4CCA-AF19-927EFEF0A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A5778C-1DC2-4CE7-8E93-55E75BF2C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BBDE23-219D-4DDE-9B5D-E5344D9BA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C9E40B-BA6E-4538-A88F-A1C1F776B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5C6BD1-2113-4D82-BE59-DAF634426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0D0396-1F79-4B4D-A54D-B39F5F203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866602-C53B-471C-B769-4A2CE7578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7564E-A45F-4C5C-962D-5A43D6007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23C856-C540-488C-9168-D34747A75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0846F5-E5EE-4695-9F58-7B2FFDF78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1D1046-1DE6-407E-BED8-B886DB5A4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8FD145-F646-4BAD-8E1A-87B7FFD3C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756ACE-63C1-4C18-A4B0-D6E110617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4461B2-3985-4B2E-BC92-A503E3D5B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97069A-EEB2-4139-A3B1-802DD1954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B3477B-ABAB-4285-B073-5D7A34B41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F3A75B-8FE2-4AAC-B26E-905C91793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0592A9-1492-4866-A13D-788FAF78D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EB0F9-B35B-44E4-804F-D58855C5A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28A0B3-F0EF-4B53-8ADD-9CAF3EF8A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60BC0F-24D3-41FF-9896-2754FD068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5B152D-C7F8-48C8-872A-7702F52E1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C834DA-D37C-42C8-A88C-B980C7903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A7837D-BEAF-42EC-9AA5-3CA743E06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850FF5-63C3-44BA-B0AC-52466ECB1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D48A38-4B18-4275-BEA4-184190011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A8587D-1F13-48DB-8746-DADFBAD74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90DD8F-5FB6-4F7A-BD4F-0202907A3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26E006-3A17-4E2D-A7A5-ECE9979BC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BF262-B062-4F1E-A7B6-4C7ADA61D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3F4E35-CF5A-42E0-9CDB-A4E9F0198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C61B67-1F6D-4C09-976F-0FEAEC5F2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8294EA-BD36-4530-B276-7DE2E78E6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6366B4-AB64-4B33-A9C9-F02A1B690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54E24C-9710-460A-8C40-0E2A4B708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6AD425-641E-42FE-9F0E-F1A3ED45C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B3DB3C-9CB9-4F44-A2A8-77A5A3104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33AC39-AFFE-4E0B-81E3-F79A41C46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7500FA-138F-4FA7-9810-FC5FD880F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823F5D-2603-40FE-922C-9FD75F490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43B4A-7C8E-47CF-9CAA-E16A28220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BF37BC-FC8C-417C-B60F-8364F17B4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3400C4-FE08-4DF9-B5C6-7A14624D0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5E5FB2-FF99-490F-AF17-9E02B469A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29D450-D874-4EBC-9552-A16DF1812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E47039-AC62-4C3F-9CAF-5C308DF3F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33449C-F5B4-4BBE-88EE-F634AA25B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650644-3F3F-448B-9F17-36185849C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EE7FDB-B281-49F3-AF69-246753E26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44353B-4825-40FD-9483-1B8998C15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A8A0EB-7064-4129-AFF0-C76C80C8B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3C465-7106-48EF-8FFA-3B2EF5540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6BDC7C-72AE-4612-83C4-172F721A7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E01945-6B1A-4160-BF65-B851FACFF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D94D6F-DBBF-46DC-B6F7-788A741F1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48E480-C1A1-40CF-BE03-7A2D62A09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AF284A-7C2E-41FC-BA49-085E8236B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02247C-D110-4D89-AA6A-87EBDBFBF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A4E7B3-F982-494B-B95A-0DD72055F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76D247-62CB-4377-BB47-925563C54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D8D84B-9965-427E-9193-46ABCD358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42BDAD-314D-48F0-8704-5A783B153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ACF4A-D3D4-4276-B5D1-65FE66EA0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FF1FBA-CA70-4316-B094-EA6AB4071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4D93D1-04A1-4B58-A33B-8F66E3863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DC82C3-B5C2-4420-A127-B0BF34EAD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A0A2F5-81DD-4AB1-B591-801863569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B415D0-6686-43EA-9645-818B6E528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DC9687-8F65-4D5E-B7BE-9FCF9CAB0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5A4C27-A604-43E0-B218-F65473153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056555-A2BB-45E2-8C3B-16E02DA55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E558A4-81DE-4BFD-8F35-78E2B2D0C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C4B4A0-07E9-4005-887E-FD8A6A732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B40E3-9E6D-4160-84F2-E11A8496F20A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24B1D-4533-42B8-95F6-FFB238B4EDAF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C602C-7736-4741-B9F4-31D6261AC8E6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55F66-F47C-40C2-ADBE-FFA71F366616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00870-3B9B-41DD-9DDA-7AC451D6BDFF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DA000-2629-4F89-902B-DD3EB1D28072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BA278-0442-442B-B44F-D618486DB4FE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6B26D-9887-448B-919C-787AB34E441C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F03DA-EB3D-469D-9679-F1A74BB13041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93863-2DC6-4233-B75A-1592C3BC87F4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01D88-D7C6-4925-A624-DFB335ADBA04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4E709-5571-4B67-9308-47849B14912E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2C2F3-A8F6-4B03-8894-CEE7D57A7B19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4C425-866B-4420-9073-7CAB347F7309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139CF-477C-403F-B471-D13AECC7EE49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E4225-34D5-46F6-AE6E-73FBDDCCE20D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63D84-F22E-4BCA-9B61-44D5BA316873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EEC98-7DF5-4C9C-96B1-D14F9AA88735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EAC1F-8C03-4D1D-B8DF-D54810FE6918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9E0B9-77EA-475C-B841-26EDD8761DF6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BEAC4-5A4B-40F5-8EE2-C7B4F7B62BE2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AC688-BDA6-46D2-B180-462807C8D25F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0A62A-8436-4B6D-B8F8-97D6C2007003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32215-7FE4-4F36-8936-16FDB0C43B62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C779C-5D5C-4BBC-9455-FFFA1B79F3E1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4CB32-20CE-42F6-9620-2594A5FEAEAF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4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4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3" name="Group 2"/>
          <p:cNvGrpSpPr/>
          <p:nvPr/>
        </p:nvGrpSpPr>
        <p:grpSpPr>
          <a:xfrm>
            <a:off x="-106200" y="-92160"/>
            <a:ext cx="9358200" cy="5867640"/>
            <a:chOff x="-106200" y="-92160"/>
            <a:chExt cx="9358200" cy="5867640"/>
          </a:xfrm>
        </p:grpSpPr>
        <p:pic>
          <p:nvPicPr>
            <p:cNvPr id="534" name="Picture 3" descr=""/>
            <p:cNvPicPr/>
            <p:nvPr/>
          </p:nvPicPr>
          <p:blipFill>
            <a:blip r:embed="rId1"/>
            <a:srcRect l="0" t="2547" r="1365" b="5946"/>
            <a:stretch/>
          </p:blipFill>
          <p:spPr>
            <a:xfrm>
              <a:off x="-106200" y="-92160"/>
              <a:ext cx="9358200" cy="586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5" name="矩形 8"/>
            <p:cNvSpPr/>
            <p:nvPr/>
          </p:nvSpPr>
          <p:spPr>
            <a:xfrm>
              <a:off x="613440" y="2355480"/>
              <a:ext cx="5182920" cy="647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6" name="矩形 9"/>
          <p:cNvSpPr/>
          <p:nvPr/>
        </p:nvSpPr>
        <p:spPr>
          <a:xfrm>
            <a:off x="611280" y="1725480"/>
            <a:ext cx="4032000" cy="50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7" name="Picture 7" descr=""/>
          <p:cNvPicPr/>
          <p:nvPr/>
        </p:nvPicPr>
        <p:blipFill>
          <a:blip r:embed="rId1"/>
          <a:stretch/>
        </p:blipFill>
        <p:spPr>
          <a:xfrm rot="13873800">
            <a:off x="1628640" y="2509920"/>
            <a:ext cx="3152880" cy="1838160"/>
          </a:xfrm>
          <a:prstGeom prst="rect">
            <a:avLst/>
          </a:prstGeom>
          <a:ln w="0">
            <a:noFill/>
          </a:ln>
        </p:spPr>
      </p:pic>
      <p:sp>
        <p:nvSpPr>
          <p:cNvPr id="538" name="矩形 20"/>
          <p:cNvSpPr/>
          <p:nvPr/>
        </p:nvSpPr>
        <p:spPr>
          <a:xfrm>
            <a:off x="1835280" y="1994040"/>
            <a:ext cx="3313080" cy="2628720"/>
          </a:xfrm>
          <a:prstGeom prst="rect">
            <a:avLst/>
          </a:pr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Box 11"/>
          <p:cNvSpPr/>
          <p:nvPr/>
        </p:nvSpPr>
        <p:spPr>
          <a:xfrm>
            <a:off x="2916360" y="244620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b050"/>
                </a:solidFill>
                <a:latin typeface="Calibri"/>
                <a:ea typeface="微软雅黑"/>
              </a:rPr>
              <a:t>目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直接连接符 13"/>
          <p:cNvSpPr/>
          <p:nvPr/>
        </p:nvSpPr>
        <p:spPr>
          <a:xfrm>
            <a:off x="3708360" y="1501920"/>
            <a:ext cx="0" cy="227952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Box 14"/>
          <p:cNvSpPr/>
          <p:nvPr/>
        </p:nvSpPr>
        <p:spPr>
          <a:xfrm>
            <a:off x="4356000" y="1501920"/>
            <a:ext cx="35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Calibri"/>
                <a:ea typeface="微软雅黑"/>
              </a:rPr>
              <a:t>1</a:t>
            </a:r>
            <a:r>
              <a:rPr b="0" lang="zh-CN" sz="1400" spc="-1" strike="noStrike">
                <a:solidFill>
                  <a:srgbClr val="595959"/>
                </a:solidFill>
                <a:latin typeface="Calibri"/>
                <a:ea typeface="微软雅黑"/>
              </a:rPr>
              <a:t>、单击此处添加文本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Box 19"/>
          <p:cNvSpPr/>
          <p:nvPr/>
        </p:nvSpPr>
        <p:spPr>
          <a:xfrm>
            <a:off x="4356000" y="2060640"/>
            <a:ext cx="35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Calibri"/>
                <a:ea typeface="微软雅黑"/>
              </a:rPr>
              <a:t>2</a:t>
            </a:r>
            <a:r>
              <a:rPr b="0" lang="zh-CN" sz="1400" spc="-1" strike="noStrike">
                <a:solidFill>
                  <a:srgbClr val="595959"/>
                </a:solidFill>
                <a:latin typeface="Calibri"/>
                <a:ea typeface="微软雅黑"/>
              </a:rPr>
              <a:t>、单击此处添加文本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Box 21"/>
          <p:cNvSpPr/>
          <p:nvPr/>
        </p:nvSpPr>
        <p:spPr>
          <a:xfrm>
            <a:off x="4356000" y="2619360"/>
            <a:ext cx="35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Calibri"/>
                <a:ea typeface="微软雅黑"/>
              </a:rPr>
              <a:t>3</a:t>
            </a:r>
            <a:r>
              <a:rPr b="0" lang="zh-CN" sz="1400" spc="-1" strike="noStrike">
                <a:solidFill>
                  <a:srgbClr val="595959"/>
                </a:solidFill>
                <a:latin typeface="Calibri"/>
                <a:ea typeface="微软雅黑"/>
              </a:rPr>
              <a:t>、单击此处添加文本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Box 22"/>
          <p:cNvSpPr/>
          <p:nvPr/>
        </p:nvSpPr>
        <p:spPr>
          <a:xfrm>
            <a:off x="4356000" y="3178080"/>
            <a:ext cx="35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Calibri"/>
                <a:ea typeface="微软雅黑"/>
              </a:rPr>
              <a:t>4</a:t>
            </a:r>
            <a:r>
              <a:rPr b="0" lang="zh-CN" sz="1400" spc="-1" strike="noStrike">
                <a:solidFill>
                  <a:srgbClr val="595959"/>
                </a:solidFill>
                <a:latin typeface="Calibri"/>
                <a:ea typeface="微软雅黑"/>
              </a:rPr>
              <a:t>、单击此处添加文本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椭圆 18"/>
          <p:cNvSpPr/>
          <p:nvPr/>
        </p:nvSpPr>
        <p:spPr>
          <a:xfrm>
            <a:off x="1547640" y="4622760"/>
            <a:ext cx="4319640" cy="36036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Picture 3" descr=""/>
          <p:cNvPicPr/>
          <p:nvPr/>
        </p:nvPicPr>
        <p:blipFill>
          <a:blip r:embed="rId1"/>
          <a:srcRect l="0" t="0" r="20902" b="21843"/>
          <a:stretch/>
        </p:blipFill>
        <p:spPr>
          <a:xfrm>
            <a:off x="5651640" y="3865680"/>
            <a:ext cx="3492360" cy="1849320"/>
          </a:xfrm>
          <a:prstGeom prst="rect">
            <a:avLst/>
          </a:prstGeom>
          <a:ln w="0">
            <a:noFill/>
          </a:ln>
        </p:spPr>
      </p:pic>
      <p:grpSp>
        <p:nvGrpSpPr>
          <p:cNvPr id="547" name="Group 3"/>
          <p:cNvGrpSpPr/>
          <p:nvPr/>
        </p:nvGrpSpPr>
        <p:grpSpPr>
          <a:xfrm>
            <a:off x="-33480" y="-20520"/>
            <a:ext cx="5902560" cy="3093840"/>
            <a:chOff x="-33480" y="-20520"/>
            <a:chExt cx="5902560" cy="3093840"/>
          </a:xfrm>
        </p:grpSpPr>
        <p:grpSp>
          <p:nvGrpSpPr>
            <p:cNvPr id="548" name="Group 4"/>
            <p:cNvGrpSpPr/>
            <p:nvPr/>
          </p:nvGrpSpPr>
          <p:grpSpPr>
            <a:xfrm>
              <a:off x="-33480" y="-20520"/>
              <a:ext cx="5902560" cy="3093840"/>
              <a:chOff x="-33480" y="-20520"/>
              <a:chExt cx="5902560" cy="3093840"/>
            </a:xfrm>
          </p:grpSpPr>
          <p:pic>
            <p:nvPicPr>
              <p:cNvPr id="549" name="Picture 3" descr=""/>
              <p:cNvPicPr/>
              <p:nvPr/>
            </p:nvPicPr>
            <p:blipFill>
              <a:blip r:embed="rId2"/>
              <a:srcRect l="0" t="2547" r="63994" b="51860"/>
              <a:stretch/>
            </p:blipFill>
            <p:spPr>
              <a:xfrm>
                <a:off x="-33480" y="-20520"/>
                <a:ext cx="3416040" cy="2922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0" name="矩形 7"/>
              <p:cNvSpPr/>
              <p:nvPr/>
            </p:nvSpPr>
            <p:spPr>
              <a:xfrm>
                <a:off x="686160" y="2426040"/>
                <a:ext cx="5182920" cy="647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1" name="矩形 5"/>
            <p:cNvSpPr/>
            <p:nvPr/>
          </p:nvSpPr>
          <p:spPr>
            <a:xfrm>
              <a:off x="686160" y="1886040"/>
              <a:ext cx="2375280" cy="54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52" name="Picture 6" descr=""/>
          <p:cNvPicPr/>
          <p:nvPr/>
        </p:nvPicPr>
        <p:blipFill>
          <a:blip r:embed="rId3"/>
          <a:stretch/>
        </p:blipFill>
        <p:spPr>
          <a:xfrm>
            <a:off x="6948360" y="3936960"/>
            <a:ext cx="1354320" cy="1346400"/>
          </a:xfrm>
          <a:prstGeom prst="rect">
            <a:avLst/>
          </a:prstGeom>
          <a:ln w="0">
            <a:noFill/>
          </a:ln>
        </p:spPr>
      </p:pic>
      <p:sp>
        <p:nvSpPr>
          <p:cNvPr id="553" name="TextBox 9"/>
          <p:cNvSpPr/>
          <p:nvPr/>
        </p:nvSpPr>
        <p:spPr>
          <a:xfrm>
            <a:off x="1671480" y="1665360"/>
            <a:ext cx="6193080" cy="28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b050"/>
                </a:solidFill>
                <a:latin typeface="Calibri"/>
                <a:ea typeface="微软雅黑"/>
              </a:rPr>
              <a:t>第一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Calibri"/>
                <a:ea typeface="微软雅黑"/>
              </a:rPr>
              <a:t>添加文本内容添加文本内容添加文本内容添加文本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Calibri"/>
                <a:ea typeface="微软雅黑"/>
              </a:rPr>
              <a:t>添加文本内容添加文本内容添加文本内容添加文本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Calibri"/>
                <a:ea typeface="微软雅黑"/>
              </a:rPr>
              <a:t>添加文本内容添加文本内容添加文本内容添加文本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Calibri"/>
                <a:ea typeface="微软雅黑"/>
              </a:rPr>
              <a:t>添加文本内容添加文本内容添加文本内容添加文本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Calibri"/>
                <a:ea typeface="微软雅黑"/>
              </a:rPr>
              <a:t>添加文本内容添加文本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5" name="Picture 5" descr=""/>
          <p:cNvPicPr/>
          <p:nvPr/>
        </p:nvPicPr>
        <p:blipFill>
          <a:blip r:embed="rId1"/>
          <a:stretch/>
        </p:blipFill>
        <p:spPr>
          <a:xfrm>
            <a:off x="0" y="3297240"/>
            <a:ext cx="9145440" cy="2560680"/>
          </a:xfrm>
          <a:prstGeom prst="rect">
            <a:avLst/>
          </a:prstGeom>
          <a:ln w="0">
            <a:noFill/>
          </a:ln>
        </p:spPr>
      </p:pic>
      <p:sp>
        <p:nvSpPr>
          <p:cNvPr id="556" name="矩形 4"/>
          <p:cNvSpPr/>
          <p:nvPr/>
        </p:nvSpPr>
        <p:spPr>
          <a:xfrm>
            <a:off x="0" y="3443400"/>
            <a:ext cx="9145440" cy="2271600"/>
          </a:xfrm>
          <a:prstGeom prst="rect">
            <a:avLst/>
          </a:prstGeom>
          <a:solidFill>
            <a:srgbClr val="ffff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7" name="Picture 5" descr=""/>
          <p:cNvPicPr/>
          <p:nvPr/>
        </p:nvPicPr>
        <p:blipFill>
          <a:blip r:embed="rId1"/>
          <a:stretch/>
        </p:blipFill>
        <p:spPr>
          <a:xfrm>
            <a:off x="0" y="3297240"/>
            <a:ext cx="9145440" cy="25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9T08:19:00Z</dcterms:created>
  <dc:creator>王琳</dc:creator>
  <dc:description/>
  <cp:keywords/>
  <dc:language>en-US</dc:language>
  <cp:lastModifiedBy>nana</cp:lastModifiedBy>
  <cp:lastPrinted>1899-12-30T00:00:00Z</cp:lastPrinted>
  <dcterms:modified xsi:type="dcterms:W3CDTF">2016-03-05T15:45:22Z</dcterms:modified>
  <cp:revision>14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998</vt:lpwstr>
  </property>
</Properties>
</file>