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413-BA4B-482C-8294-CFE31D43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CE1-89EF-4974-A73B-8EF8CD48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67AF9-0D3A-4400-B060-AB21731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60952-443C-4E84-B675-01DC66C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01FD4-DE40-408A-B766-1643937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9891-5F2C-42D2-B740-77BE701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F79C6-C718-4B76-B1AC-6A578C2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417B1-A3AA-41FB-B026-6C5053B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EA667-6CAD-46DD-8120-302D9E0B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5498D-E2F6-4D51-A4B7-AEF2661F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184E6-24BB-4DC6-98C5-A4DDBA0A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DBD07-E949-42DF-9188-7F4BF106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2D2-2EAC-430F-A988-455BE7E2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91F44-CF68-49E6-B423-84F9910A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75E50-1F4D-426C-A8F4-48A7DCB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2156-D1C4-4989-B1A9-D45C8D9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41D95-62DC-4A39-BFB2-84EF9AB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5D8E3-7D81-43B5-A3B5-AF4630D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66590-26E7-4743-8507-5C2CA068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A229B-EB6B-4F91-B928-CC6AC54A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92DE0-E84C-463D-95CF-EF0C2DBA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78360-1D43-4EE5-A4A0-35A2D980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6F001-FE23-409C-8350-129A96A3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E1B-59F3-4F59-AAAD-0C95E998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66F5F-E327-463A-AFBE-954CA5DA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59027-7364-446E-AD60-3C080342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A7C53-03E6-45DF-B155-3A76028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33E5A-2CEA-46F1-9CCF-3F1BC8AD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048B0-FF78-4B18-9CB5-2A276627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85A29-9184-405A-9B4F-025D6A7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07D23-8E1F-4D09-A6BB-711AE866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42099-014D-496D-9C68-DB0054D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D3B21-778D-4A11-B05C-0E2FBD8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4F864-3DC0-4350-92EC-6A5199F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2140-86B1-4471-95D2-90277A0B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ADEF8-6441-4BC6-BB68-0224638B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AF020-2B8D-4C35-8AC3-DEE99288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BF07D-906B-4B7B-A23D-8AB58E94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B271E-D224-4CC8-B1B6-DA7B4E9E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D2D02-4CFB-425C-8430-BA38348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5CE45-4A39-4598-913E-0A39609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457A1-D4DE-49A3-BC75-4510B83D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C79BC-FE6B-4140-A223-DCE48B6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606D1-ECC4-4556-B61F-94C86EF1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8B401-723F-43F6-BBE8-82E90159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CF61-DA58-4DCE-BA7F-F6254F38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8EE66-0E42-44D1-8E94-AE9D584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BE6B7-1793-4A8F-9ECD-057FE2B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13806-37A9-468D-BDCD-162538B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FA35B-0E49-46E2-BE7A-42C1D94E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34631-F1F3-49F5-ACC6-2712F4E4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FF186-EF8E-4626-BDAE-AE8171B9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EA474-F9B7-4312-8147-B542D48E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D7CED-1969-4115-A81E-5DE6A99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56479-A565-4D3B-844B-832586E5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F73E2-CFF9-41B5-AD67-D14A09FB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0058-6FDA-4737-AD36-2E84675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6E707-4F1C-4CA1-A0C7-3A659B7B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55A23-4BF8-4BD6-BF77-719D03EA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400EC-4DA6-4E31-BC89-69B542F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8817F-D64D-465F-BD9D-ED4DA32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14582-F989-4C36-AE09-4D47DA8A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0806E-5961-4BE5-A1E3-E5AFFA6C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2BC48-08A2-42A8-B2F0-3EA02462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3F6F8-214A-48E9-988E-91FBADB2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0C260-000A-4071-A344-3B4854C1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D3198-B852-4110-9E5E-5264FB2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F696-37AC-409C-AFB6-A3A8416F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4D5DD-F7A5-4DDB-9BD8-E077D8E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FF3D2-C5A3-496B-9B7F-26E0E027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8BF8E-F56E-4C54-BCF1-8E489744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63533-1471-4918-ABE5-D8BA84D7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2DF93-A9CA-4DBF-A64C-458CE075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79D26-C44E-4952-ACAB-FDCD1F2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425CD-5146-488B-A715-D2FBA924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0DB85-1BDA-4B8B-9B94-02A765B5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1F73B-9981-4408-845E-E1411EFF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DFA68-169B-4ABE-8313-408208F7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0BC6-6F59-4A7F-8044-93E0DBD9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A454D-AB9F-4A23-98D5-4586FE4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576FCB-2E04-4CA2-BADA-9D95BDD1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9110D-2EF7-43C5-93AC-530734E4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A0AA6-A1D4-4948-907F-41EC4833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F6754-1F79-4867-A834-F71EA9CE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1D1A7-CA8C-483E-AD15-1323852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12BB0-746E-4C67-BD49-1309D3E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74AFF-E392-4AB6-9BAD-41B047F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34D10-1011-437F-9071-9AA0987A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1E17F-CC21-4F60-9B61-50D41BEC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0F66-C7F7-4C0E-A50D-2FDAD7D0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3FAAC-F576-4D64-8221-DB3BDC01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CEEC1-7C93-4239-8B5F-DFF54855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C2B7B-18BF-49C2-90A1-163AA95B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9FD1D-CC5F-41AA-A058-A5B79977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5E94B-79B1-4DBE-82E4-60B528CC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256B3-B922-4E1D-BAA5-F0698823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2B32B-7DFF-44DE-B9C8-A86666DF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CBD62-9950-468F-B9E3-A7CD60AC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BECE2-0C50-44EA-BA80-23B00AC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44FF0-856D-48F4-857C-6867EDB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3BD0-0F2E-47FB-9D37-99AB8E7F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F27A9D-5F4C-4F07-B440-ACB5CEF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628F98-10E3-46A2-8DE8-4B893612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EA8989-D564-4BB7-A211-0250F8D4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5C926-0453-4566-8B08-8455C58C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539A0-66F2-464A-9971-CE40A86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B9942-C00C-449B-A66D-41D4056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FA6B1-84A4-47A8-ADEF-0109297F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AFCAF-66D0-4BBC-B18E-E815F92D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2DD7F-502B-4C54-BA5B-84849F5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B3E724-9C3B-4D77-B703-BC355D4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D1EE-2B88-44EE-BA74-C5C6F4F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E6A0-2EC8-478E-A76E-BB627A9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43825-5AA2-4BF1-BC43-19899DA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A2C57-8C45-4BA3-BF32-970F8D9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F3DEE5-EB95-4577-AB1F-AA5FE79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86575-DF81-4BCD-9B15-8C54CF42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77B33-CC04-4DBA-A2D8-BD24ECE2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C3317-8B7B-4961-9F1E-118A335C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24B6D-8D3F-4EF6-9399-85C681D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5B55A-2706-4EF9-88FF-53170EED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6E79E-2FBB-4E1E-B594-E49BA6A0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B55EF3-F89C-4574-88E8-989EA70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0767-CEDA-4EB3-BF6C-1BA071F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FE3A6-D144-446B-905A-A35AA68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A75EE-3C5C-441E-AD17-B2D46FC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05FC6-FFAE-4A38-A0A5-D33A837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2D381-2231-452E-85DD-45EFEF1F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A5418-5098-4689-ACBC-F3939FF8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71FE9-EC33-48DF-8B25-D4D36D3E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1BE4E-896C-4F15-AC18-CEBA37C7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C8905-6E29-4A39-8031-4A4168EC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CA696-C8BB-45CD-BF19-D04E7AE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110EE-5E2C-4083-91FC-08C2E68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4CA4-88E7-40C2-9B1D-6911C412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ABB5C1-45F1-47B5-B580-74E5E818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BB1A50-BAB4-4AFC-BA0C-8FA335D2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0EC31-24F9-42DA-AC47-E1912834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A1C52-BE55-46E3-8C2F-5802B604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CDA57-C0B6-457B-9A1C-09FC93D2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CF8B9-42FE-40CE-90C6-B8C7016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A2BC1-4703-412D-ADE4-8D3ABF5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06FCD-05D9-44B7-B286-238ACCD0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989494-BB97-4976-934E-E3CC9C2E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F207F2-699A-4E25-9944-C0B06D1C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DE16-86E9-4755-8A39-1EDB2715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DB3AB-ABAA-4509-A1B7-6E235E2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AF706-3BA3-496F-8E77-260F7D65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F6A73-FBCF-41A8-ACA5-BE83AD20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9663B-0D12-4EC0-867A-CDFB3E18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78C909-1A26-4EC9-A6CC-B27A3B96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361F1-0129-4050-AE77-81D78B61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7CC4B-4204-4806-9E47-D5384597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46AF72-9EE0-4C4C-B062-2C94705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8AACE-69F1-4DA0-9A80-C832983A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8AF16F-949B-4A92-A7A8-2D051A5B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1EA6-1035-49E8-B64A-760490A1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4B51D-3BC8-4D65-BDFE-6A5CA00F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66B06-6480-4522-9D59-8C080BA8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0A624-F9A5-4A6C-B516-7CA43767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56A210-34CF-41B1-941D-D7737016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590891-3B45-41C2-90AA-5F8D7360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4BE8F8-10C6-4E15-8DDA-36AFEC7F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3FD3F-B340-43DE-8D5E-B53D6A56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3A50E-11EA-4FC1-95B7-6711084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9D7CC-4437-44F8-AF44-A58998FD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CCA652-D4F8-4ADC-AFCD-1882B7C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2D548-98C4-4F7A-8B50-AAED63F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4A077-7388-4AC8-ABFF-A27578FF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AA894-671A-4DF2-95EB-792EB4C5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3BDF8-BA74-410E-986C-05A6168E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67188-0D59-4380-9187-E00D61C1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7B0AA2-7802-4587-AA63-2EC2A53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D7645-836F-4D8A-B497-2ABA5C5A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95BA5E-5A3E-49FC-B170-962C7CB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98A231-4F62-418E-BE38-E3FF5AD4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710A65-52DB-4210-A6BA-5B623662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3148CD-02E8-47A4-B8A9-9BD43B3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7087-A791-4916-AB8F-58BFA5E8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C63C6B-24B1-4262-949A-97D2A5C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4675A-68D1-44ED-8CB7-6BCA22B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470743-CD72-4F62-A6BF-839AD536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7DC0C-E3BE-4868-9BF5-CC119C99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698664-992F-485C-89A4-B85FB626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E2FFD2-9AF0-472D-8CD2-3FF12A54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565DBC-FA62-4C3E-A41B-4C7A9105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7D8966-11A0-4DE0-899A-5FB765F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33BA1A-5A2B-42A9-9BFC-F6D76312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30A55F-2570-417A-98DC-B31C3A14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3EE1-3CEF-412B-B7D9-9C6BF02D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3A2B4-17D7-476B-8BC3-27B18387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9F41D3-CA15-4E99-8B2C-B1900A77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1F4276-63B0-44A5-8155-3513F35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C645F-747E-4EDC-BBC5-F62190F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43B253-88AB-4BE2-8CAA-38365D5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E0F39E-FF91-4A91-82CE-93AA3BAB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DBD30-DB1F-48C5-8F9B-BD461F33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A6C116-3280-44AC-A180-84FE71B7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E28BF7-EF58-4F37-A3CE-1C1E550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B5414C-BA07-47E0-A45F-9028D1D4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F949-27CD-4B3F-87FC-C0692AA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F0B22A-40EC-4D2B-821F-3F969251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987AB-9C3C-489A-8A88-4C85DED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C3887D-A6A8-4819-B5AC-AA98C3F0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67317D-6B28-48DB-A98F-35B7B29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DC59B-3595-458B-B437-C8FB7BA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60C1DC-AFBA-4065-B598-0A8B1255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A5FC2B-DD86-44D5-8968-F712764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9376E4-7486-4E76-8F0C-4F35578D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0BE35-8CE8-4D6C-9D9B-8C61D6FC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17CF58-E3BB-4E7E-BE99-2F6535F6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084D-6B91-4328-AFD6-26586706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DADB05-EFE5-4BA1-9959-C1156C66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D070F8-F538-4467-B08E-88E412C3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4EA8E4-3274-4FFA-9D14-D567A2C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874AB4-B48D-446B-9C91-A7443548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14715E-4208-43C9-AFA9-93399140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6057FF-293A-4C72-945D-3DAFD3E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4DD4CE-9D81-4000-B079-0EA8924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16EDE5-9EE7-4791-A1D2-D8717F0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1E4FD8-631E-4FE0-A91F-777E74A3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367D0E-739D-45CF-87D0-528355AB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8C9-F036-4E1B-8089-EB175BBF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036B-2D8C-468F-8C89-13B613A3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963587-614B-472D-9B98-234A8AA3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5DFB2-C63A-4D5B-8624-85D6CBB4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6951-6F1A-4F4C-B792-A17A3295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8B5C-8C6E-4290-98BD-A17F3E8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FF35-4A38-475F-939D-2ACBEF6A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164E-660D-4901-9C60-0FF3C878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C82B-A001-4C88-8EE0-FBCD167F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9ECC-B07C-489A-A58F-8A0AE16A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DB9F-926F-402A-A07C-D79022E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2EDD-5415-4EBF-9B57-3A7F1C17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803-B5E2-4109-ACF8-0AC4463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51D97-D484-4732-A07A-20C1104B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DFEB-867A-4463-A09F-8523434E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910A2-6A36-400E-BDFD-8AE2DE7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DDBA-FA97-444C-9D5D-2067894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0A7F-F81F-4867-B177-287EE51F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E2FF-687C-4571-BC04-C8680C9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E3EE-8B6B-40E5-AB71-DFF1FDAF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B352-8977-43AB-9554-3552D219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95BD-B15E-4FE3-BEC0-29C80399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9E97-7351-4461-B82A-92B43C51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C81-5F75-4174-9E74-EFBE027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4FD7-7B7B-4E75-8B60-475DA8B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EBBEC-ACB7-4DC2-AB5E-58B294C6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88F4-07A9-4114-8C43-776E1319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FD36-F0D3-4355-89DB-9A1FAD99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5424-11C7-46F2-AAA0-6342CA8F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94AC-ACA0-487A-86E7-A79C090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9BAE-1560-4671-A301-975BD0A2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10C1-09F3-4D64-A93F-CBE7183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1F12-DCE3-4DEE-BC08-17BEBB0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6E53-4952-4CBE-B162-0EE1C61A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0F5-E416-4130-BD39-A914866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2432-0764-4D32-9B3A-FF614AAE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E2AF1-0F5E-4955-BFB3-E0B75005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48449-00A8-4BF6-8C98-D6CE1D7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FD8F9-F9AC-414A-B036-2EEC22F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E566-14E6-415B-AC26-3BE07164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D4DCC-2921-446E-B3F4-7B6DBFA2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8D9CB-14B8-4E45-8787-DDE4518B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E880-EA7E-493E-80B1-F239A39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B490-8E92-418F-8068-2821AB0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BE932-B5CF-4B4B-8979-7E72432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408-6044-4402-A02A-30AB6467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E94C-8F29-4341-B834-814CB839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625B-5A1D-4BB9-843F-658BE816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9CCD-C8FB-405D-9807-48ECD3F0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060D-1027-4CD1-BF4B-3EC5C1AC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7E253-9461-44E1-BFD9-ECDE429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4481A-89B7-48F0-88C0-B67F7A5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3866A-7B55-4B1E-9838-2AB563DF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4047-F0B7-4B71-A988-0650EAAE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C86E-8E6D-4D71-B441-8093558B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C4888-BC3B-49A9-83D1-2975D17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EF3-3249-41BE-9A39-3C1EA9D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1232-AF58-42F3-B156-00D8963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6D422-4839-4C5D-AE41-7A6DCC8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2697C-786B-4306-82BA-D4DBED8F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FE2B-3F48-45E7-9CFC-96FD2523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6413-4DF4-412F-9F10-6DCF5C70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299AA-C700-4F01-BCED-3C557EC7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4FDF5-27C3-4E9B-8687-B8D13FE9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D22B3-1FDF-4EAE-9A5B-CB8E445E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A22DB-429A-4FC9-94D2-7B8D6D0D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0227-643C-43BF-A778-F5C73FE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AAB-5639-4638-9144-0E5C71C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1E10-B1CD-4EC5-A52C-F5B47FA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5BDD-5FDB-4695-BC08-3CF02D4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D2149-2693-4E9A-9501-B99FDC3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548CB-8F32-4589-A0FC-9881033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2971440" y="3964320"/>
            <a:ext cx="5715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41238-3C0D-4FD2-B722-EC7ED16B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899680" y="160020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97144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899680" y="3964320"/>
            <a:ext cx="2788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2B37-20BB-4A1C-B161-98B35D29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392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36040" y="160020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29714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90392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836040" y="3964320"/>
            <a:ext cx="183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F62A-5510-4636-870E-4E9BE3BF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BDE49-2450-4334-B2E6-424E0551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5AC66-493A-48F6-BC7A-98ED79B4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12DBD-0A19-41C3-900A-6CF0660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610080"/>
            <a:ext cx="3257640" cy="32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B545-392B-4B32-BA86-B203EFB84D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857920" y="3619440"/>
            <a:ext cx="3286080" cy="32385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37080" indent="-1872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11840" indent="-1872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86960" indent="-18720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EEBB-7E8E-4671-B069-B00E14FDE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5600880" y="0"/>
            <a:ext cx="3543120" cy="3753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BA3F-C06E-4FEE-82A8-C3B45DB06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800680" y="3591000"/>
            <a:ext cx="3343320" cy="3267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9D3C-3ED4-4F31-A594-E5690BEFC2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5867280" y="3695760"/>
            <a:ext cx="3276720" cy="316224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6146-AEC9-4235-B84D-29038E8F4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5905440" y="3476520"/>
            <a:ext cx="3238560" cy="33814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B89F-B641-4026-BB1F-CCBDAA2B8C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3220920" cy="32767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7BC9-751A-4DEA-A827-6E96DF8057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5972040" y="3467160"/>
            <a:ext cx="3171960" cy="33908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054F-505C-44B7-9D32-99FE2760C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3400560"/>
            <a:ext cx="3076560" cy="34574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9D6-B521-43F3-92A6-6B63242314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2"/>
          <a:srcRect l="0" t="6349" r="11201" b="0"/>
          <a:stretch/>
        </p:blipFill>
        <p:spPr>
          <a:xfrm>
            <a:off x="6124680" y="0"/>
            <a:ext cx="3019320" cy="33717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B0D-B532-432D-A828-8D6F63055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0" y="3390840"/>
            <a:ext cx="3381480" cy="34671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66E-E0DD-4FB0-A6AB-9DB815147D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057480"/>
            <a:ext cx="6248520" cy="380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C4F-BEB0-4C68-9BEB-0E6335AAF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397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795240" algn="ctr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193040" algn="ctr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590840" algn="ctr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5908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5908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6114960" y="3781440"/>
            <a:ext cx="3029040" cy="307656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4A49-507D-4FCA-A23E-2E8E649D43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0" y="3381480"/>
            <a:ext cx="3371760" cy="34765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09120" indent="-2343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37080" indent="-1872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11840" indent="-1872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86960" indent="-18720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86960" indent="-1872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22B-7982-4787-BDDB-D05BF9A4E8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5697360" y="3352680"/>
            <a:ext cx="3446640" cy="350532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3757-4FE9-4C99-A544-F2CF39587A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0" y="3705120"/>
            <a:ext cx="3295800" cy="315288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23880" indent="-2397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60120" indent="-191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43880" indent="-191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28000" indent="-191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28000" indent="-191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8058-A62D-41EE-B917-9D8A665B4E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" descr=""/>
          <p:cNvPicPr/>
          <p:nvPr/>
        </p:nvPicPr>
        <p:blipFill>
          <a:blip r:embed="rId2"/>
          <a:stretch/>
        </p:blipFill>
        <p:spPr>
          <a:xfrm>
            <a:off x="5819760" y="3429000"/>
            <a:ext cx="3324240" cy="342900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B2F0-8095-4E9B-8D88-38E806D1C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" descr=""/>
          <p:cNvPicPr/>
          <p:nvPr/>
        </p:nvPicPr>
        <p:blipFill>
          <a:blip r:embed="rId2"/>
          <a:stretch/>
        </p:blipFill>
        <p:spPr>
          <a:xfrm>
            <a:off x="5857920" y="0"/>
            <a:ext cx="3286080" cy="627696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D623-B6C3-4F28-87A6-4E586CD4F3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838680"/>
            <a:ext cx="3114720" cy="30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594360" indent="-2286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14400" indent="-1828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280160" indent="-18288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645920" indent="-18288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645920" indent="-1828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9558-120D-4A41-A92B-23F8452CE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210360" y="3648240"/>
            <a:ext cx="2933640" cy="3209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7BED-32B5-4BA3-BFD1-5AE3521C31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514680"/>
            <a:ext cx="3209760" cy="334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ED44-B511-414E-9673-D02CFADB79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6275520" y="3457440"/>
            <a:ext cx="2868480" cy="3400560"/>
            <a:chOff x="6275520" y="3457440"/>
            <a:chExt cx="2868480" cy="3400560"/>
          </a:xfrm>
        </p:grpSpPr>
        <p:grpSp>
          <p:nvGrpSpPr>
            <p:cNvPr id="211" name=""/>
            <p:cNvGrpSpPr/>
            <p:nvPr/>
          </p:nvGrpSpPr>
          <p:grpSpPr>
            <a:xfrm>
              <a:off x="6299280" y="3457440"/>
              <a:ext cx="2844720" cy="3352680"/>
              <a:chOff x="6299280" y="3457440"/>
              <a:chExt cx="2844720" cy="3352680"/>
            </a:xfrm>
          </p:grpSpPr>
          <p:pic>
            <p:nvPicPr>
              <p:cNvPr id="2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9280" y="3457440"/>
                <a:ext cx="284328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 rot="5400000">
                <a:off x="7074000" y="2682360"/>
                <a:ext cx="1295280" cy="28447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6275520" y="3466800"/>
              <a:ext cx="1243080" cy="3391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46200" indent="-24840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94320" indent="-19872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92120" indent="-1987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89920" indent="-19872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89920" indent="-1987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81D-69DA-4A9E-96AC-546C948F4F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505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3838680"/>
            <a:ext cx="2886120" cy="3019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C73F-8BA2-4F3E-A77A-9F1F5911FA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962680" y="3809880"/>
            <a:ext cx="3181320" cy="3048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E0E9-0ADC-4DBF-B95F-72E692EE93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3029040" cy="31910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c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1" marL="639000" indent="-24552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2" marL="982800" indent="-19656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66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4" marL="1769040" indent="-196560">
              <a:spcBef>
                <a:spcPts val="901"/>
              </a:spcBef>
              <a:buClr>
                <a:srgbClr val="66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5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lvl="6" marL="1769040" indent="-196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A41C-BF8F-414E-B670-3167E9811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6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汉霄苍茫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牵住繁华哀伤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弯眉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命中注定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成为过往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风华是一指流砂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苍老是一段年华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夜雨染成天水碧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有些人不需要姿态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也能成就一场惊鸿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千秋功名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一世葬你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玲珑社稷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可笑却无君王命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谁将烟焚散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散了纵横的牵绊；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听弦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那三千痴缠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/>
          </p:nvPr>
        </p:nvSpPr>
        <p:spPr>
          <a:xfrm>
            <a:off x="2590560" y="426960"/>
            <a:ext cx="5715000" cy="64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终于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为那一身江南烟雨覆了天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容华谢后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不过一场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永寂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心似浮云常自在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意如流水任东西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碎心心碎碎心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情情断断情人</a:t>
            </a: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旧心残花葬情身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醉是多情情伤人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遗忘了前生前世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放弃了来生来世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只求轮回渡前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今生今世花开不谢！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静水流深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沧笙踏歌；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三生阴晴圆缺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一朝悲欢离合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长街长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烟花繁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你挑灯回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短亭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红尘辗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我把萧再叹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乌云蔽月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人迹踪绝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说不出如斯寂寞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听弦断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断那三千痴缠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坠花湮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湮没一朝风涟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花若怜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落在谁的指尖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谁将烟焚散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散了纵横的牵绊。</a:t>
            </a: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　　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昔有朝歌夜弦之高楼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上有倾城倾国之舞袖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待浮花浪蕊俱尽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伴君幽独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3300"/>
                </a:solidFill>
                <a:latin typeface="Arial"/>
              </a:rPr>
              <a:t>再见</a:t>
            </a:r>
            <a:endParaRPr b="0" lang="en-US" sz="8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苍茫大地一剑尽挽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何处繁华笙歌落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斜倚云端千壶掩寂寞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纵使他人空笑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我自是年少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韶华倾负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尘缘从来都如水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罕须泪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何尽一生情？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莫多情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情伤己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荏苒岁月覆盖的过往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白驹过隙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匆匆的铸成一抹哀伤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如是颠簸生世亦无悔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拱手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为君一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江南风骨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天水成碧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天教心愿与身违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9c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红尘初妆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山河无疆。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最初的面庞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碾碎梦魇无常，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3300"/>
                </a:solidFill>
                <a:latin typeface="Arial"/>
              </a:rPr>
              <a:t>命格无双。 </a:t>
            </a:r>
            <a:endParaRPr b="0" lang="en-US" sz="36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6:58:32Z</dcterms:created>
  <dc:creator/>
  <dc:description/>
  <cp:keywords/>
  <dc:language>en-US</dc:language>
  <cp:lastModifiedBy>angel</cp:lastModifiedBy>
  <dcterms:modified xsi:type="dcterms:W3CDTF">2015-12-11T09:37:3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