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ECE-6CB6-495A-B2B7-69E8D444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C64-5C11-4B5F-912F-DDDBEACC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8DC02-9094-405C-A38F-4256457F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B58B5-EC21-4622-836C-5618F5B9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55A26-642E-4532-911C-753EBB14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9C2DE-7D4C-407B-B963-6A01FD91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BD9E5-62D0-4E1B-89D1-AF11F4D0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11B55-1607-42F1-A0E1-EFFC1679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1A2D5-F55C-447C-B4B4-E6DDB5F1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BACE3-9596-45A0-9099-5278B781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C7F99-07C2-4B2C-A52E-37EEF530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D7BE9-257B-48D6-8C6D-E6EBFED7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AA9-58D8-43F5-B5B5-FE275AF7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E02A9-F913-4A3C-8F16-9567A4FC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38584-0943-4ED9-9368-C29C9356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75DBF-7122-412C-9150-FFA1AEC3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B3422-34FA-4ADD-AED5-B6E0F656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D17E4-3A1B-4CBF-8B80-4B87019A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8630E-2C7D-466C-A347-3851153D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208DF-EBC6-429F-865C-FF35A256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899A5-EAB4-4717-9C5E-B0DBB11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47058-FEDE-439D-8FF9-E95C3EA8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B7912-48C7-41E0-BEA1-7E456D5C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93D-BA6F-4AF3-A346-B61802F0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4315B-F980-450A-B04F-06B80B40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4A2C3-6F96-4DA1-9749-325FE4B9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256A2-617D-4DB0-B53C-E259CC33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18BE3-3BCC-4C66-8733-A93A1B10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82B21-A6D4-425F-BCEC-1F459086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700C6-0622-45A3-A896-8064C680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331D0-8D3C-438D-B56A-1D158754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AD9C7-456D-4FC4-8701-BC17A688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803FC-7E0E-4F0F-BD63-CEE41175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8E627-DB69-4A55-AD77-E9487F94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B856-B4B3-4EFC-817E-0E0EE5CE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3F218-9425-420C-8EFA-D3289D34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E9729-549B-4ADC-8762-DE43FDBE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BDF7C-E160-4447-882A-A78CF7DB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CA1E7-1972-48B8-A2AF-722CC802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7211A-C347-44BC-AA0F-1E0ED5D4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5428D-6469-4ADA-AC75-38ECCDB4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C34AF-38F1-4FD7-ACBB-4033BF69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7528A-DC7C-4C0D-883E-FA7FB3D6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62D49-0818-41D2-B52B-7D371FC1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87EE8-56E7-4A97-B676-58C9BCAB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D5DF-D1A3-42C6-9503-5BD46E7B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29F90-88E9-471E-9D2B-6E432836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BC002-DEF3-47CB-A2EB-D3F82DD8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A16C0-73E4-4020-87DD-60049FA3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4567B-5FD4-4DA9-ADD0-F8E042FF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05805-EA8F-45AC-8B54-1B4CD1C3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7AA09-516E-4784-8992-5D76603F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8BCB3-3CCA-4F49-934E-AFD2D31B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DBF9B-C53F-40E4-840E-6BC0F89C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41EF4-E85C-4431-B287-A008BF75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95280-F10D-4685-A06D-DE597421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8463-E492-4F9A-BB9B-245C08F0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CED29-000E-4163-A7CA-0B27CF28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B4E54-0F34-4F1F-925D-5F8C6E8A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14798-06BB-456D-B4A7-1A921759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B46D1-C77C-4FF0-9DCD-9A75ADB8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78541-A921-49BE-A3EC-367DCF54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61109-A3FE-4B2B-9BA7-889E61F2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DCBB4-1098-4953-8561-21EAFB8C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5DD61-8A78-4CF0-930D-0370FE79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230F0-93B1-4C2E-A8BF-99C0DBD5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2DD7D-1DA1-4AE7-8A11-1CA043D8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721A-A197-4A69-89E4-CED50599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FAB48-5115-4068-A142-53DAE87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1F834C-E641-42DA-BEF8-D7103938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0287C-FA8E-458C-B751-17C50607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D3602-8C85-484C-8460-F22990EC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588B8-8C9C-4166-A146-6B8BB705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20991-FE4B-4A41-8823-672D5860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14278-D3D2-46FA-BC82-03DF072E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B6A40-60E8-4AE5-9FCA-18AAA44B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6796C-2495-42FB-AA36-2BC7A8A9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98F3E-10E8-47E0-96D2-0D47E05C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549E-D462-4663-9D96-7D2525CA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636E3-48DC-456A-BF7B-116428E6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D31CC-44A3-4A5F-BCB0-7A8DD3D1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DF066-C054-4890-8434-CE9F6463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19DE6-CC4E-4767-8DCD-D60E93A7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DA76C7-DB6E-4297-B3A0-EB2B8D5C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6CB78D-650F-40C2-B26F-D6C6BDC0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53625-DEF4-4E93-83E2-A99E801C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D3902-2E96-46CF-8057-7BF88993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B5926-1CB2-428C-88D7-E3415E00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33337-D925-4D94-8A07-AFCDCDDE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B7AA-D160-490C-A270-49265976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FAFBF-6A82-4186-9B6F-56F7B993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D64B2-F9E7-4521-ADFA-7DFD40D7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EF0EF-6D1A-4519-B9DB-FC4AC1A9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3CC58-873D-4229-BF78-B3136B57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C79E7-8D62-4035-951B-E20BBC73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AA9F77-C9A4-49EC-A770-DCB6F4FC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59017-AF1F-40BA-8FBE-E833F5CE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BD58D3-20E5-4C58-A532-3BCFBBEE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35CD2-9989-4CC1-9D3F-59C50355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BBA23-B953-476C-91AB-E30344D3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5998-5884-4D2C-B099-4A63E4D8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AFCCB-7A3F-4D4D-BBD2-67BB554F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67180-FB78-4382-AE65-C402D086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81DBC-E6AF-4596-B3F5-CCCD2F45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74DAA1-3212-4127-8335-24D7576B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90FAFB-0117-46F5-B21B-4CCB0C2E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3BA19-F3B5-4B8F-9338-1F7EC9FC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54E70-CDDA-46DB-899D-3A084DB0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C1C09-9A2D-4C77-A3CC-86F57B68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A5417A-3431-4DAE-91EB-A4DA5CCC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8E905-B38E-4E61-B7D0-165BB865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6F3-B707-4DBD-84FE-39698B33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6A28-9A60-4A72-A796-B5A499D6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978621-CA8C-426A-91E4-6F86A2AF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22C18-92D6-4DB3-8712-DAF4C8DE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DD81F-8CD0-46F1-847F-C6879A38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C9674-1D70-411A-9599-4EA8DEDA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6C0CC-CE76-480B-BD8F-C046BB0D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97D643-7D40-4098-9A23-DB885C74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F7E167-BD13-433A-AE9F-8F57F719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9F147A-3C63-49E2-8C21-686E616A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FE5BBA-6540-4713-BCD0-8BF7C7C6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7D948B-5AEC-4E98-BA65-BCAEF551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EB7C-9E66-4C2A-8040-E8B3EE0B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D5266-4A44-47B3-AA1C-39D8A24E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7C6FC-3650-434A-8703-8439301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4697C-96A0-450B-AF60-759FF0A2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ED265-E789-4E23-B1A0-A392FEA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A31C7-4876-4BFB-94DF-03A1D7CF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BBDC4-0E76-403A-AB48-9BE36CB7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BEA81D-10E7-49B4-8993-B5B43935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1DEA8F-A9FF-4C87-BD74-787C695F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42880-EA36-4650-859E-E3F77695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B94567-FAD0-4279-A1E6-FB232782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1749-99A1-4C3A-A727-26FA3270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64CDD6-1BAD-4FBA-8CD5-43C5D756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D2E770-A8E1-4D56-9BD1-4F06AFD6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3DE985-0F09-4C33-BBD9-0FE0D09F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876EE8-571B-4518-8856-5B484F29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4C45DD-5D11-4AC7-8953-8E6E96E0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00F6A7-9083-45DD-8EDF-88FAB762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94B095-E968-4444-9272-63B4E004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BD7664-8125-41B7-9CDA-4F0C1921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9B158-2E00-4B04-90FD-DDFF9CCE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C35160-D0D0-4215-B5A4-E7EE13CE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1FDE-8EB2-475E-B1CC-C049601C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22265-A7E0-4799-A5F2-36C4778A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2011BC-313C-4E0B-A6CF-D693C35C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D307F-EC98-489D-A3B9-1EC3D906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BB731B-9F4F-4E01-AF37-66941009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7C520D-E48B-4BD6-9437-C99D0E3A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44E30-2930-4381-94C4-5A282847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A9F789-10C0-43B6-9F13-42B71BFB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1BC628-B614-450B-AFB2-BEBE0526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E98F8-6874-46D8-8C96-B75B1D0D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21C686-D1DD-40B4-BA16-EA3513785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2A9F-C929-4CA9-B972-265D9F12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3A849-C9DB-4186-B81C-4D6604A9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AC73AC-4E49-44C1-8ADA-808A42EA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9111A5-36B2-4069-BA7D-02222C30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20DC36-F7E3-4C9C-9E22-7C025990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7CA975-2DA0-4820-B16A-8C11DC43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5D278A-A494-4B41-B813-7750ADCE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E7C3E-ED2F-4A1C-B225-1F478AA5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216755-A733-446A-8296-7C93A434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7D164-7C55-42FC-AF52-BD16E150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A41913-A551-45A6-A0C0-9F366233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5401C-406E-4C9D-9914-5353E5AC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ACB449-AE7F-4241-904E-CAB45949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82FD50-8A20-44A3-81C5-36FC3FD7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B06FFC-57E5-4598-AE4A-D51D9CCF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C217CA-B367-4458-B658-79A9184A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EAA803-6DE8-489C-91C3-2E578E55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0A2085-D82E-4AA0-BFB4-EDEBC3D3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7F82CB-97D4-4187-AECF-79433719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BA6F10-CC78-4E83-8784-A9FF1045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88C1C8-6589-4C63-8B55-16B4693A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AC56B3-1439-4817-8769-464119F8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1B987-0F5E-4C60-9170-37D5F084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DEF3B8-ACA3-46DB-A878-34AAD1B6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5EC068-F490-4EEF-B237-6A02017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9EAA35-E4B0-49DB-9A4E-11DE27C2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43DCBD-3E58-4908-B2A3-79DEC2AB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18905A-FF89-4AF8-BA81-DBEAC8BF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543217-EC34-48F6-B198-3648914C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7FC34F-BFB9-4C45-8F08-9FEC84EC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CF329D-82EA-42AE-804B-A042F8F3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733A6F-83BC-416B-B734-1C8EDAEA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4BC0FC-21F0-46D3-8036-3AE4F74F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A672-904F-451B-8BFD-84F155BC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8D7DF1-44D4-40CC-8087-5B921FE2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F9B090-5B65-44FD-B23D-784F146D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F0575C-F616-405E-A3CD-340DF0FA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715049-B481-4C7C-A944-306C33E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C80F15-6302-4A88-AA6E-1A4CF56D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4D3876-95C8-470F-8A2D-EE0FC054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683D56-CAD0-4CFB-8547-C841084C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590BEA-ED3D-4BF1-A917-191A642D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F2B0E6-3073-4DAC-BF25-793C4BD2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21A896-457A-486B-8A38-CBFE14E6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F6BC-73BD-4ED4-93A9-80B23A31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3CFB1A-1897-450D-B060-93DC9274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5F764B-2ACA-4B5F-B1E4-CD5F164A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E595AE-5AC7-441E-8EF6-0DA04E0B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D9DA73-FA48-4DF5-B316-62EFE8D2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59D342-F02F-4A50-8F36-5D73CC77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381250-8610-4297-A36C-E77727E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6B5782-01AE-4DBB-89D8-7FE6FCF2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6566FD-7387-4E04-A202-2A1BF859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BFDF93-4C9E-4F9A-9CBB-C00A4D53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028EED-AE5E-4A91-A266-99FE6632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80E9C-1F2A-4927-8466-67EC6F67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871C21-7D30-4FF0-A940-65E5D4EC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1702DD-85DB-43C3-97D4-B804326F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61066C-B8D7-415F-B05B-3A6F2D18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1AF490-9E85-4C00-BF7A-0DD8C360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C927DB-14D8-4A8B-8DAF-067B3BC9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B2AA0A-9385-4E84-ACC1-2BDA5CCF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0D5A7B-0EE5-4C7E-879E-295C56BC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533B8D-B4C1-4406-A1D2-1AD06FD1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AF1CBC-11A9-419E-9BAF-8DD4E812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1C2B1D-375D-4F02-A1EF-8BF70468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060-6852-47ED-ADED-F9FFF744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1C2B1-0F2D-4DE2-B3A8-1116FD51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DB310C-E047-4A8C-AD96-2CB976B4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AEC09-730A-4A7B-9D5B-9FEB4147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8F17-D89D-4697-B042-1CE3D602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77D2-B527-43C4-ADFF-F85B208B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54B2-C9CE-43ED-81E5-77EE8A99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D172-AAA8-4601-966A-E34860A6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7E117-0B84-41BF-A1FC-A3E2D584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140B9-6454-493C-8CD4-30578A4A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6F78-BF7D-43E2-9555-96C15F3A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992F9-D589-48F0-828A-723ABD81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CEF-5C24-43F4-8A94-3416E4B0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B0A0C-FD38-4C11-80EE-864ADE8C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18E87-8807-4503-94F2-4C07D543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89B2B-9DB4-4C5F-9FE1-E4D9CE89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E144B-A522-4613-AFB9-F3F44CD3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0D50-BBE5-47C8-AEBB-40A8E4B4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17919-F9F4-47AF-A196-C0F96C38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79CEA-365F-4254-93E8-DAD8ECBD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A5C18-367E-4179-B245-6527E0B0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E54C2-849D-4365-9F59-DE679BDE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ACD26-945F-4FEC-86AB-FF3B6BEB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9FC-74CF-44A4-BC92-828FA15E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4A0DD-0C7D-4C5C-A142-8B792162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D9496-E9D0-4024-B926-EB23363A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EDD08-9E48-4CEE-AA22-45C4E80E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D07BA-3642-4523-A687-E8F1DE6F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A0ED0-6714-45DD-9D62-587B5C76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A5A9-C758-4F5F-907A-38E0C5B7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F342F-3C95-4FA0-A6A5-FF5762FB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39A1E-69B2-4F3C-8536-E188243D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8B37B-7A80-4236-868A-35BE1D5B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F3057-CE54-4753-BB75-D46D123A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D94-7D82-472B-9CCD-DF6A863F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24D4A-4AEC-42D7-99CF-B399AA91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CDDE2-0813-484F-B713-5445DFF9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CB3E1-324E-4695-B6E6-973D8F73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BB513-604C-4DE1-9027-A5AEE61C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2A2AB-1219-4F47-BC42-3260DB23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F0969-484D-4CF0-90CC-1E44A6EC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E88E-A376-4EE2-98CF-16081C23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2AF58-2862-4680-A747-4CDE7117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D0D17-03D9-4D28-AE5F-EB4D4C1F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2D28D-0427-4934-A549-141CE7E4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A62-4F54-468B-A989-0631B7F9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BE6A7-46B3-4545-AD96-43FB4FF4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A243A-384F-4C18-9954-E77862DC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2B4E4-7080-4B4A-A6F4-8BF7DFEB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413DE-6ECE-4108-8234-F144A951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41BB6-87E5-449C-B2DC-96262537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4C87B-697A-4464-802B-429FBDAD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181B6-5319-487C-B8EB-9A4C5B7C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EDA5E-1C31-4E9E-868A-B0358F8A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CE3C7-1F39-46F4-8C56-7A6000F3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D93F9-E4D8-44D0-8732-6744DCCC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B6C-96FA-4EE9-B8D1-8C659EAB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2B425-6AEE-4FB3-9F27-F148DA5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B121E-1866-49BA-8B36-31B073DB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23D1F-6E3A-4AAA-8FD7-40274AAD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A0900-A36C-467C-A2B0-59BC49A7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E4E9F-B9CC-42D8-8F43-B62D146C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C249B-34D7-4A9E-A727-B07EBD9F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EED00-49FB-4D9F-BB59-62EAC2CB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4FD77-5CB5-44B7-B5C8-37D0C904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45FE1-09F4-4421-9C67-42C7CC54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C0F31-8BBC-497F-9098-2E4345E2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9C9-8768-48E0-95F1-1ACACDCF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BA89D-6263-4A33-B980-D39895E2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C8D1E-0B43-49A2-AAA7-29BD0D4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F630B-0570-4475-A1D8-99BFD229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D72A9-21DF-4CA4-9C6B-A0271274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89774-FD11-426E-BA6B-59ED13DD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DEC31-5B29-4990-B47D-C6BB2007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6ED57-E356-44DA-B6C4-499D59B8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CEA00-C0B4-4EAE-BAE0-9016DD02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9C425-5CD4-4922-AD29-7A83FC8E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4E528-D696-4B1B-8C18-17B6B974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610080"/>
            <a:ext cx="3257640" cy="32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39FA-75C8-44BC-B76D-EA2CD0B0F8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5857920" y="3619440"/>
            <a:ext cx="3286080" cy="323856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09120" indent="-2343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37080" indent="-1872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11840" indent="-1872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686960" indent="-18720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686960" indent="-1872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686960" indent="-1872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D3DC-2447-4434-AE53-DEE7EF5B62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5600880" y="0"/>
            <a:ext cx="3543120" cy="3753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DC78-8A2C-40A5-BF64-C6B435A0AC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5800680" y="3591000"/>
            <a:ext cx="3343320" cy="3267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A730-2D09-427A-9085-BA5728822D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5867280" y="3695760"/>
            <a:ext cx="3276720" cy="316224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C4BF-E2ED-4AEB-B509-F69F3A8A89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905440" y="3476520"/>
            <a:ext cx="3238560" cy="33814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7067-BBF1-4756-908C-0EAFCF097F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3220920" cy="32767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43880" indent="-191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28000" indent="-191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61DA-66BF-4258-811A-8DB8B0513A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5972040" y="3467160"/>
            <a:ext cx="3171960" cy="33908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D923-8BA4-47C5-97A9-3D9B990BD3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3400560"/>
            <a:ext cx="3076560" cy="345744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3567-B45F-4FC4-A622-7AC535F919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2"/>
          <a:srcRect l="0" t="6349" r="11201" b="0"/>
          <a:stretch/>
        </p:blipFill>
        <p:spPr>
          <a:xfrm>
            <a:off x="6124680" y="0"/>
            <a:ext cx="3019320" cy="337176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5DF4-45BC-4BBE-AF4E-78AE814858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0" y="3390840"/>
            <a:ext cx="3381480" cy="34671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ABD6-34F0-40C9-B2C1-7686FBAAE7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057480"/>
            <a:ext cx="6248520" cy="3800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6C10-24D8-46F5-B080-AB59171DDA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397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795240" algn="ctr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193040" algn="ctr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590840" algn="ctr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5908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5908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6114960" y="3781440"/>
            <a:ext cx="3029040" cy="307656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3CC4-59CA-44F2-9726-251821C3D7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0" y="3381480"/>
            <a:ext cx="3371760" cy="347652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09120" indent="-2343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37080" indent="-1872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11840" indent="-1872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686960" indent="-18720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686960" indent="-1872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686960" indent="-1872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6BCB-6CAC-44FB-B369-2C5065EFC8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5697360" y="3352680"/>
            <a:ext cx="3446640" cy="350532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43880" indent="-191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28000" indent="-191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0E09-19E1-4C0F-BC16-3456C80020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2"/>
          <a:stretch/>
        </p:blipFill>
        <p:spPr>
          <a:xfrm>
            <a:off x="0" y="3705120"/>
            <a:ext cx="3295800" cy="3152880"/>
          </a:xfrm>
          <a:prstGeom prst="rect">
            <a:avLst/>
          </a:prstGeom>
          <a:ln w="0">
            <a:noFill/>
          </a:ln>
        </p:spPr>
      </p:pic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43880" indent="-191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28000" indent="-191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43D4-974F-4E2C-A1C0-6F2CCA617E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2"/>
          <a:stretch/>
        </p:blipFill>
        <p:spPr>
          <a:xfrm>
            <a:off x="5819760" y="3429000"/>
            <a:ext cx="3324240" cy="3429000"/>
          </a:xfrm>
          <a:prstGeom prst="rect">
            <a:avLst/>
          </a:prstGeom>
          <a:ln w="0">
            <a:noFill/>
          </a:ln>
        </p:spPr>
      </p:pic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594360" indent="-2286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14400" indent="-182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280160" indent="-182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645920" indent="-182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D6C1-143E-4EEC-8E8C-9729D1C0B6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5857920" y="0"/>
            <a:ext cx="3286080" cy="6276960"/>
          </a:xfrm>
          <a:prstGeom prst="rect">
            <a:avLst/>
          </a:prstGeom>
          <a:ln w="0">
            <a:noFill/>
          </a:ln>
        </p:spPr>
      </p:pic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8683-1CBB-45EB-B03C-4377F5C1FA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838680"/>
            <a:ext cx="3114720" cy="30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2004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594360" indent="-2286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14400" indent="-182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280160" indent="-182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645920" indent="-182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EB2A-7AEB-4105-BAB9-BD1AA1C741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210360" y="3648240"/>
            <a:ext cx="2933640" cy="3209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DFD1-3B3A-45D9-8093-0916248200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3514680"/>
            <a:ext cx="3209760" cy="3343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99A6-8FAC-484A-A64B-CECB2E1631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6275520" y="3457440"/>
            <a:ext cx="2868480" cy="3400560"/>
            <a:chOff x="6275520" y="3457440"/>
            <a:chExt cx="2868480" cy="3400560"/>
          </a:xfrm>
        </p:grpSpPr>
        <p:grpSp>
          <p:nvGrpSpPr>
            <p:cNvPr id="211" name=""/>
            <p:cNvGrpSpPr/>
            <p:nvPr/>
          </p:nvGrpSpPr>
          <p:grpSpPr>
            <a:xfrm>
              <a:off x="6299280" y="3457440"/>
              <a:ext cx="2844720" cy="3352680"/>
              <a:chOff x="6299280" y="3457440"/>
              <a:chExt cx="2844720" cy="3352680"/>
            </a:xfrm>
          </p:grpSpPr>
          <p:pic>
            <p:nvPicPr>
              <p:cNvPr id="2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99280" y="3457440"/>
                <a:ext cx="2843280" cy="33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5400000">
                <a:off x="7074000" y="2682360"/>
                <a:ext cx="1295280" cy="28447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275520" y="3466800"/>
              <a:ext cx="1243080" cy="3391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BDE1-593E-4CBF-A716-0F22F8EC50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3505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3838680"/>
            <a:ext cx="2886120" cy="30193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8256-26B2-4E43-8E24-0867B3F172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962680" y="3809880"/>
            <a:ext cx="3181320" cy="30481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638C-AB82-4D1F-B265-A5B0DC04DE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0" y="3666960"/>
            <a:ext cx="3029040" cy="31910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622F-2538-444D-9624-8317AD2015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6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汉霄苍茫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牵住繁华哀伤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弯眉间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命中注定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成为过往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风华是一指流砂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苍老是一段年华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夜雨染成天水碧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有些人不需要姿态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也能成就一场惊鸿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千秋功名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一世葬你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玲珑社稷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可笑却无君王命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谁将烟焚散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散了纵横的牵绊；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听弦断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断那三千痴缠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/>
          </p:nvPr>
        </p:nvSpPr>
        <p:spPr>
          <a:xfrm>
            <a:off x="2590560" y="426960"/>
            <a:ext cx="5715000" cy="64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终于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为那一身江南烟雨覆了天下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容华谢后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不过一场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山河永寂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心似浮云常自在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意如流水任东西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碎心心碎碎心事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断情情断断情人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旧心残花葬情身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醉是多情情伤人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遗忘了前生前世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放弃了来生来世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只求轮回渡前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今生今世花开不谢！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静水流深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沧笙踏歌；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三生阴晴圆缺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一朝悲欢离合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长街长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烟花繁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你挑灯回看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短亭短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红尘辗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我把萧再叹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乌云蔽月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人迹踪绝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说不出如斯寂寞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听弦断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断那三千痴缠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坠花湮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湮没一朝风涟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花若怜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落在谁的指尖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谁将烟焚散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散了纵横的牵绊。</a:t>
            </a: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　　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昔有朝歌夜弦之高楼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上有倾城倾国之舞袖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待浮花浪蕊俱尽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伴君幽独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663300"/>
                </a:solidFill>
                <a:latin typeface="Arial"/>
              </a:rPr>
              <a:t>再见</a:t>
            </a:r>
            <a:endParaRPr b="0" lang="en-US" sz="8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苍茫大地一剑尽挽破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何处繁华笙歌落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斜倚云端千壶掩寂寞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纵使他人空笑我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我自是年少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韶华倾负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尘缘从来都如水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罕须泪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何尽一生情？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莫多情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情伤己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荏苒岁月覆盖的过往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白驹过隙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匆匆的铸成一抹哀伤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如是颠簸生世亦无悔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山河拱手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为君一笑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江南风骨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天水成碧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天教心愿与身违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红尘初妆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山河无疆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最初的面庞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碾碎梦魇无常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命格无双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6:58:32Z</dcterms:created>
  <dc:creator/>
  <dc:description/>
  <cp:keywords/>
  <dc:language>en-US</dc:language>
  <cp:lastModifiedBy>angel</cp:lastModifiedBy>
  <dcterms:modified xsi:type="dcterms:W3CDTF">2015-12-11T09:37:3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