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chimes.wav" ContentType="audio/x-wav"/>
  <Override PartName="/ppt/media/image6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9283700" cy="6948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609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523880" y="3782160"/>
            <a:ext cx="609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297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47600" y="1752120"/>
            <a:ext cx="297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523880" y="3782160"/>
            <a:ext cx="297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47600" y="3782160"/>
            <a:ext cx="297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1962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85240" y="1752120"/>
            <a:ext cx="1962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646240" y="1752120"/>
            <a:ext cx="1962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1523880" y="3782160"/>
            <a:ext cx="1962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585240" y="3782160"/>
            <a:ext cx="1962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646240" y="3782160"/>
            <a:ext cx="1962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523880" y="175212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297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47600" y="1752120"/>
            <a:ext cx="297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1523880" y="914040"/>
            <a:ext cx="60962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297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47600" y="1752120"/>
            <a:ext cx="297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523880" y="3782160"/>
            <a:ext cx="297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1523880" y="175212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297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7600" y="1752120"/>
            <a:ext cx="297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47600" y="3782160"/>
            <a:ext cx="297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297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47600" y="1752120"/>
            <a:ext cx="297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23880" y="3782160"/>
            <a:ext cx="609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609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1523880" y="3782160"/>
            <a:ext cx="609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297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47600" y="1752120"/>
            <a:ext cx="297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523880" y="3782160"/>
            <a:ext cx="297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47600" y="3782160"/>
            <a:ext cx="297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1962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585240" y="1752120"/>
            <a:ext cx="1962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646240" y="1752120"/>
            <a:ext cx="1962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1523880" y="3782160"/>
            <a:ext cx="1962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585240" y="3782160"/>
            <a:ext cx="1962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646240" y="3782160"/>
            <a:ext cx="1962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297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47600" y="1752120"/>
            <a:ext cx="297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523880" y="914040"/>
            <a:ext cx="60962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297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47600" y="1752120"/>
            <a:ext cx="297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1523880" y="3782160"/>
            <a:ext cx="297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297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47600" y="1752120"/>
            <a:ext cx="297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47600" y="3782160"/>
            <a:ext cx="297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297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47600" y="1752120"/>
            <a:ext cx="2974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523880" y="3782160"/>
            <a:ext cx="609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19" descr="foodpyramid_bkgrnd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523880" y="175212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99cc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400"/>
              </a:spcBef>
              <a:buClr>
                <a:srgbClr val="99cc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400"/>
              </a:spcBef>
              <a:buClr>
                <a:srgbClr val="99cc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400"/>
              </a:spcBef>
              <a:buClr>
                <a:srgbClr val="99cc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6" descr="foodpyramid_cover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1523880" y="175212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99cc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400"/>
              </a:spcBef>
              <a:buClr>
                <a:srgbClr val="99cc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400"/>
              </a:spcBef>
              <a:buClr>
                <a:srgbClr val="99cc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400"/>
              </a:spcBef>
              <a:buClr>
                <a:srgbClr val="99cc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mypyramid.gov/professionals/food_tracking_wksht.html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pptbz.com/" TargetMode="External"/><Relationship Id="rId3" Type="http://schemas.openxmlformats.org/officeDocument/2006/relationships/hyperlink" Target="http://www.pptbz.com/" TargetMode="External"/><Relationship Id="rId4" Type="http://schemas.openxmlformats.org/officeDocument/2006/relationships/hyperlink" Target="http://www.pptbz.com/" TargetMode="External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200400" y="762120"/>
            <a:ext cx="2743200" cy="167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200" spc="-1" strike="noStrike">
                <a:solidFill>
                  <a:srgbClr val="000000"/>
                </a:solidFill>
                <a:latin typeface="Century Gothic"/>
                <a:ea typeface="宋体"/>
              </a:rPr>
              <a:t>the </a:t>
            </a:r>
            <a:endParaRPr b="0" lang="en-US" sz="8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" name="Rectangle 6"/>
          <p:cNvSpPr/>
          <p:nvPr/>
        </p:nvSpPr>
        <p:spPr>
          <a:xfrm>
            <a:off x="2514600" y="1905120"/>
            <a:ext cx="4114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200" spc="-1" strike="noStrike">
                <a:solidFill>
                  <a:srgbClr val="000000"/>
                </a:solidFill>
                <a:latin typeface="Century Gothic"/>
                <a:ea typeface="宋体"/>
              </a:rPr>
              <a:t>FOOD</a:t>
            </a:r>
            <a:r>
              <a:rPr b="0" lang="en-US" sz="8200" spc="-1" strike="noStrike">
                <a:solidFill>
                  <a:srgbClr val="000000"/>
                </a:solidFill>
                <a:latin typeface="Century Gothic"/>
                <a:ea typeface="宋体"/>
              </a:rPr>
              <a:t> </a:t>
            </a:r>
            <a:endParaRPr b="0" lang="en-US" sz="8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"/>
          <p:cNvSpPr/>
          <p:nvPr/>
        </p:nvSpPr>
        <p:spPr>
          <a:xfrm>
            <a:off x="2057400" y="2514600"/>
            <a:ext cx="5029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200" spc="-1" strike="noStrike">
                <a:solidFill>
                  <a:srgbClr val="000000"/>
                </a:solidFill>
                <a:latin typeface="Century Gothic"/>
                <a:ea typeface="宋体"/>
              </a:rPr>
              <a:t>Pyramid</a:t>
            </a:r>
            <a:endParaRPr b="0" lang="en-US" sz="8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  <a:ea typeface="宋体"/>
              </a:rPr>
              <a:t>Discretionary Calories</a:t>
            </a:r>
            <a:br>
              <a:rPr sz="2800"/>
            </a:br>
            <a:r>
              <a:rPr b="0" lang="en-US" sz="1400" spc="-1" strike="noStrike">
                <a:solidFill>
                  <a:srgbClr val="000000"/>
                </a:solidFill>
                <a:latin typeface="Century Gothic"/>
                <a:ea typeface="宋体"/>
              </a:rPr>
              <a:t>Extras for luxury foods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  <a:ea typeface="宋体"/>
              </a:rPr>
              <a:t>What are discretionary calories?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00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  <a:ea typeface="宋体"/>
              </a:rPr>
              <a:t>Discuss how many discretionary calories children should eat every day.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00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  <a:ea typeface="宋体"/>
              </a:rPr>
              <a:t>Solicit class feedback for examples of ways to use discretionary calories.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13" name="Picture 12" descr=""/>
          <p:cNvPicPr/>
          <p:nvPr/>
        </p:nvPicPr>
        <p:blipFill>
          <a:blip r:embed="rId1"/>
          <a:stretch/>
        </p:blipFill>
        <p:spPr>
          <a:xfrm>
            <a:off x="2743200" y="4799160"/>
            <a:ext cx="3429000" cy="131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  <a:ea typeface="宋体"/>
              </a:rPr>
              <a:t>Physical Activity</a:t>
            </a:r>
            <a:br>
              <a:rPr sz="2800"/>
            </a:br>
            <a:r>
              <a:rPr b="0" lang="en-US" sz="1400" spc="-1" strike="noStrike">
                <a:solidFill>
                  <a:srgbClr val="000000"/>
                </a:solidFill>
                <a:latin typeface="Century Gothic"/>
                <a:ea typeface="宋体"/>
              </a:rPr>
              <a:t>Strive for 60 minutes or more per day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  <a:ea typeface="宋体"/>
              </a:rPr>
              <a:t>What is physical activity?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00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  <a:ea typeface="宋体"/>
              </a:rPr>
              <a:t>Discuss moderate vs. vigorous activity.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00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  <a:ea typeface="宋体"/>
              </a:rPr>
              <a:t>Solicit class feedback for examples of moderate and vigorous activities.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16" name="Picture 4" descr=""/>
          <p:cNvPicPr/>
          <p:nvPr/>
        </p:nvPicPr>
        <p:blipFill>
          <a:blip r:embed="rId1"/>
          <a:stretch/>
        </p:blipFill>
        <p:spPr>
          <a:xfrm>
            <a:off x="2743200" y="4799160"/>
            <a:ext cx="3429000" cy="131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  <a:ea typeface="宋体"/>
              </a:rPr>
              <a:t>Eat Well and Stay Healthy!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  <a:ea typeface="宋体"/>
              </a:rPr>
              <a:t>Encourage children to use the MyPyramid Worksheet, for a week, and to eat their favorite foods in each group to meet their daily requirements.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00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  <a:ea typeface="宋体"/>
              </a:rPr>
              <a:t>Download the worksheet here: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entury Gothic"/>
                <a:ea typeface="宋体"/>
                <a:hlinkClick r:id="rId1"/>
              </a:rPr>
              <a:t>MyPyramid Worksheet</a:t>
            </a:r>
            <a:r>
              <a:rPr b="0" lang="en-US" sz="1600" spc="-1" strike="noStrike">
                <a:solidFill>
                  <a:srgbClr val="000000"/>
                </a:solidFill>
                <a:latin typeface="Century Gothic"/>
                <a:ea typeface="宋体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00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  <a:ea typeface="宋体"/>
              </a:rPr>
              <a:t>Discuss their findings at the end of the week.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00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  <a:ea typeface="宋体"/>
              </a:rPr>
              <a:t>How might each child eat more healthfully? 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19" name="Picture 20" descr=""/>
          <p:cNvPicPr/>
          <p:nvPr/>
        </p:nvPicPr>
        <p:blipFill>
          <a:blip r:embed="rId2"/>
          <a:stretch/>
        </p:blipFill>
        <p:spPr>
          <a:xfrm>
            <a:off x="2743200" y="4800600"/>
            <a:ext cx="3429000" cy="131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  <a:ea typeface="宋体"/>
              </a:rPr>
              <a:t>Eating Right Every Day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  <a:ea typeface="宋体"/>
              </a:rPr>
              <a:t>Briefly describe the point of this lesson, which is that the class will be learning about the relationship between good nutrition and health.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83" name="Picture 10" descr=""/>
          <p:cNvPicPr/>
          <p:nvPr/>
        </p:nvPicPr>
        <p:blipFill>
          <a:blip r:embed="rId1"/>
          <a:stretch/>
        </p:blipFill>
        <p:spPr>
          <a:xfrm>
            <a:off x="2743200" y="4390920"/>
            <a:ext cx="3429000" cy="1319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108" descr="foodpyramid_1"/>
          <p:cNvPicPr/>
          <p:nvPr/>
        </p:nvPicPr>
        <p:blipFill>
          <a:blip r:embed="rId1"/>
          <a:stretch/>
        </p:blipFill>
        <p:spPr>
          <a:xfrm>
            <a:off x="3048120" y="1676520"/>
            <a:ext cx="4605120" cy="362736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18960" y="761760"/>
            <a:ext cx="3733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  <a:ea typeface="宋体"/>
              </a:rPr>
              <a:t>The Food Pyramid</a:t>
            </a:r>
            <a:br>
              <a:rPr sz="3200"/>
            </a:br>
            <a:r>
              <a:rPr b="0" lang="en-US" sz="1400" spc="-1" strike="noStrike">
                <a:solidFill>
                  <a:srgbClr val="000000"/>
                </a:solidFill>
                <a:latin typeface="Century Gothic"/>
                <a:ea typeface="宋体"/>
              </a:rPr>
              <a:t>Steps to a healthier you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6" name="Text Box 100"/>
          <p:cNvSpPr/>
          <p:nvPr/>
        </p:nvSpPr>
        <p:spPr>
          <a:xfrm>
            <a:off x="2286000" y="5410080"/>
            <a:ext cx="914400" cy="228600"/>
          </a:xfrm>
          <a:prstGeom prst="rect">
            <a:avLst/>
          </a:prstGeom>
          <a:solidFill>
            <a:srgbClr val="eb97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rebuchet MS"/>
                <a:ea typeface="宋体"/>
              </a:rPr>
              <a:t>GRAI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01"/>
          <p:cNvSpPr/>
          <p:nvPr/>
        </p:nvSpPr>
        <p:spPr>
          <a:xfrm>
            <a:off x="3276720" y="5410080"/>
            <a:ext cx="914400" cy="228600"/>
          </a:xfrm>
          <a:prstGeom prst="rect">
            <a:avLst/>
          </a:prstGeom>
          <a:solidFill>
            <a:srgbClr val="33a6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rebuchet MS"/>
                <a:ea typeface="宋体"/>
              </a:rPr>
              <a:t>VEGETABL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02"/>
          <p:cNvSpPr/>
          <p:nvPr/>
        </p:nvSpPr>
        <p:spPr>
          <a:xfrm>
            <a:off x="4267080" y="5410080"/>
            <a:ext cx="914400" cy="228600"/>
          </a:xfrm>
          <a:prstGeom prst="rect">
            <a:avLst/>
          </a:prstGeom>
          <a:solidFill>
            <a:srgbClr val="b727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rebuchet MS"/>
                <a:ea typeface="宋体"/>
              </a:rPr>
              <a:t>FRUI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03"/>
          <p:cNvSpPr/>
          <p:nvPr/>
        </p:nvSpPr>
        <p:spPr>
          <a:xfrm>
            <a:off x="5257800" y="5410080"/>
            <a:ext cx="914400" cy="228600"/>
          </a:xfrm>
          <a:prstGeom prst="rect">
            <a:avLst/>
          </a:prstGeom>
          <a:solidFill>
            <a:srgbClr val="f9d7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rebuchet MS"/>
                <a:ea typeface="宋体"/>
              </a:rPr>
              <a:t>OI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04"/>
          <p:cNvSpPr/>
          <p:nvPr/>
        </p:nvSpPr>
        <p:spPr>
          <a:xfrm>
            <a:off x="6248520" y="5410080"/>
            <a:ext cx="914400" cy="228600"/>
          </a:xfrm>
          <a:prstGeom prst="rect">
            <a:avLst/>
          </a:prstGeom>
          <a:solidFill>
            <a:srgbClr val="60c3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rebuchet MS"/>
                <a:ea typeface="宋体"/>
              </a:rPr>
              <a:t>MIL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05"/>
          <p:cNvSpPr/>
          <p:nvPr/>
        </p:nvSpPr>
        <p:spPr>
          <a:xfrm>
            <a:off x="7238880" y="5410080"/>
            <a:ext cx="914400" cy="228600"/>
          </a:xfrm>
          <a:prstGeom prst="rect">
            <a:avLst/>
          </a:prstGeom>
          <a:solidFill>
            <a:srgbClr val="7968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rebuchet MS"/>
                <a:ea typeface="宋体"/>
              </a:rPr>
              <a:t>MEAT &amp; BEA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7" descr="foodpyramid_brea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  <a:ea typeface="宋体"/>
              </a:rPr>
              <a:t>Grains</a:t>
            </a:r>
            <a:br>
              <a:rPr sz="2800"/>
            </a:br>
            <a:r>
              <a:rPr b="0" lang="en-US" sz="1400" spc="-1" strike="noStrike">
                <a:solidFill>
                  <a:srgbClr val="000000"/>
                </a:solidFill>
                <a:latin typeface="Century Gothic"/>
                <a:ea typeface="宋体"/>
              </a:rPr>
              <a:t>Make half of your grains whole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  <a:ea typeface="宋体"/>
              </a:rPr>
              <a:t>List a few examples of grains that are plentiful in your area.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00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  <a:ea typeface="宋体"/>
              </a:rPr>
              <a:t>Discuss how much children should eat every day and when they might have them.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00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  <a:ea typeface="宋体"/>
              </a:rPr>
              <a:t>Together, research and discuss the health benefits of grains.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00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  <a:ea typeface="宋体"/>
              </a:rPr>
              <a:t>Encourage children to list foods that they like from this food group.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19" descr="foodpyramid_veggie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  <a:ea typeface="宋体"/>
              </a:rPr>
              <a:t>Vegetables</a:t>
            </a:r>
            <a:br>
              <a:rPr sz="2800"/>
            </a:br>
            <a:r>
              <a:rPr b="0" lang="en-US" sz="1400" spc="-1" strike="noStrike">
                <a:solidFill>
                  <a:srgbClr val="000000"/>
                </a:solidFill>
                <a:latin typeface="Century Gothic"/>
                <a:ea typeface="宋体"/>
              </a:rPr>
              <a:t>Vary your veggies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  <a:ea typeface="宋体"/>
              </a:rPr>
              <a:t>List a few examples of vegetables that are plentiful in your area.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00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  <a:ea typeface="宋体"/>
              </a:rPr>
              <a:t>Discuss how much children should eat every day and when they might have them.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00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  <a:ea typeface="宋体"/>
              </a:rPr>
              <a:t>Together, research and discuss the health benefits of vegetables.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00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  <a:ea typeface="宋体"/>
              </a:rPr>
              <a:t>Encourage children to list foods that they like from this food group.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0" descr="foodpyramid_fruit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  <a:ea typeface="宋体"/>
              </a:rPr>
              <a:t>Fruits</a:t>
            </a:r>
            <a:br>
              <a:rPr sz="3200"/>
            </a:br>
            <a:r>
              <a:rPr b="0" lang="en-US" sz="1400" spc="-1" strike="noStrike">
                <a:solidFill>
                  <a:srgbClr val="000000"/>
                </a:solidFill>
                <a:latin typeface="Century Gothic"/>
                <a:ea typeface="宋体"/>
              </a:rPr>
              <a:t>Focus on fruits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  <a:ea typeface="宋体"/>
              </a:rPr>
              <a:t>List a few examples of fruits that are plentiful in your area.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00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  <a:ea typeface="宋体"/>
              </a:rPr>
              <a:t>Discuss how much children should eat every day and when they might have them.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00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  <a:ea typeface="宋体"/>
              </a:rPr>
              <a:t>Together, research and discuss the health benefits of fruits.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00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  <a:ea typeface="宋体"/>
              </a:rPr>
              <a:t>Encourage children to list foods that they like from this food group.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17" descr="foodpyramid_oi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  <a:ea typeface="宋体"/>
              </a:rPr>
              <a:t>Oils</a:t>
            </a:r>
            <a:br>
              <a:rPr sz="3200"/>
            </a:br>
            <a:r>
              <a:rPr b="0" lang="en-US" sz="1400" spc="-1" strike="noStrike">
                <a:solidFill>
                  <a:srgbClr val="000000"/>
                </a:solidFill>
                <a:latin typeface="Century Gothic"/>
                <a:ea typeface="宋体"/>
              </a:rPr>
              <a:t>Know your fats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  <a:ea typeface="宋体"/>
              </a:rPr>
              <a:t>List a few examples of oils and fats.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00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  <a:ea typeface="宋体"/>
              </a:rPr>
              <a:t>Discuss how much children should eat daily and what foods contain oils and fats.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00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  <a:ea typeface="宋体"/>
              </a:rPr>
              <a:t>Together, research and discuss the health benefits associated with the different kinds of oils and fats.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00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  <a:ea typeface="宋体"/>
              </a:rPr>
              <a:t>Encourage children to list foods that they like from this food group.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4" name="TextBox 22"/>
          <p:cNvSpPr/>
          <p:nvPr/>
        </p:nvSpPr>
        <p:spPr>
          <a:xfrm>
            <a:off x="1860840" y="3809880"/>
            <a:ext cx="5633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Calibri"/>
                <a:ea typeface="宋体"/>
              </a:rPr>
              <a:t>更多精美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  <a:ea typeface="宋体"/>
              </a:rPr>
              <a:t>ppt</a:t>
            </a:r>
            <a:r>
              <a:rPr b="0" lang="zh-CN" sz="2400" spc="-1" strike="noStrike">
                <a:solidFill>
                  <a:srgbClr val="ff0000"/>
                </a:solidFill>
                <a:latin typeface="Calibri"/>
                <a:ea typeface="宋体"/>
              </a:rPr>
              <a:t>下载请点击：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ppt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宝藏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_www.pptbz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12" descr="foodpyramid_milk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  <a:ea typeface="宋体"/>
              </a:rPr>
              <a:t>Milk</a:t>
            </a:r>
            <a:br>
              <a:rPr sz="2800"/>
            </a:br>
            <a:r>
              <a:rPr b="0" lang="en-US" sz="1400" spc="-1" strike="noStrike">
                <a:solidFill>
                  <a:srgbClr val="000000"/>
                </a:solidFill>
                <a:latin typeface="Century Gothic"/>
                <a:ea typeface="宋体"/>
              </a:rPr>
              <a:t>Get your calcium rich foods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  <a:ea typeface="宋体"/>
              </a:rPr>
              <a:t>List a few examples of milk products.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00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  <a:ea typeface="宋体"/>
              </a:rPr>
              <a:t>Discuss how much children should eat daily and when they might have them.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00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  <a:ea typeface="宋体"/>
              </a:rPr>
              <a:t>Together, research and discuss the health benefits of milk products.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00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  <a:ea typeface="宋体"/>
              </a:rPr>
              <a:t>Encourage children to list foods that they like from this food group.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11" descr="foodpyramid_protie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3880" y="91404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  <a:ea typeface="宋体"/>
              </a:rPr>
              <a:t>Meat and Beans</a:t>
            </a:r>
            <a:br>
              <a:rPr sz="2800"/>
            </a:br>
            <a:r>
              <a:rPr b="0" lang="en-US" sz="1400" spc="-1" strike="noStrike">
                <a:solidFill>
                  <a:srgbClr val="000000"/>
                </a:solidFill>
                <a:latin typeface="Century Gothic"/>
                <a:ea typeface="宋体"/>
              </a:rPr>
              <a:t>Go lean on protein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523880" y="175212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  <a:ea typeface="宋体"/>
              </a:rPr>
              <a:t>List a few examples of meat and bean products that are plentiful in your area.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00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  <a:ea typeface="宋体"/>
              </a:rPr>
              <a:t>Discuss how much children should eat daily and when they might have them.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00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  <a:ea typeface="宋体"/>
              </a:rPr>
              <a:t>Together, research and discuss the health benefits of meat and beans.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00"/>
              </a:spcBef>
              <a:buClr>
                <a:srgbClr val="99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  <a:ea typeface="宋体"/>
              </a:rPr>
              <a:t>Encourage children to list foods that they like from this food group.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8T19:09:22Z</dcterms:created>
  <dc:creator>Administrator</dc:creator>
  <dc:description/>
  <dc:language>en-US</dc:language>
  <cp:lastModifiedBy>angel</cp:lastModifiedBy>
  <dcterms:modified xsi:type="dcterms:W3CDTF">2015-12-11T01:42:19Z</dcterms:modified>
  <cp:revision>12</cp:revision>
  <dc:subject/>
  <dc:title>Food pyramid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PAuthor">
    <vt:lpwstr>191</vt:lpwstr>
  </property>
  <property fmtid="{D5CDD505-2E9C-101B-9397-08002B2CF9AE}" pid="3" name="APEditor">
    <vt:lpwstr>92</vt:lpwstr>
  </property>
  <property fmtid="{D5CDD505-2E9C-101B-9397-08002B2CF9AE}" pid="4" name="APTrustLevel">
    <vt:lpwstr>1.00000000000000</vt:lpwstr>
  </property>
  <property fmtid="{D5CDD505-2E9C-101B-9397-08002B2CF9AE}" pid="5" name="AppVer">
    <vt:lpwstr/>
  </property>
  <property fmtid="{D5CDD505-2E9C-101B-9397-08002B2CF9AE}" pid="6" name="Applications">
    <vt:lpwstr>79;#Template 12;#65;#Microsoft Office PowerPoint 2007;#64;#PowerPoint 2003;#184;#Office 2000;#182;#Office XP</vt:lpwstr>
  </property>
  <property fmtid="{D5CDD505-2E9C-101B-9397-08002B2CF9AE}" pid="7" name="AssetId">
    <vt:lpwstr>TS001018804</vt:lpwstr>
  </property>
  <property fmtid="{D5CDD505-2E9C-101B-9397-08002B2CF9AE}" pid="8" name="AssetType">
    <vt:lpwstr>TP</vt:lpwstr>
  </property>
  <property fmtid="{D5CDD505-2E9C-101B-9397-08002B2CF9AE}" pid="9" name="AuthoringAssetId">
    <vt:lpwstr>TP001018804</vt:lpwstr>
  </property>
  <property fmtid="{D5CDD505-2E9C-101B-9397-08002B2CF9AE}" pid="10" name="BugNumber">
    <vt:lpwstr>498502L</vt:lpwstr>
  </property>
  <property fmtid="{D5CDD505-2E9C-101B-9397-08002B2CF9AE}" pid="11" name="Content Type">
    <vt:lpwstr>OOFile</vt:lpwstr>
  </property>
  <property fmtid="{D5CDD505-2E9C-101B-9397-08002B2CF9AE}" pid="12" name="ContentTypeId">
    <vt:lpwstr>0x0101006025706CF4CD034688BEBAE97A2E701D020200C3831ACA17D8814887A164412888521E</vt:lpwstr>
  </property>
  <property fmtid="{D5CDD505-2E9C-101B-9397-08002B2CF9AE}" pid="13" name="IsDeleted">
    <vt:lpwstr>0</vt:lpwstr>
  </property>
  <property fmtid="{D5CDD505-2E9C-101B-9397-08002B2CF9AE}" pid="14" name="IsSearchable">
    <vt:lpwstr>0</vt:lpwstr>
  </property>
  <property fmtid="{D5CDD505-2E9C-101B-9397-08002B2CF9AE}" pid="15" name="KSOProductBuildVer">
    <vt:lpwstr>2052-9.1.0.4715</vt:lpwstr>
  </property>
  <property fmtid="{D5CDD505-2E9C-101B-9397-08002B2CF9AE}" pid="16" name="Markets">
    <vt:lpwstr>en-us</vt:lpwstr>
  </property>
  <property fmtid="{D5CDD505-2E9C-101B-9397-08002B2CF9AE}" pid="17" name="Milestone">
    <vt:lpwstr>Continuous</vt:lpwstr>
  </property>
  <property fmtid="{D5CDD505-2E9C-101B-9397-08002B2CF9AE}" pid="18" name="NumericAssetId">
    <vt:lpwstr/>
  </property>
  <property fmtid="{D5CDD505-2E9C-101B-9397-08002B2CF9AE}" pid="19" name="NumericId">
    <vt:lpwstr>-1.00000000000000</vt:lpwstr>
  </property>
  <property fmtid="{D5CDD505-2E9C-101B-9397-08002B2CF9AE}" pid="20" name="OpenTemplate">
    <vt:lpwstr>1</vt:lpwstr>
  </property>
  <property fmtid="{D5CDD505-2E9C-101B-9397-08002B2CF9AE}" pid="21" name="PrimaryImageGen">
    <vt:lpwstr>1</vt:lpwstr>
  </property>
  <property fmtid="{D5CDD505-2E9C-101B-9397-08002B2CF9AE}" pid="22" name="Provider">
    <vt:lpwstr>EY006220130</vt:lpwstr>
  </property>
  <property fmtid="{D5CDD505-2E9C-101B-9397-08002B2CF9AE}" pid="23" name="PublishStatusLookup">
    <vt:lpwstr>258962</vt:lpwstr>
  </property>
  <property fmtid="{D5CDD505-2E9C-101B-9397-08002B2CF9AE}" pid="24" name="PublishTargets">
    <vt:lpwstr>OfficeOnline</vt:lpwstr>
  </property>
  <property fmtid="{D5CDD505-2E9C-101B-9397-08002B2CF9AE}" pid="25" name="ShowIn">
    <vt:lpwstr>Show everywhere</vt:lpwstr>
  </property>
  <property fmtid="{D5CDD505-2E9C-101B-9397-08002B2CF9AE}" pid="26" name="SourceTitle">
    <vt:lpwstr>Food pyramid presentation</vt:lpwstr>
  </property>
  <property fmtid="{D5CDD505-2E9C-101B-9397-08002B2CF9AE}" pid="27" name="TPAppVersion">
    <vt:lpwstr>11</vt:lpwstr>
  </property>
  <property fmtid="{D5CDD505-2E9C-101B-9397-08002B2CF9AE}" pid="28" name="TPApplication">
    <vt:lpwstr>PowerPoint</vt:lpwstr>
  </property>
  <property fmtid="{D5CDD505-2E9C-101B-9397-08002B2CF9AE}" pid="29" name="TPClientViewer">
    <vt:lpwstr>Microsoft Office PowerPoint</vt:lpwstr>
  </property>
  <property fmtid="{D5CDD505-2E9C-101B-9397-08002B2CF9AE}" pid="30" name="TPCommandLine">
    <vt:lpwstr>{PP} /n {FilePath}</vt:lpwstr>
  </property>
  <property fmtid="{D5CDD505-2E9C-101B-9397-08002B2CF9AE}" pid="31" name="TPComponent">
    <vt:lpwstr>PPTFiles</vt:lpwstr>
  </property>
  <property fmtid="{D5CDD505-2E9C-101B-9397-08002B2CF9AE}" pid="32" name="TPFriendlyName">
    <vt:lpwstr>Food pyramid presentation</vt:lpwstr>
  </property>
  <property fmtid="{D5CDD505-2E9C-101B-9397-08002B2CF9AE}" pid="33" name="TPInstallLocation">
    <vt:lpwstr>{My Templates}</vt:lpwstr>
  </property>
  <property fmtid="{D5CDD505-2E9C-101B-9397-08002B2CF9AE}" pid="34" name="TPLaunchHelpLink">
    <vt:lpwstr/>
  </property>
  <property fmtid="{D5CDD505-2E9C-101B-9397-08002B2CF9AE}" pid="35" name="TPLaunchHelpLinkType">
    <vt:lpwstr>Template</vt:lpwstr>
  </property>
  <property fmtid="{D5CDD505-2E9C-101B-9397-08002B2CF9AE}" pid="36" name="TPNamespace">
    <vt:lpwstr>POWERPNT</vt:lpwstr>
  </property>
  <property fmtid="{D5CDD505-2E9C-101B-9397-08002B2CF9AE}" pid="37" name="TemplateStatus">
    <vt:lpwstr>Complete</vt:lpwstr>
  </property>
  <property fmtid="{D5CDD505-2E9C-101B-9397-08002B2CF9AE}" pid="38" name="TemplateType">
    <vt:lpwstr>Presentations</vt:lpwstr>
  </property>
  <property fmtid="{D5CDD505-2E9C-101B-9397-08002B2CF9AE}" pid="39" name="TrustLevel">
    <vt:lpwstr>Microsoft Managed Content</vt:lpwstr>
  </property>
  <property fmtid="{D5CDD505-2E9C-101B-9397-08002B2CF9AE}" pid="40" name="UACurrentWords">
    <vt:lpwstr>0</vt:lpwstr>
  </property>
  <property fmtid="{D5CDD505-2E9C-101B-9397-08002B2CF9AE}" pid="41" name="UALocRecommendation">
    <vt:lpwstr>Localize</vt:lpwstr>
  </property>
  <property fmtid="{D5CDD505-2E9C-101B-9397-08002B2CF9AE}" pid="42" name="UANotes">
    <vt:lpwstr>314KB file size. Assigned to Luann for retrofit pass</vt:lpwstr>
  </property>
  <property fmtid="{D5CDD505-2E9C-101B-9397-08002B2CF9AE}" pid="43" name="display_urn:schemas-microsoft-com:office:office#APAuthor">
    <vt:lpwstr>REDMOND\cynvey</vt:lpwstr>
  </property>
  <property fmtid="{D5CDD505-2E9C-101B-9397-08002B2CF9AE}" pid="44" name="display_urn:schemas-microsoft-com:office:office#APEditor">
    <vt:lpwstr>REDMOND\v-luannv</vt:lpwstr>
  </property>
</Properties>
</file>