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466-CEDC-41AB-BA65-80E5BB1D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908-6757-4A53-B3E6-E169ECF7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E26-E33C-487C-8215-D8D01F5D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783-FA6F-4A9F-89F2-0854620C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9918-8E7E-4C9E-9A77-2E8EB0D1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3459-693B-485B-A8E9-A553BC3E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DAB2-4601-4906-A28D-51856D8E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ACBB-BF6F-4870-9796-E2FE2B56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A5D9-B122-4EDB-93AF-36EB420F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168C-F738-479D-9965-029DFAE6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FF32-CB08-44E5-88A9-07E580B6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AF5-545D-4D3F-A5E3-11346085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DB43-DDCE-41F6-964F-DCA6EB1C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5206-05CD-401D-A054-F30CB616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14EC-E1BF-4057-8139-944CAF63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151C-4CAD-42D4-BC47-B57E3883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DFD4-CD97-455F-9465-D59AEE18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5A1-67B0-4541-95EC-BD106A41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510E-117A-447E-A16A-133BF21A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DB20-ACCA-45AF-8CD5-8E6313A4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815-5923-4BBA-B422-E8BF8057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4A5-F1BD-4FFD-8149-E5812C35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B39-6D85-4BAA-B55B-D64269E9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E498-2EAA-4967-9E09-7BE729CE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7663-3A5C-4D98-BE50-06C03040F8E7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B708-3E14-4D4C-A0D5-0E0627E286D4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Impact"/>
                <a:ea typeface="宋体"/>
              </a:rPr>
              <a:t>AGRICULTURE FARMER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838080" y="1447920"/>
            <a:ext cx="4724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Impact"/>
                <a:ea typeface="宋体"/>
              </a:rPr>
              <a:t>YOUR SUB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716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12" descr="farmer_and_his_wife_hg_clr"/>
          <p:cNvPicPr/>
          <p:nvPr/>
        </p:nvPicPr>
        <p:blipFill>
          <a:blip r:embed="rId1"/>
          <a:stretch/>
        </p:blipFill>
        <p:spPr>
          <a:xfrm>
            <a:off x="6539040" y="3905280"/>
            <a:ext cx="260496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5228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Impact"/>
                <a:ea typeface="宋体"/>
              </a:rPr>
              <a:t>TRANSITIONAL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6933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10" descr="farmer"/>
          <p:cNvPicPr/>
          <p:nvPr/>
        </p:nvPicPr>
        <p:blipFill>
          <a:blip r:embed="rId2"/>
          <a:stretch/>
        </p:blipFill>
        <p:spPr>
          <a:xfrm>
            <a:off x="6624720" y="4403880"/>
            <a:ext cx="2367000" cy="207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5:08:34Z</dcterms:created>
  <dc:creator>Billgates</dc:creator>
  <dc:description/>
  <dc:language>en-US</dc:language>
  <cp:lastModifiedBy>nana</cp:lastModifiedBy>
  <dcterms:modified xsi:type="dcterms:W3CDTF">2016-04-13T04:16:24Z</dcterms:modified>
  <cp:revision>5</cp:revision>
  <dc:subject/>
  <dc:title> </dc:title>
</cp:coreProperties>
</file>