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565-FA04-4D5A-8C94-DBF75604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43C-18C4-4E82-AD63-A5A5015A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CF2-4F21-4CFE-BC52-503CA190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04D-AD8A-4CDF-A41F-63A3E364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0E23-9CB7-46DD-AC67-D65F2164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A28E-8B0E-4CFB-A0A6-B5A6472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ED98-8BBA-4666-8049-801B2A4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D1D9-4EC7-4EF6-8F7F-204489B3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E71D-0B85-494E-9129-AB62F0B9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B0B7-D2C9-4125-87C8-EA577C8D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EA01-4E8B-4B5F-B703-EC109EC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8B9-2A0A-4669-980B-7382B97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B998-4F4F-4D0B-B02E-C6A306A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F39F-39D4-4473-BEF5-CF1E838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1AD5-262F-4AE2-B0D6-B795BC1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1516-C797-4052-9AD2-DF6C5B6C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AD3C-CE8F-4591-9EF8-7FAA9CED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D05-401B-413C-917A-BE2B7947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ABC-6C43-474E-BABA-9FE78488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919-E26D-4D1C-8D5B-B1AAC02E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433-AD9B-481C-AD11-4DE84F4F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2B9-CFE2-4983-BE19-62820223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2DE-D161-4314-A268-5BEB5BF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EB8-BD80-4E31-89EF-8C7E6A7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3AE4-5304-49F9-8C15-09B1CCE7A896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9508-3EA5-414F-BAC4-A793814ACA6A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Impact"/>
                <a:ea typeface="宋体"/>
              </a:rPr>
              <a:t>AGRICULTURE FARMER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838080" y="1447920"/>
            <a:ext cx="4724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Impact"/>
                <a:ea typeface="宋体"/>
              </a:rPr>
              <a:t>YOUR SUB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716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12" descr="farmer_and_his_wife_hg_clr"/>
          <p:cNvPicPr/>
          <p:nvPr/>
        </p:nvPicPr>
        <p:blipFill>
          <a:blip r:embed="rId1"/>
          <a:stretch/>
        </p:blipFill>
        <p:spPr>
          <a:xfrm>
            <a:off x="6539040" y="3905280"/>
            <a:ext cx="260496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  <a:ea typeface="宋体"/>
              </a:rPr>
              <a:t>TRANSITIONAL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6933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10" descr="farmer"/>
          <p:cNvPicPr/>
          <p:nvPr/>
        </p:nvPicPr>
        <p:blipFill>
          <a:blip r:embed="rId2"/>
          <a:stretch/>
        </p:blipFill>
        <p:spPr>
          <a:xfrm>
            <a:off x="6624720" y="4403880"/>
            <a:ext cx="2367000" cy="20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5:08:34Z</dcterms:created>
  <dc:creator>Billgates</dc:creator>
  <dc:description/>
  <dc:language>en-US</dc:language>
  <cp:lastModifiedBy>nana</cp:lastModifiedBy>
  <dcterms:modified xsi:type="dcterms:W3CDTF">2016-04-13T04:16:24Z</dcterms:modified>
  <cp:revision>5</cp:revision>
  <dc:subject/>
  <dc:title> </dc:title>
</cp:coreProperties>
</file>