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1A44-9CB8-4E16-8EE6-3FE0BA71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7EA-3C66-4F6E-AD06-08D06C38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8AE-6B59-4310-9D30-DFE02F32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7CF1-1C69-4CC1-A9AE-956B40E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3A0-6EAC-45C9-80AB-8D70B6D5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1BF-D132-4885-8CEA-50BA7CB7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285-E465-4DB3-934A-6319F8DA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2F0-1C11-4D2F-A2C7-F8110F1C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0A0E-8FC8-445E-87E0-EC28997A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9BB-C4DA-45AB-8B5E-8A496B2D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F2B-7BC5-452D-A5D0-43CE30B5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06C-7930-41AF-B16B-04D9253C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308D-2D89-4E17-BC9A-20C174A56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2"/>
          <p:cNvSpPr/>
          <p:nvPr/>
        </p:nvSpPr>
        <p:spPr>
          <a:xfrm>
            <a:off x="-20520" y="5248440"/>
            <a:ext cx="9161280" cy="160956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"/>
          <p:cNvSpPr/>
          <p:nvPr/>
        </p:nvSpPr>
        <p:spPr>
          <a:xfrm>
            <a:off x="-20520" y="4305240"/>
            <a:ext cx="9161280" cy="1571760"/>
          </a:xfrm>
          <a:custGeom>
            <a:avLst/>
            <a:gdLst>
              <a:gd name="textAreaLeft" fmla="*/ 0 w 9161280"/>
              <a:gd name="textAreaRight" fmla="*/ 9161640 w 91612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-20520" y="2665440"/>
            <a:ext cx="9163080" cy="169560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-19080" y="1701720"/>
            <a:ext cx="9167760" cy="1446120"/>
          </a:xfrm>
          <a:custGeom>
            <a:avLst/>
            <a:gdLst>
              <a:gd name="textAreaLeft" fmla="*/ 0 w 9167760"/>
              <a:gd name="textAreaRight" fmla="*/ 9168120 w 916776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"/>
          <p:cNvSpPr/>
          <p:nvPr/>
        </p:nvSpPr>
        <p:spPr>
          <a:xfrm>
            <a:off x="-12600" y="227160"/>
            <a:ext cx="9155160" cy="179208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-1440" y="-23760"/>
            <a:ext cx="9153360" cy="128916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5567400" y="4500720"/>
            <a:ext cx="904680" cy="844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 rot="21420000">
            <a:off x="258840" y="2603160"/>
            <a:ext cx="511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95920" y="1725480"/>
            <a:ext cx="4344840" cy="5132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756400" y="2665440"/>
            <a:ext cx="15541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0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1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3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72200" cy="5629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5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81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C:\Documents and Settings\Administrator\桌面\12 [转换].png"/>
          <p:cNvPicPr/>
          <p:nvPr/>
        </p:nvPicPr>
        <p:blipFill>
          <a:blip r:embed="rId1"/>
          <a:stretch/>
        </p:blipFill>
        <p:spPr>
          <a:xfrm>
            <a:off x="3446640" y="4395960"/>
            <a:ext cx="1596960" cy="1749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C:\Documents and Settings\Administrator\桌面\13 [转换].png"/>
          <p:cNvPicPr/>
          <p:nvPr/>
        </p:nvPicPr>
        <p:blipFill>
          <a:blip r:embed="rId2"/>
          <a:stretch/>
        </p:blipFill>
        <p:spPr>
          <a:xfrm>
            <a:off x="501480" y="4076640"/>
            <a:ext cx="1941840" cy="2044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C:\Documents and Settings\Administrator\桌面\13 [转换].png"/>
          <p:cNvPicPr/>
          <p:nvPr/>
        </p:nvPicPr>
        <p:blipFill>
          <a:blip r:embed="rId3"/>
          <a:stretch/>
        </p:blipFill>
        <p:spPr>
          <a:xfrm>
            <a:off x="1368360" y="4076640"/>
            <a:ext cx="1514520" cy="1755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C:\Documents and Settings\Administrator\桌面\12 [转换].png"/>
          <p:cNvPicPr/>
          <p:nvPr/>
        </p:nvPicPr>
        <p:blipFill>
          <a:blip r:embed="rId4"/>
          <a:stretch/>
        </p:blipFill>
        <p:spPr>
          <a:xfrm>
            <a:off x="5708520" y="4592520"/>
            <a:ext cx="1847880" cy="1644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C:\Documents and Settings\Administrator\桌面\12 [转换].png"/>
          <p:cNvPicPr/>
          <p:nvPr/>
        </p:nvPicPr>
        <p:blipFill>
          <a:blip r:embed="rId5"/>
          <a:stretch/>
        </p:blipFill>
        <p:spPr>
          <a:xfrm>
            <a:off x="4162320" y="4176720"/>
            <a:ext cx="1673280" cy="1284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C:\Documents and Settings\Administrator\桌面\12 [转换].png"/>
          <p:cNvPicPr/>
          <p:nvPr/>
        </p:nvPicPr>
        <p:blipFill>
          <a:blip r:embed="rId6"/>
          <a:stretch/>
        </p:blipFill>
        <p:spPr>
          <a:xfrm rot="2673000">
            <a:off x="6813720" y="4037040"/>
            <a:ext cx="2206440" cy="2160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7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9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93" name="Picture 2" descr=""/>
            <p:cNvPicPr/>
            <p:nvPr/>
          </p:nvPicPr>
          <p:blipFill>
            <a:blip r:embed="rId8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" descr=""/>
            <p:cNvPicPr/>
            <p:nvPr/>
          </p:nvPicPr>
          <p:blipFill>
            <a:blip r:embed="rId9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2" descr=""/>
            <p:cNvPicPr/>
            <p:nvPr/>
          </p:nvPicPr>
          <p:blipFill>
            <a:blip r:embed="rId10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2" descr=""/>
            <p:cNvPicPr/>
            <p:nvPr/>
          </p:nvPicPr>
          <p:blipFill>
            <a:blip r:embed="rId11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7" name="Picture 12" descr="C:\Documents and Settings\Administrator\桌面\12 [转换].png"/>
          <p:cNvPicPr/>
          <p:nvPr/>
        </p:nvPicPr>
        <p:blipFill>
          <a:blip r:embed="rId12"/>
          <a:stretch/>
        </p:blipFill>
        <p:spPr>
          <a:xfrm>
            <a:off x="4532400" y="741240"/>
            <a:ext cx="4093920" cy="3048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C:\Documents and Settings\Administrator\桌面\12 [转换].png"/>
          <p:cNvPicPr/>
          <p:nvPr/>
        </p:nvPicPr>
        <p:blipFill>
          <a:blip r:embed="rId13"/>
          <a:stretch/>
        </p:blipFill>
        <p:spPr>
          <a:xfrm>
            <a:off x="587520" y="787320"/>
            <a:ext cx="3768480" cy="301788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4532400" y="6310440"/>
            <a:ext cx="2825640" cy="10936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3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203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7" name="Picture 17" descr="C:\Documents and Settings\Administrator\桌面\15 [转换].png"/>
          <p:cNvPicPr/>
          <p:nvPr/>
        </p:nvPicPr>
        <p:blipFill>
          <a:blip r:embed="rId6"/>
          <a:srcRect l="25205" t="0" r="0" b="0"/>
          <a:stretch/>
        </p:blipFill>
        <p:spPr>
          <a:xfrm>
            <a:off x="4871880" y="1030320"/>
            <a:ext cx="3930840" cy="477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8" descr="C:\Documents and Settings\Administrator\桌面\14 [转换].png"/>
          <p:cNvPicPr/>
          <p:nvPr/>
        </p:nvPicPr>
        <p:blipFill>
          <a:blip r:embed="rId7"/>
          <a:stretch/>
        </p:blipFill>
        <p:spPr>
          <a:xfrm>
            <a:off x="395280" y="898560"/>
            <a:ext cx="4521240" cy="4906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C:\Documents and Settings\Administrator\桌面\15 [转换].png"/>
          <p:cNvPicPr/>
          <p:nvPr/>
        </p:nvPicPr>
        <p:blipFill>
          <a:blip r:embed="rId8"/>
          <a:stretch/>
        </p:blipFill>
        <p:spPr>
          <a:xfrm>
            <a:off x="3879720" y="3227400"/>
            <a:ext cx="147960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C:\Documents and Settings\Administrator\桌面\图片1.png"/>
          <p:cNvPicPr/>
          <p:nvPr/>
        </p:nvPicPr>
        <p:blipFill>
          <a:blip r:embed="rId1"/>
          <a:stretch/>
        </p:blipFill>
        <p:spPr>
          <a:xfrm>
            <a:off x="2073240" y="2693880"/>
            <a:ext cx="4230720" cy="1238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340000" y="3608280"/>
            <a:ext cx="4395600" cy="181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2135160" y="2644920"/>
            <a:ext cx="49579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C:\Documents and Settings\Administrator\桌面\abstract-design-with-beautiful-flowers2.png"/>
          <p:cNvPicPr/>
          <p:nvPr/>
        </p:nvPicPr>
        <p:blipFill>
          <a:blip r:embed="rId2"/>
          <a:stretch/>
        </p:blipFill>
        <p:spPr>
          <a:xfrm flipH="1" rot="831600">
            <a:off x="1798920" y="2477880"/>
            <a:ext cx="1219320" cy="110484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6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93" name="Picture 2" descr=""/>
            <p:cNvPicPr/>
            <p:nvPr/>
          </p:nvPicPr>
          <p:blipFill>
            <a:blip r:embed="rId3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2" descr=""/>
            <p:cNvPicPr/>
            <p:nvPr/>
          </p:nvPicPr>
          <p:blipFill>
            <a:blip r:embed="rId4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" descr=""/>
            <p:cNvPicPr/>
            <p:nvPr/>
          </p:nvPicPr>
          <p:blipFill>
            <a:blip r:embed="rId5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" descr=""/>
            <p:cNvPicPr/>
            <p:nvPr/>
          </p:nvPicPr>
          <p:blipFill>
            <a:blip r:embed="rId6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112E-017 1.85185E-006 L 0.44063 1.85185E-006 E">
                                      <p:cBhvr>
                                        <p:cTn id="6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">
                                      <p:cBhvr>
                                        <p:cTn id="6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6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椭圆 19"/>
          <p:cNvSpPr/>
          <p:nvPr/>
        </p:nvSpPr>
        <p:spPr>
          <a:xfrm>
            <a:off x="7064280" y="833400"/>
            <a:ext cx="676440" cy="660600"/>
          </a:xfrm>
          <a:prstGeom prst="ellipse">
            <a:avLst/>
          </a:prstGeom>
          <a:solidFill>
            <a:srgbClr val="d9d9d9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2"/>
          <p:cNvSpPr/>
          <p:nvPr/>
        </p:nvSpPr>
        <p:spPr>
          <a:xfrm>
            <a:off x="-395280" y="5516640"/>
            <a:ext cx="1438200" cy="1441440"/>
          </a:xfrm>
          <a:prstGeom prst="ellipse">
            <a:avLst/>
          </a:prstGeom>
          <a:solidFill>
            <a:srgbClr val="d9d9d9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00" name="Rectangle 4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5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6130800" y="5492880"/>
            <a:ext cx="601920" cy="561960"/>
          </a:xfrm>
          <a:prstGeom prst="rect">
            <a:avLst/>
          </a:prstGeom>
          <a:ln w="0">
            <a:noFill/>
          </a:ln>
        </p:spPr>
      </p:pic>
      <p:sp>
        <p:nvSpPr>
          <p:cNvPr id="104" name="椭圆 16"/>
          <p:cNvSpPr/>
          <p:nvPr/>
        </p:nvSpPr>
        <p:spPr>
          <a:xfrm>
            <a:off x="4718160" y="3838680"/>
            <a:ext cx="1295280" cy="131904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7"/>
          <p:cNvSpPr/>
          <p:nvPr/>
        </p:nvSpPr>
        <p:spPr>
          <a:xfrm>
            <a:off x="1314360" y="2217600"/>
            <a:ext cx="2178000" cy="2148120"/>
          </a:xfrm>
          <a:prstGeom prst="ellipse">
            <a:avLst/>
          </a:prstGeom>
          <a:solidFill>
            <a:srgbClr val="d9d9d9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8"/>
          <p:cNvSpPr/>
          <p:nvPr/>
        </p:nvSpPr>
        <p:spPr>
          <a:xfrm>
            <a:off x="4743360" y="2297160"/>
            <a:ext cx="906480" cy="922320"/>
          </a:xfrm>
          <a:prstGeom prst="ellipse">
            <a:avLst/>
          </a:prstGeom>
          <a:solidFill>
            <a:srgbClr val="d9d9d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6378480" y="3627360"/>
            <a:ext cx="2721240" cy="321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6659640" y="4365720"/>
            <a:ext cx="973080" cy="8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9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0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2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85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6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88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bstract-design-with-beautiful-flowers1"/>
          <p:cNvPicPr/>
          <p:nvPr/>
        </p:nvPicPr>
        <p:blipFill>
          <a:blip r:embed="rId1"/>
          <a:stretch/>
        </p:blipFill>
        <p:spPr>
          <a:xfrm>
            <a:off x="2597040" y="5573880"/>
            <a:ext cx="246240" cy="519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abstract-design-with-beautiful-flowers1"/>
          <p:cNvPicPr/>
          <p:nvPr/>
        </p:nvPicPr>
        <p:blipFill>
          <a:blip r:embed="rId2"/>
          <a:stretch/>
        </p:blipFill>
        <p:spPr>
          <a:xfrm>
            <a:off x="250920" y="489600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bstract-design-with-beautiful-flowers1"/>
          <p:cNvPicPr/>
          <p:nvPr/>
        </p:nvPicPr>
        <p:blipFill>
          <a:blip r:embed="rId3"/>
          <a:stretch/>
        </p:blipFill>
        <p:spPr>
          <a:xfrm>
            <a:off x="128592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abstract-design-with-beautiful-flowers1"/>
          <p:cNvPicPr/>
          <p:nvPr/>
        </p:nvPicPr>
        <p:blipFill>
          <a:blip r:embed="rId4"/>
          <a:stretch/>
        </p:blipFill>
        <p:spPr>
          <a:xfrm>
            <a:off x="2124000" y="5543640"/>
            <a:ext cx="405000" cy="406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6477120"/>
            <a:ext cx="9142560" cy="3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15" name="Rectangle 2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4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Oval 15"/>
          <p:cNvSpPr/>
          <p:nvPr/>
        </p:nvSpPr>
        <p:spPr>
          <a:xfrm>
            <a:off x="358920" y="4221000"/>
            <a:ext cx="684000" cy="71928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4"/>
          <p:cNvSpPr/>
          <p:nvPr/>
        </p:nvSpPr>
        <p:spPr>
          <a:xfrm>
            <a:off x="2700360" y="3789360"/>
            <a:ext cx="1942920" cy="230184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2"/>
          <p:cNvSpPr/>
          <p:nvPr/>
        </p:nvSpPr>
        <p:spPr>
          <a:xfrm>
            <a:off x="3949560" y="990720"/>
            <a:ext cx="1297080" cy="1584360"/>
          </a:xfrm>
          <a:prstGeom prst="ellipse">
            <a:avLst/>
          </a:prstGeom>
          <a:solidFill>
            <a:srgbClr val="cccc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3"/>
          <p:cNvSpPr/>
          <p:nvPr/>
        </p:nvSpPr>
        <p:spPr>
          <a:xfrm>
            <a:off x="6875640" y="2592360"/>
            <a:ext cx="1728720" cy="223200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6881760" y="4222800"/>
            <a:ext cx="611280" cy="718920"/>
          </a:xfrm>
          <a:prstGeom prst="ellipse">
            <a:avLst/>
          </a:prstGeom>
          <a:solidFill>
            <a:srgbClr val="cccc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abstract-design-with-beautiful-flowers1"/>
          <p:cNvPicPr/>
          <p:nvPr/>
        </p:nvPicPr>
        <p:blipFill>
          <a:blip r:embed="rId5"/>
          <a:stretch/>
        </p:blipFill>
        <p:spPr>
          <a:xfrm>
            <a:off x="108000" y="4076640"/>
            <a:ext cx="2089080" cy="2814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abstract-design-with-beautiful-flowers1"/>
          <p:cNvPicPr/>
          <p:nvPr/>
        </p:nvPicPr>
        <p:blipFill>
          <a:blip r:embed="rId6"/>
          <a:stretch/>
        </p:blipFill>
        <p:spPr>
          <a:xfrm>
            <a:off x="2124000" y="5157720"/>
            <a:ext cx="1293840" cy="1741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abstract-design-with-beautiful-flowers1"/>
          <p:cNvPicPr/>
          <p:nvPr/>
        </p:nvPicPr>
        <p:blipFill>
          <a:blip r:embed="rId7"/>
          <a:stretch/>
        </p:blipFill>
        <p:spPr>
          <a:xfrm>
            <a:off x="403200" y="5048280"/>
            <a:ext cx="406440" cy="404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abstract-design-with-beautiful-flowers1"/>
          <p:cNvPicPr/>
          <p:nvPr/>
        </p:nvPicPr>
        <p:blipFill>
          <a:blip r:embed="rId8"/>
          <a:stretch/>
        </p:blipFill>
        <p:spPr>
          <a:xfrm>
            <a:off x="3203640" y="5913360"/>
            <a:ext cx="247680" cy="1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0.01528 -0.01829 C 0.00816 -0.03403 0.03854 -0.01319 0.05382 0.02732 C 0.06944 0.06875 0.06406 0.11412 0.04062 0.13033 C 0.01701 0.1456 0.0118 0.19097 0.02726 0.23171 C 0.04288 0.27338 0.07326 0.29491 0.0967 0.27917 E">
                                      <p:cBhvr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3994 0.0669 C 0.04896 0.08102 0.054 0.10208 0.054 0.12407 C 0.054 0.14907 0.04896 0.16898 0.03994 0.1831 C 0.02709 0.19861 -0.0092 0.19607 -0.02274 0.21667 C -0.03628 0.23727 -0.03732 0.28773 -0.04114 0.30625 E">
                                      <p:cBhvr>
                                        <p:cTn id="10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59" repeatCount="indefinite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4.16667E-006 2.31214E-007 C 0.02482 -0.0104 0.05277 0.01688 0.06284 0.06012 C 0.07361 0.07214 0.04618 0.07399 0.04062 0.08277 C 0.03507 0.09156 0.0335 0.08879 0.02951 0.11237 C 0.00434 0.12301 0.0059 0.18081 0.01649 0.22497 C 0.02673 0.26798 0.05069 0.32786 0.07552 0.31746 E">
                                      <p:cBhvr>
                                        <p:cTn id="11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21965E-006 L 0.02344 0.05087 C 0.02969 0.07561 0.01389 0.08879 0.00434 0.10151 C 0.00139 0.11191 -0.01337 0.12463 -0.01788 0.14382 C -0.0191 0.16324 0.00035 0.19076 -0.00347 0.21781 C -0.01701 0.23839 -0.03733 0.28763 -0.04115 0.30636 E">
                                      <p:cBhvr>
                                        <p:cTn id="11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58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556E-007 -4.27746E-006 L -0.01059 0.06683 C -0.01302 0.08093 -0.00434 0.09688 -0.00434 0.11908 C -0.00434 0.14405 -0.01302 0.16902 -0.01059 0.18313 C -0.00712 0.19862 0.00243 0.19607 0.0059 0.21665 C 0.00955 0.23723 0.0099 0.28763 0.01094 0.30636 E">
                                      <p:cBhvr>
                                        <p:cTn id="11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5">
                                  <p:stCondLst>
                                    <p:cond delay="500"/>
                                  </p:stCondLst>
                                  <p:childTnLst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2141640"/>
            <a:ext cx="9142560" cy="344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" descr="C:\Documents and Settings\Administrator\桌面\6655 (1) [转换].png"/>
          <p:cNvPicPr/>
          <p:nvPr/>
        </p:nvPicPr>
        <p:blipFill>
          <a:blip r:embed="rId2"/>
          <a:stretch/>
        </p:blipFill>
        <p:spPr>
          <a:xfrm>
            <a:off x="324000" y="2924280"/>
            <a:ext cx="8297640" cy="3270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"/>
          <p:cNvPicPr/>
          <p:nvPr/>
        </p:nvPicPr>
        <p:blipFill>
          <a:blip r:embed="rId3"/>
          <a:stretch/>
        </p:blipFill>
        <p:spPr>
          <a:xfrm>
            <a:off x="-17640" y="4916520"/>
            <a:ext cx="9160200" cy="17683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-358920" y="-703080"/>
            <a:ext cx="1976760" cy="1875960"/>
            <a:chOff x="-358920" y="-703080"/>
            <a:chExt cx="1976760" cy="1875960"/>
          </a:xfrm>
        </p:grpSpPr>
        <p:sp>
          <p:nvSpPr>
            <p:cNvPr id="131" name="Rectangle 2"/>
            <p:cNvSpPr/>
            <p:nvPr/>
          </p:nvSpPr>
          <p:spPr>
            <a:xfrm>
              <a:off x="-14400" y="1080"/>
              <a:ext cx="970560" cy="832320"/>
            </a:xfrm>
            <a:prstGeom prst="rect">
              <a:avLst/>
            </a:prstGeom>
            <a:solidFill>
              <a:srgbClr val="8a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"/>
            <p:cNvSpPr/>
            <p:nvPr/>
          </p:nvSpPr>
          <p:spPr>
            <a:xfrm rot="19526400">
              <a:off x="-160920" y="-359640"/>
              <a:ext cx="15811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ffffff"/>
                  </a:solidFill>
                  <a:latin typeface="Impact"/>
                  <a:ea typeface="Cube"/>
                </a:rPr>
                <a:t>0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29" descr="C:\Documents and Settings\Administrator\桌面\6655 (1) [转换].png"/>
          <p:cNvPicPr/>
          <p:nvPr/>
        </p:nvPicPr>
        <p:blipFill>
          <a:blip r:embed="rId4"/>
          <a:stretch/>
        </p:blipFill>
        <p:spPr>
          <a:xfrm>
            <a:off x="3367080" y="4390920"/>
            <a:ext cx="1657440" cy="181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C:\Documents and Settings\Administrator\桌面\6655 (1) [转换].png"/>
          <p:cNvPicPr/>
          <p:nvPr/>
        </p:nvPicPr>
        <p:blipFill>
          <a:blip r:embed="rId5"/>
          <a:stretch/>
        </p:blipFill>
        <p:spPr>
          <a:xfrm>
            <a:off x="4897440" y="4573440"/>
            <a:ext cx="1619280" cy="163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C:\Documents and Settings\Administrator\桌面\6655 (1) [转换].png"/>
          <p:cNvPicPr/>
          <p:nvPr/>
        </p:nvPicPr>
        <p:blipFill>
          <a:blip r:embed="rId6"/>
          <a:stretch/>
        </p:blipFill>
        <p:spPr>
          <a:xfrm>
            <a:off x="6415200" y="4573440"/>
            <a:ext cx="1181160" cy="163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C:\Documents and Settings\Administrator\桌面\6655 (1) [转换].png"/>
          <p:cNvPicPr/>
          <p:nvPr/>
        </p:nvPicPr>
        <p:blipFill>
          <a:blip r:embed="rId7"/>
          <a:stretch/>
        </p:blipFill>
        <p:spPr>
          <a:xfrm>
            <a:off x="2071800" y="4194000"/>
            <a:ext cx="1365120" cy="2014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9" descr="C:\Documents and Settings\Administrator\桌面\6655 (1) [转换].png"/>
          <p:cNvPicPr/>
          <p:nvPr/>
        </p:nvPicPr>
        <p:blipFill>
          <a:blip r:embed="rId8"/>
          <a:stretch/>
        </p:blipFill>
        <p:spPr>
          <a:xfrm>
            <a:off x="7505640" y="4938840"/>
            <a:ext cx="1116000" cy="1269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C:\Documents and Settings\Administrator\桌面\6655 (1) [转换].png"/>
          <p:cNvPicPr/>
          <p:nvPr/>
        </p:nvPicPr>
        <p:blipFill>
          <a:blip r:embed="rId9"/>
          <a:stretch/>
        </p:blipFill>
        <p:spPr>
          <a:xfrm>
            <a:off x="469800" y="4059360"/>
            <a:ext cx="1551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252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3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754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256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981000"/>
            <a:ext cx="8513640" cy="2286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"/>
          <p:cNvPicPr/>
          <p:nvPr/>
        </p:nvPicPr>
        <p:blipFill>
          <a:blip r:embed="rId2"/>
          <a:stretch/>
        </p:blipFill>
        <p:spPr>
          <a:xfrm>
            <a:off x="73080" y="2419200"/>
            <a:ext cx="9180360" cy="1798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"/>
          <p:cNvPicPr/>
          <p:nvPr/>
        </p:nvPicPr>
        <p:blipFill>
          <a:blip r:embed="rId3"/>
          <a:stretch/>
        </p:blipFill>
        <p:spPr>
          <a:xfrm>
            <a:off x="0" y="3213000"/>
            <a:ext cx="9253440" cy="2017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4"/>
          <a:stretch/>
        </p:blipFill>
        <p:spPr>
          <a:xfrm>
            <a:off x="-212760" y="3860640"/>
            <a:ext cx="9644040" cy="237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Documents and Settings\Administrator\桌面\6655 (3) [转换].png"/>
          <p:cNvPicPr/>
          <p:nvPr/>
        </p:nvPicPr>
        <p:blipFill>
          <a:blip r:embed="rId5"/>
          <a:stretch/>
        </p:blipFill>
        <p:spPr>
          <a:xfrm>
            <a:off x="0" y="5300640"/>
            <a:ext cx="9142560" cy="13762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f1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Impact"/>
                <a:ea typeface="Cube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2"/>
          <p:cNvSpPr/>
          <p:nvPr/>
        </p:nvSpPr>
        <p:spPr>
          <a:xfrm>
            <a:off x="0" y="5248440"/>
            <a:ext cx="9161640" cy="16095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609560"/>
              <a:gd name="textAreaBottom" fmla="*/ 1609920 h 1609560"/>
            </a:gdLst>
            <a:ahLst/>
            <a:rect l="textAreaLeft" t="textAreaTop" r="textAreaRight" b="textAreaBottom"/>
            <a:pathLst>
              <a:path w="9163051" h="1609378">
                <a:moveTo>
                  <a:pt x="0" y="628650"/>
                </a:moveTo>
                <a:lnTo>
                  <a:pt x="9163051" y="0"/>
                </a:lnTo>
                <a:lnTo>
                  <a:pt x="9144001" y="1609378"/>
                </a:lnTo>
                <a:lnTo>
                  <a:pt x="0" y="1609378"/>
                </a:lnTo>
                <a:lnTo>
                  <a:pt x="0" y="628650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"/>
          <p:cNvSpPr/>
          <p:nvPr/>
        </p:nvSpPr>
        <p:spPr>
          <a:xfrm>
            <a:off x="-19080" y="4305240"/>
            <a:ext cx="9161640" cy="1571760"/>
          </a:xfrm>
          <a:custGeom>
            <a:avLst/>
            <a:gdLst>
              <a:gd name="textAreaLeft" fmla="*/ 0 w 9161640"/>
              <a:gd name="textAreaRight" fmla="*/ 9162000 w 916164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9163051" h="1571972">
                <a:moveTo>
                  <a:pt x="0" y="1571972"/>
                </a:moveTo>
                <a:lnTo>
                  <a:pt x="9163051" y="943322"/>
                </a:lnTo>
                <a:lnTo>
                  <a:pt x="9163051" y="42862"/>
                </a:lnTo>
                <a:lnTo>
                  <a:pt x="0" y="0"/>
                </a:lnTo>
                <a:lnTo>
                  <a:pt x="0" y="1571972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-19080" y="2665440"/>
            <a:ext cx="9163080" cy="1695600"/>
          </a:xfrm>
          <a:custGeom>
            <a:avLst/>
            <a:gdLst>
              <a:gd name="textAreaLeft" fmla="*/ 0 w 9163080"/>
              <a:gd name="textAreaRight" fmla="*/ 9163440 w 9163080"/>
              <a:gd name="textAreaTop" fmla="*/ 0 h 1695600"/>
              <a:gd name="textAreaBottom" fmla="*/ 1695960 h 1695600"/>
            </a:gdLst>
            <a:ahLst/>
            <a:rect l="textAreaLeft" t="textAreaTop" r="textAreaRight" b="textAreaBottom"/>
            <a:pathLst>
              <a:path w="9164854" h="1695783">
                <a:moveTo>
                  <a:pt x="0" y="483507"/>
                </a:moveTo>
                <a:lnTo>
                  <a:pt x="9148537" y="0"/>
                </a:lnTo>
                <a:cubicBezTo>
                  <a:pt x="9145967" y="5403"/>
                  <a:pt x="9167208" y="6043"/>
                  <a:pt x="9164638" y="11446"/>
                </a:cubicBezTo>
                <a:cubicBezTo>
                  <a:pt x="9162522" y="572892"/>
                  <a:pt x="9160405" y="1134337"/>
                  <a:pt x="9158289" y="1695783"/>
                </a:cubicBezTo>
                <a:lnTo>
                  <a:pt x="0" y="1640221"/>
                </a:lnTo>
                <a:lnTo>
                  <a:pt x="0" y="483507"/>
                </a:lnTo>
                <a:close/>
              </a:path>
            </a:pathLst>
          </a:cu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-19080" y="1701720"/>
            <a:ext cx="9167760" cy="1446120"/>
          </a:xfrm>
          <a:custGeom>
            <a:avLst/>
            <a:gdLst>
              <a:gd name="textAreaLeft" fmla="*/ 0 w 9167760"/>
              <a:gd name="textAreaRight" fmla="*/ 9168120 w 9167760"/>
              <a:gd name="textAreaTop" fmla="*/ 0 h 1446120"/>
              <a:gd name="textAreaBottom" fmla="*/ 1446480 h 1446120"/>
            </a:gdLst>
            <a:ahLst/>
            <a:rect l="textAreaLeft" t="textAreaTop" r="textAreaRight" b="textAreaBottom"/>
            <a:pathLst>
              <a:path w="9169401" h="1446786">
                <a:moveTo>
                  <a:pt x="0" y="1446786"/>
                </a:moveTo>
                <a:lnTo>
                  <a:pt x="9162824" y="968042"/>
                </a:lnTo>
                <a:cubicBezTo>
                  <a:pt x="9165016" y="645361"/>
                  <a:pt x="9167209" y="322681"/>
                  <a:pt x="9169401" y="0"/>
                </a:cubicBezTo>
                <a:lnTo>
                  <a:pt x="12700" y="317500"/>
                </a:lnTo>
                <a:lnTo>
                  <a:pt x="0" y="1446786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-6480" y="227160"/>
            <a:ext cx="9155160" cy="1792080"/>
          </a:xfrm>
          <a:custGeom>
            <a:avLst/>
            <a:gdLst>
              <a:gd name="textAreaLeft" fmla="*/ 0 w 9155160"/>
              <a:gd name="textAreaRight" fmla="*/ 9155520 w 9155160"/>
              <a:gd name="textAreaTop" fmla="*/ 0 h 1792080"/>
              <a:gd name="textAreaBottom" fmla="*/ 1792440 h 1792080"/>
            </a:gdLst>
            <a:ahLst/>
            <a:rect l="textAreaLeft" t="textAreaTop" r="textAreaRight" b="textAreaBottom"/>
            <a:pathLst>
              <a:path w="9156701" h="1792621">
                <a:moveTo>
                  <a:pt x="7937" y="1024844"/>
                </a:moveTo>
                <a:lnTo>
                  <a:pt x="9150124" y="0"/>
                </a:lnTo>
                <a:cubicBezTo>
                  <a:pt x="9152316" y="491707"/>
                  <a:pt x="9154509" y="983414"/>
                  <a:pt x="9156701" y="1475121"/>
                </a:cubicBezTo>
                <a:lnTo>
                  <a:pt x="0" y="1792621"/>
                </a:lnTo>
                <a:cubicBezTo>
                  <a:pt x="2646" y="1536695"/>
                  <a:pt x="5291" y="1280770"/>
                  <a:pt x="7937" y="102484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-1440" y="-23760"/>
            <a:ext cx="9153360" cy="1289160"/>
          </a:xfrm>
          <a:custGeom>
            <a:avLst/>
            <a:gdLst>
              <a:gd name="textAreaLeft" fmla="*/ 0 w 9153360"/>
              <a:gd name="textAreaRight" fmla="*/ 9153720 w 915336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9155305" h="1291210">
                <a:moveTo>
                  <a:pt x="192" y="1291210"/>
                </a:moveTo>
                <a:lnTo>
                  <a:pt x="9147141" y="252079"/>
                </a:lnTo>
                <a:lnTo>
                  <a:pt x="9155305" y="0"/>
                </a:lnTo>
                <a:lnTo>
                  <a:pt x="1779" y="25400"/>
                </a:lnTo>
                <a:cubicBezTo>
                  <a:pt x="2838" y="439399"/>
                  <a:pt x="-867" y="877211"/>
                  <a:pt x="192" y="1291210"/>
                </a:cubicBezTo>
                <a:close/>
              </a:path>
            </a:pathLst>
          </a:custGeom>
          <a:solidFill>
            <a:srgbClr val="f179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C:\Documents and Settings\Administrator\桌面\abstract-design-with-beautiful-flowers2.png"/>
          <p:cNvPicPr/>
          <p:nvPr/>
        </p:nvPicPr>
        <p:blipFill>
          <a:blip r:embed="rId1"/>
          <a:stretch/>
        </p:blipFill>
        <p:spPr>
          <a:xfrm>
            <a:off x="4211640" y="4797360"/>
            <a:ext cx="905040" cy="8445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5" descr="H:\Files\4cbb49c3e377d8365aa20a00\abstract-design-with-beautiful-flowers2.png"/>
          <p:cNvPicPr/>
          <p:nvPr/>
        </p:nvPicPr>
        <p:blipFill>
          <a:blip r:embed="rId2"/>
          <a:stretch/>
        </p:blipFill>
        <p:spPr>
          <a:xfrm>
            <a:off x="4788000" y="1773360"/>
            <a:ext cx="4344840" cy="5132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C:\Documents and Settings\Administrator\桌面\abstract-design-with-beautiful-flowers2.png"/>
          <p:cNvPicPr/>
          <p:nvPr/>
        </p:nvPicPr>
        <p:blipFill>
          <a:blip r:embed="rId3"/>
          <a:stretch/>
        </p:blipFill>
        <p:spPr>
          <a:xfrm>
            <a:off x="5075280" y="2803680"/>
            <a:ext cx="1554120" cy="1406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 rot="21435600">
            <a:off x="-2247840" y="1796760"/>
            <a:ext cx="77198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谢谢观赏</a:t>
            </a:r>
            <a:r>
              <a:rPr b="0" lang="zh-CN" sz="6000" spc="-1" strike="noStrike">
                <a:solidFill>
                  <a:srgbClr val="ffffff"/>
                </a:solidFill>
                <a:latin typeface="方正少儿简体"/>
                <a:ea typeface="方正少儿简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 rot="21420000">
            <a:off x="-97920" y="2603160"/>
            <a:ext cx="5109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适用于儿童类别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46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7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8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49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0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52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3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55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771560" y="692280"/>
            <a:ext cx="6040440" cy="6553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63" name="Picture 2" descr=""/>
            <p:cNvPicPr/>
            <p:nvPr/>
          </p:nvPicPr>
          <p:blipFill>
            <a:blip r:embed="rId2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" descr=""/>
            <p:cNvPicPr/>
            <p:nvPr/>
          </p:nvPicPr>
          <p:blipFill>
            <a:blip r:embed="rId3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" descr=""/>
            <p:cNvPicPr/>
            <p:nvPr/>
          </p:nvPicPr>
          <p:blipFill>
            <a:blip r:embed="rId4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" descr=""/>
            <p:cNvPicPr/>
            <p:nvPr/>
          </p:nvPicPr>
          <p:blipFill>
            <a:blip r:embed="rId5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-1433520" y="3024360"/>
            <a:ext cx="12052440" cy="3860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7" descr=""/>
          <p:cNvPicPr/>
          <p:nvPr/>
        </p:nvPicPr>
        <p:blipFill>
          <a:blip r:embed="rId2"/>
          <a:stretch/>
        </p:blipFill>
        <p:spPr>
          <a:xfrm>
            <a:off x="-250920" y="0"/>
            <a:ext cx="9686880" cy="7430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Administrator\桌面\6655 (2) [转换].png"/>
          <p:cNvPicPr/>
          <p:nvPr/>
        </p:nvPicPr>
        <p:blipFill>
          <a:blip r:embed="rId3"/>
          <a:stretch/>
        </p:blipFill>
        <p:spPr>
          <a:xfrm>
            <a:off x="674640" y="4076640"/>
            <a:ext cx="8145360" cy="232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-34920" y="0"/>
            <a:ext cx="969840" cy="8334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 rot="19526400">
            <a:off x="-181440" y="-359640"/>
            <a:ext cx="1581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XIS Std B"/>
                <a:ea typeface="AXIS Std B"/>
              </a:rPr>
              <a:t>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0" y="5586480"/>
            <a:ext cx="9144000" cy="1371600"/>
            <a:chOff x="0" y="5586480"/>
            <a:chExt cx="9144000" cy="1371600"/>
          </a:xfrm>
        </p:grpSpPr>
        <p:pic>
          <p:nvPicPr>
            <p:cNvPr id="173" name="Picture 2" descr=""/>
            <p:cNvPicPr/>
            <p:nvPr/>
          </p:nvPicPr>
          <p:blipFill>
            <a:blip r:embed="rId4"/>
            <a:stretch/>
          </p:blipFill>
          <p:spPr>
            <a:xfrm>
              <a:off x="2428920" y="5864040"/>
              <a:ext cx="3079800" cy="10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5664240"/>
              <a:ext cx="3462120" cy="12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" descr=""/>
            <p:cNvPicPr/>
            <p:nvPr/>
          </p:nvPicPr>
          <p:blipFill>
            <a:blip r:embed="rId6"/>
            <a:stretch/>
          </p:blipFill>
          <p:spPr>
            <a:xfrm>
              <a:off x="6443640" y="5586480"/>
              <a:ext cx="270036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" descr=""/>
            <p:cNvPicPr/>
            <p:nvPr/>
          </p:nvPicPr>
          <p:blipFill>
            <a:blip r:embed="rId7"/>
            <a:stretch/>
          </p:blipFill>
          <p:spPr>
            <a:xfrm flipH="1">
              <a:off x="5006520" y="5801760"/>
              <a:ext cx="1876320" cy="109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8:43:37Z</dcterms:created>
  <dc:creator>USER</dc:creator>
  <dc:description/>
  <cp:keywords/>
  <dc:language>en-US</dc:language>
  <cp:lastModifiedBy>angel</cp:lastModifiedBy>
  <cp:lastPrinted>1899-12-30T00:00:00Z</cp:lastPrinted>
  <dcterms:modified xsi:type="dcterms:W3CDTF">2015-12-11T01:36:23Z</dcterms:modified>
  <cp:revision>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