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5FB-C9D8-48AE-BCF6-27946952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618-8851-4565-B14C-3FB92726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5A8-4AC1-4E36-A47B-ABB3314F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010-4196-481B-807C-E6F91674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AC20-393C-4F22-9535-7B42B2E1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67AA-2B68-4FD5-B8BE-97ADC333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8A49-3408-4410-B715-C4C04C22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A8D9-05ED-4FE4-8C9F-93AE8846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9C07-0875-47B0-BACD-D1E46395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454C-654E-4B70-AE35-41BDBC6A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CBB8-EBBB-4B49-BCCF-7CF3A0DB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260-EAF7-4239-B2CC-AEE3DBFB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102D-E55A-4641-823C-41054E73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6E1A-CE5C-4E97-97C4-F92D1E0A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227F-08A5-447C-A04D-6EAE7818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47FA-FE04-4415-B19C-8681CDD5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26AC-1514-46C1-B09E-F2222EE6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643A-EB1C-420B-A74E-277A6796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E813-B1A3-4715-B83D-8DB620F2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BE08-C06E-41B7-AD55-FFCCDEB0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5713-3966-4D33-8427-E9A93B74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F836-976C-48CE-AD0B-79151537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375-37E6-4720-B7E6-0E75170B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6755-4568-4A6E-9E22-A03CFCD1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74F9-F98E-4047-BF6F-FD9E6293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E8C1-45E7-4EE2-96B3-E77F80F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8360-4CC0-4F57-9AFC-3C29D86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4ECA-B21B-49C9-8B8A-917CC63F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B8EF-BD3E-42F8-88CB-6E537B04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CA64-ACAA-477B-851C-7731A37E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98F29-1633-4A1A-B1FB-4931FC2B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6A43-AC3B-42A0-8EC3-AA22E581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CDD5-05E3-41EF-8C25-7F32C445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DE8-2583-43E8-9E58-587E3E1F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9241-026E-4A1B-90A2-18F84CC4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EB21-D416-4FAC-834F-F3018A15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E0B3B-BD6D-4C8C-8BDE-59F63113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A096D-A6E9-4869-81A8-4FFCE578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53F70-4E5F-4225-9760-AB369C2E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7DFB-C17E-4AC4-8C3C-4BC3D9E9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0C83-8D3A-49C5-838C-A92B60F4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21371-C6DF-4B4B-A6A6-98852A20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B20D2-9693-424F-BA7D-DA61F2C4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F7B1A-F105-4963-B053-10C7E1DD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A96-79E6-4052-9A8D-5A355D2D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D5F1F-9EB3-48F7-A596-45D6E25B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766B-E916-44B9-9046-FE91ADB2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AA36E-DF50-47D5-A54E-3EE9B808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1C3AA-324D-4056-B9F4-0D74DCB5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68CC3-06C6-4D0B-9B63-4E4F62A4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615F1-B77E-40D2-8E31-49109A5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513C0-5745-4666-9956-08F3AC03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9E08-C3F7-4FF3-AAE9-F754A4C8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889D-8DB5-4E83-A939-23012F81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C263A-CD94-4E64-ADA8-626FEDFB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134-131F-4326-9F2E-8E13D330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73FEC-8EF5-44B4-9DC0-9EEB02BF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333-5A27-45C3-9A37-279B3087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1B4-506B-4B6D-8F1C-7B869F51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968-C50D-49CA-830D-2E8DCB78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7DA6-2D2B-47BD-8AF8-159723A58C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AC73-33A0-4491-B6B6-0F80522010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70720" cy="5270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0A6C-63AD-4629-BE2A-4D7C3BC21F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7EBB-5330-493D-BE2E-1A61B136C9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925-AEFE-45A2-8199-21BAF293E8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Administrator\桌面\未标题-1-01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16200000">
            <a:off x="4205880" y="1421280"/>
            <a:ext cx="2246400" cy="127332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C:\Documents and Settings\Administrator\桌面\未标题-1-02.png"/>
          <p:cNvPicPr/>
          <p:nvPr/>
        </p:nvPicPr>
        <p:blipFill>
          <a:blip r:embed="rId3"/>
          <a:stretch/>
        </p:blipFill>
        <p:spPr>
          <a:xfrm>
            <a:off x="0" y="-9360"/>
            <a:ext cx="9144000" cy="5144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 rot="21270000">
            <a:off x="4973760" y="90252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想对您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C:\Documents and Settings\Administrator\桌面\165.png"/>
          <p:cNvPicPr/>
          <p:nvPr/>
        </p:nvPicPr>
        <p:blipFill>
          <a:blip r:embed="rId4"/>
          <a:stretch/>
        </p:blipFill>
        <p:spPr>
          <a:xfrm rot="1192800">
            <a:off x="2190240" y="1158840"/>
            <a:ext cx="3084840" cy="461340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4"/>
          <p:cNvSpPr/>
          <p:nvPr/>
        </p:nvSpPr>
        <p:spPr>
          <a:xfrm flipH="1" rot="4372800">
            <a:off x="3089160" y="1769400"/>
            <a:ext cx="1387440" cy="127188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1"/>
          <p:cNvSpPr/>
          <p:nvPr/>
        </p:nvSpPr>
        <p:spPr>
          <a:xfrm rot="21270000">
            <a:off x="3481560" y="180396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5"/>
          <a:stretch/>
        </p:blipFill>
        <p:spPr>
          <a:xfrm>
            <a:off x="3564000" y="441360"/>
            <a:ext cx="3441600" cy="51418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4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6" descr="C:\Documents and Settings\Administrator\桌面\4047a418e55bf46434fa4152.png"/>
          <p:cNvPicPr/>
          <p:nvPr/>
        </p:nvPicPr>
        <p:blipFill>
          <a:blip r:embed="rId6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4" presetSubtype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5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4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4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1" presetSubtype="1">
                                  <p:stCondLst>
                                    <p:cond delay="5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4" presetSubtype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3" presetSubtype="16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84280" y="25560"/>
            <a:ext cx="7886520" cy="47624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7"/>
          <p:cNvGrpSpPr/>
          <p:nvPr/>
        </p:nvGrpSpPr>
        <p:grpSpPr>
          <a:xfrm>
            <a:off x="1184400" y="3133800"/>
            <a:ext cx="715680" cy="595440"/>
            <a:chOff x="1184400" y="3133800"/>
            <a:chExt cx="715680" cy="595440"/>
          </a:xfrm>
        </p:grpSpPr>
        <p:grpSp>
          <p:nvGrpSpPr>
            <p:cNvPr id="221" name="Group 6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22" name="Freeform 102"/>
            <p:cNvSpPr/>
            <p:nvPr/>
          </p:nvSpPr>
          <p:spPr>
            <a:xfrm>
              <a:off x="1348560" y="3269880"/>
              <a:ext cx="388440" cy="322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0" y="50"/>
                  </a:moveTo>
                  <a:cubicBezTo>
                    <a:pt x="0" y="78"/>
                    <a:pt x="23" y="101"/>
                    <a:pt x="51" y="101"/>
                  </a:cubicBezTo>
                  <a:cubicBezTo>
                    <a:pt x="79" y="101"/>
                    <a:pt x="102" y="78"/>
                    <a:pt x="102" y="50"/>
                  </a:cubicBezTo>
                  <a:cubicBezTo>
                    <a:pt x="102" y="22"/>
                    <a:pt x="79" y="0"/>
                    <a:pt x="51" y="0"/>
                  </a:cubicBezTo>
                  <a:cubicBezTo>
                    <a:pt x="23" y="0"/>
                    <a:pt x="0" y="22"/>
                    <a:pt x="0" y="50"/>
                  </a:cubicBezTo>
                  <a:close/>
                  <a:moveTo>
                    <a:pt x="1" y="50"/>
                  </a:moveTo>
                  <a:cubicBezTo>
                    <a:pt x="1" y="23"/>
                    <a:pt x="24" y="1"/>
                    <a:pt x="51" y="1"/>
                  </a:cubicBezTo>
                  <a:cubicBezTo>
                    <a:pt x="78" y="1"/>
                    <a:pt x="101" y="23"/>
                    <a:pt x="101" y="50"/>
                  </a:cubicBezTo>
                  <a:cubicBezTo>
                    <a:pt x="101" y="78"/>
                    <a:pt x="78" y="100"/>
                    <a:pt x="51" y="100"/>
                  </a:cubicBezTo>
                  <a:cubicBezTo>
                    <a:pt x="24" y="100"/>
                    <a:pt x="1" y="78"/>
                    <a:pt x="1" y="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"/>
            <p:cNvSpPr/>
            <p:nvPr/>
          </p:nvSpPr>
          <p:spPr>
            <a:xfrm>
              <a:off x="1252080" y="3187800"/>
              <a:ext cx="580320" cy="487440"/>
            </a:xfrm>
            <a:custGeom>
              <a:avLst/>
              <a:gdLst/>
              <a:ahLst/>
              <a:rect l="l" t="t" r="r" b="b"/>
              <a:pathLst>
                <a:path w="152" h="153">
                  <a:moveTo>
                    <a:pt x="0" y="76"/>
                  </a:moveTo>
                  <a:cubicBezTo>
                    <a:pt x="0" y="118"/>
                    <a:pt x="34" y="153"/>
                    <a:pt x="76" y="153"/>
                  </a:cubicBezTo>
                  <a:cubicBezTo>
                    <a:pt x="118" y="153"/>
                    <a:pt x="152" y="118"/>
                    <a:pt x="152" y="76"/>
                  </a:cubicBezTo>
                  <a:cubicBezTo>
                    <a:pt x="152" y="34"/>
                    <a:pt x="118" y="0"/>
                    <a:pt x="76" y="0"/>
                  </a:cubicBezTo>
                  <a:cubicBezTo>
                    <a:pt x="34" y="0"/>
                    <a:pt x="0" y="34"/>
                    <a:pt x="0" y="76"/>
                  </a:cubicBezTo>
                  <a:close/>
                  <a:moveTo>
                    <a:pt x="2" y="76"/>
                  </a:moveTo>
                  <a:cubicBezTo>
                    <a:pt x="2" y="36"/>
                    <a:pt x="35" y="2"/>
                    <a:pt x="76" y="2"/>
                  </a:cubicBezTo>
                  <a:cubicBezTo>
                    <a:pt x="117" y="2"/>
                    <a:pt x="150" y="36"/>
                    <a:pt x="150" y="76"/>
                  </a:cubicBezTo>
                  <a:cubicBezTo>
                    <a:pt x="150" y="117"/>
                    <a:pt x="117" y="151"/>
                    <a:pt x="76" y="151"/>
                  </a:cubicBezTo>
                  <a:cubicBezTo>
                    <a:pt x="35" y="151"/>
                    <a:pt x="2" y="117"/>
                    <a:pt x="2" y="7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4"/>
            <p:cNvSpPr/>
            <p:nvPr/>
          </p:nvSpPr>
          <p:spPr>
            <a:xfrm>
              <a:off x="1184400" y="3133800"/>
              <a:ext cx="715680" cy="595440"/>
            </a:xfrm>
            <a:custGeom>
              <a:avLst/>
              <a:gdLst/>
              <a:ahLst/>
              <a:rect l="l" t="t" r="r" b="b"/>
              <a:pathLst>
                <a:path w="188" h="187">
                  <a:moveTo>
                    <a:pt x="0" y="93"/>
                  </a:moveTo>
                  <a:cubicBezTo>
                    <a:pt x="0" y="145"/>
                    <a:pt x="42" y="187"/>
                    <a:pt x="94" y="187"/>
                  </a:cubicBezTo>
                  <a:cubicBezTo>
                    <a:pt x="146" y="187"/>
                    <a:pt x="188" y="145"/>
                    <a:pt x="188" y="93"/>
                  </a:cubicBezTo>
                  <a:cubicBezTo>
                    <a:pt x="188" y="42"/>
                    <a:pt x="146" y="0"/>
                    <a:pt x="94" y="0"/>
                  </a:cubicBezTo>
                  <a:cubicBezTo>
                    <a:pt x="42" y="0"/>
                    <a:pt x="0" y="42"/>
                    <a:pt x="0" y="93"/>
                  </a:cubicBezTo>
                  <a:close/>
                  <a:moveTo>
                    <a:pt x="4" y="93"/>
                  </a:moveTo>
                  <a:cubicBezTo>
                    <a:pt x="4" y="44"/>
                    <a:pt x="44" y="3"/>
                    <a:pt x="94" y="3"/>
                  </a:cubicBezTo>
                  <a:cubicBezTo>
                    <a:pt x="144" y="3"/>
                    <a:pt x="184" y="44"/>
                    <a:pt x="184" y="93"/>
                  </a:cubicBezTo>
                  <a:cubicBezTo>
                    <a:pt x="184" y="143"/>
                    <a:pt x="144" y="184"/>
                    <a:pt x="94" y="184"/>
                  </a:cubicBezTo>
                  <a:cubicBezTo>
                    <a:pt x="44" y="184"/>
                    <a:pt x="4" y="143"/>
                    <a:pt x="4" y="9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5" name="组合 11" descr=""/>
          <p:cNvPicPr/>
          <p:nvPr/>
        </p:nvPicPr>
        <p:blipFill>
          <a:blip r:embed="rId2"/>
          <a:stretch/>
        </p:blipFill>
        <p:spPr>
          <a:xfrm>
            <a:off x="958680" y="398520"/>
            <a:ext cx="790920" cy="676080"/>
          </a:xfrm>
          <a:prstGeom prst="rect">
            <a:avLst/>
          </a:prstGeom>
          <a:ln w="0">
            <a:noFill/>
          </a:ln>
        </p:spPr>
      </p:pic>
      <p:sp>
        <p:nvSpPr>
          <p:cNvPr id="226" name="矩形 6"/>
          <p:cNvSpPr/>
          <p:nvPr/>
        </p:nvSpPr>
        <p:spPr>
          <a:xfrm>
            <a:off x="1667880" y="9158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2011</a:t>
            </a: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感恩教师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2195640" y="3311640"/>
            <a:ext cx="4952880" cy="915840"/>
          </a:xfrm>
          <a:custGeom>
            <a:avLst/>
            <a:gdLst/>
            <a:ahLst/>
            <a:rect l="l" t="t" r="r" b="b"/>
            <a:pathLst>
              <a:path w="2660" h="492">
                <a:moveTo>
                  <a:pt x="2660" y="411"/>
                </a:moveTo>
                <a:lnTo>
                  <a:pt x="2660" y="409"/>
                </a:lnTo>
                <a:lnTo>
                  <a:pt x="2643" y="409"/>
                </a:lnTo>
                <a:lnTo>
                  <a:pt x="2631" y="409"/>
                </a:lnTo>
                <a:lnTo>
                  <a:pt x="2626" y="407"/>
                </a:lnTo>
                <a:lnTo>
                  <a:pt x="2624" y="404"/>
                </a:lnTo>
                <a:lnTo>
                  <a:pt x="2600" y="404"/>
                </a:lnTo>
                <a:lnTo>
                  <a:pt x="2600" y="397"/>
                </a:lnTo>
                <a:lnTo>
                  <a:pt x="2600" y="395"/>
                </a:lnTo>
                <a:lnTo>
                  <a:pt x="2593" y="395"/>
                </a:lnTo>
                <a:lnTo>
                  <a:pt x="2593" y="392"/>
                </a:lnTo>
                <a:lnTo>
                  <a:pt x="2593" y="390"/>
                </a:lnTo>
                <a:lnTo>
                  <a:pt x="2593" y="388"/>
                </a:lnTo>
                <a:lnTo>
                  <a:pt x="2593" y="385"/>
                </a:lnTo>
                <a:lnTo>
                  <a:pt x="2593" y="383"/>
                </a:lnTo>
                <a:lnTo>
                  <a:pt x="2591" y="383"/>
                </a:lnTo>
                <a:lnTo>
                  <a:pt x="2591" y="331"/>
                </a:lnTo>
                <a:lnTo>
                  <a:pt x="2593" y="326"/>
                </a:lnTo>
                <a:lnTo>
                  <a:pt x="2593" y="321"/>
                </a:lnTo>
                <a:lnTo>
                  <a:pt x="2593" y="317"/>
                </a:lnTo>
                <a:lnTo>
                  <a:pt x="2593" y="314"/>
                </a:lnTo>
                <a:lnTo>
                  <a:pt x="2593" y="312"/>
                </a:lnTo>
                <a:lnTo>
                  <a:pt x="2591" y="312"/>
                </a:lnTo>
                <a:lnTo>
                  <a:pt x="2589" y="312"/>
                </a:lnTo>
                <a:lnTo>
                  <a:pt x="2589" y="310"/>
                </a:lnTo>
                <a:lnTo>
                  <a:pt x="2586" y="310"/>
                </a:lnTo>
                <a:lnTo>
                  <a:pt x="2579" y="310"/>
                </a:lnTo>
                <a:lnTo>
                  <a:pt x="2577" y="310"/>
                </a:lnTo>
                <a:lnTo>
                  <a:pt x="2577" y="312"/>
                </a:lnTo>
                <a:lnTo>
                  <a:pt x="2574" y="312"/>
                </a:lnTo>
                <a:lnTo>
                  <a:pt x="2574" y="314"/>
                </a:lnTo>
                <a:lnTo>
                  <a:pt x="2572" y="314"/>
                </a:lnTo>
                <a:lnTo>
                  <a:pt x="2572" y="317"/>
                </a:lnTo>
                <a:lnTo>
                  <a:pt x="2574" y="321"/>
                </a:lnTo>
                <a:lnTo>
                  <a:pt x="2574" y="326"/>
                </a:lnTo>
                <a:lnTo>
                  <a:pt x="2574" y="329"/>
                </a:lnTo>
                <a:lnTo>
                  <a:pt x="2574" y="383"/>
                </a:lnTo>
                <a:lnTo>
                  <a:pt x="2572" y="383"/>
                </a:lnTo>
                <a:lnTo>
                  <a:pt x="2572" y="385"/>
                </a:lnTo>
                <a:lnTo>
                  <a:pt x="2572" y="388"/>
                </a:lnTo>
                <a:lnTo>
                  <a:pt x="2572" y="390"/>
                </a:lnTo>
                <a:lnTo>
                  <a:pt x="2572" y="392"/>
                </a:lnTo>
                <a:lnTo>
                  <a:pt x="2572" y="395"/>
                </a:lnTo>
                <a:lnTo>
                  <a:pt x="2565" y="395"/>
                </a:lnTo>
                <a:lnTo>
                  <a:pt x="2565" y="397"/>
                </a:lnTo>
                <a:lnTo>
                  <a:pt x="2565" y="404"/>
                </a:lnTo>
                <a:lnTo>
                  <a:pt x="2556" y="404"/>
                </a:lnTo>
                <a:lnTo>
                  <a:pt x="2556" y="402"/>
                </a:lnTo>
                <a:lnTo>
                  <a:pt x="2534" y="399"/>
                </a:lnTo>
                <a:lnTo>
                  <a:pt x="2534" y="395"/>
                </a:lnTo>
                <a:lnTo>
                  <a:pt x="2537" y="392"/>
                </a:lnTo>
                <a:lnTo>
                  <a:pt x="2537" y="388"/>
                </a:lnTo>
                <a:lnTo>
                  <a:pt x="2532" y="388"/>
                </a:lnTo>
                <a:lnTo>
                  <a:pt x="2532" y="392"/>
                </a:lnTo>
                <a:lnTo>
                  <a:pt x="2530" y="392"/>
                </a:lnTo>
                <a:lnTo>
                  <a:pt x="2532" y="383"/>
                </a:lnTo>
                <a:lnTo>
                  <a:pt x="2532" y="376"/>
                </a:lnTo>
                <a:lnTo>
                  <a:pt x="2532" y="373"/>
                </a:lnTo>
                <a:lnTo>
                  <a:pt x="2534" y="371"/>
                </a:lnTo>
                <a:lnTo>
                  <a:pt x="2537" y="357"/>
                </a:lnTo>
                <a:lnTo>
                  <a:pt x="2539" y="329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6"/>
                </a:lnTo>
                <a:lnTo>
                  <a:pt x="2539" y="324"/>
                </a:lnTo>
                <a:lnTo>
                  <a:pt x="2539" y="321"/>
                </a:lnTo>
                <a:lnTo>
                  <a:pt x="2537" y="314"/>
                </a:lnTo>
                <a:lnTo>
                  <a:pt x="2537" y="312"/>
                </a:lnTo>
                <a:lnTo>
                  <a:pt x="2534" y="310"/>
                </a:lnTo>
                <a:lnTo>
                  <a:pt x="2532" y="307"/>
                </a:lnTo>
                <a:lnTo>
                  <a:pt x="2530" y="307"/>
                </a:lnTo>
                <a:lnTo>
                  <a:pt x="2527" y="305"/>
                </a:lnTo>
                <a:lnTo>
                  <a:pt x="2525" y="305"/>
                </a:lnTo>
                <a:lnTo>
                  <a:pt x="2523" y="305"/>
                </a:lnTo>
                <a:lnTo>
                  <a:pt x="2520" y="303"/>
                </a:lnTo>
                <a:lnTo>
                  <a:pt x="2518" y="303"/>
                </a:lnTo>
                <a:lnTo>
                  <a:pt x="2515" y="303"/>
                </a:lnTo>
                <a:lnTo>
                  <a:pt x="2511" y="300"/>
                </a:lnTo>
                <a:lnTo>
                  <a:pt x="2508" y="300"/>
                </a:lnTo>
                <a:lnTo>
                  <a:pt x="2506" y="300"/>
                </a:lnTo>
                <a:lnTo>
                  <a:pt x="2504" y="300"/>
                </a:lnTo>
                <a:lnTo>
                  <a:pt x="2501" y="300"/>
                </a:lnTo>
                <a:lnTo>
                  <a:pt x="2499" y="300"/>
                </a:lnTo>
                <a:lnTo>
                  <a:pt x="2497" y="300"/>
                </a:lnTo>
                <a:lnTo>
                  <a:pt x="2494" y="300"/>
                </a:lnTo>
                <a:lnTo>
                  <a:pt x="2492" y="300"/>
                </a:lnTo>
                <a:lnTo>
                  <a:pt x="2487" y="300"/>
                </a:lnTo>
                <a:lnTo>
                  <a:pt x="2485" y="300"/>
                </a:lnTo>
                <a:lnTo>
                  <a:pt x="2482" y="300"/>
                </a:lnTo>
                <a:lnTo>
                  <a:pt x="2478" y="300"/>
                </a:lnTo>
                <a:lnTo>
                  <a:pt x="2471" y="300"/>
                </a:lnTo>
                <a:lnTo>
                  <a:pt x="2468" y="300"/>
                </a:lnTo>
                <a:lnTo>
                  <a:pt x="2468" y="303"/>
                </a:lnTo>
                <a:lnTo>
                  <a:pt x="2456" y="303"/>
                </a:lnTo>
                <a:lnTo>
                  <a:pt x="2454" y="303"/>
                </a:lnTo>
                <a:lnTo>
                  <a:pt x="2452" y="303"/>
                </a:lnTo>
                <a:lnTo>
                  <a:pt x="2445" y="305"/>
                </a:lnTo>
                <a:lnTo>
                  <a:pt x="2442" y="305"/>
                </a:lnTo>
                <a:lnTo>
                  <a:pt x="2440" y="305"/>
                </a:lnTo>
                <a:lnTo>
                  <a:pt x="2430" y="305"/>
                </a:lnTo>
                <a:lnTo>
                  <a:pt x="2423" y="307"/>
                </a:lnTo>
                <a:lnTo>
                  <a:pt x="2421" y="307"/>
                </a:lnTo>
                <a:lnTo>
                  <a:pt x="2404" y="310"/>
                </a:lnTo>
                <a:lnTo>
                  <a:pt x="2402" y="310"/>
                </a:lnTo>
                <a:lnTo>
                  <a:pt x="2400" y="310"/>
                </a:lnTo>
                <a:lnTo>
                  <a:pt x="2395" y="312"/>
                </a:lnTo>
                <a:lnTo>
                  <a:pt x="2393" y="312"/>
                </a:lnTo>
                <a:lnTo>
                  <a:pt x="2390" y="312"/>
                </a:lnTo>
                <a:lnTo>
                  <a:pt x="2385" y="312"/>
                </a:lnTo>
                <a:lnTo>
                  <a:pt x="2381" y="314"/>
                </a:lnTo>
                <a:lnTo>
                  <a:pt x="2378" y="314"/>
                </a:lnTo>
                <a:lnTo>
                  <a:pt x="2371" y="314"/>
                </a:lnTo>
                <a:lnTo>
                  <a:pt x="2369" y="317"/>
                </a:lnTo>
                <a:lnTo>
                  <a:pt x="2369" y="314"/>
                </a:lnTo>
                <a:lnTo>
                  <a:pt x="2367" y="317"/>
                </a:lnTo>
                <a:lnTo>
                  <a:pt x="2343" y="319"/>
                </a:lnTo>
                <a:lnTo>
                  <a:pt x="2341" y="319"/>
                </a:lnTo>
                <a:lnTo>
                  <a:pt x="2338" y="321"/>
                </a:lnTo>
                <a:lnTo>
                  <a:pt x="2334" y="321"/>
                </a:lnTo>
                <a:lnTo>
                  <a:pt x="2331" y="321"/>
                </a:lnTo>
                <a:lnTo>
                  <a:pt x="2329" y="321"/>
                </a:lnTo>
                <a:lnTo>
                  <a:pt x="2326" y="324"/>
                </a:lnTo>
                <a:lnTo>
                  <a:pt x="2319" y="324"/>
                </a:lnTo>
                <a:lnTo>
                  <a:pt x="2317" y="324"/>
                </a:lnTo>
                <a:lnTo>
                  <a:pt x="2315" y="324"/>
                </a:lnTo>
                <a:lnTo>
                  <a:pt x="2303" y="321"/>
                </a:lnTo>
                <a:lnTo>
                  <a:pt x="2300" y="321"/>
                </a:lnTo>
                <a:lnTo>
                  <a:pt x="2296" y="321"/>
                </a:lnTo>
                <a:lnTo>
                  <a:pt x="2291" y="321"/>
                </a:lnTo>
                <a:lnTo>
                  <a:pt x="2289" y="319"/>
                </a:lnTo>
                <a:lnTo>
                  <a:pt x="2286" y="319"/>
                </a:lnTo>
                <a:lnTo>
                  <a:pt x="2282" y="319"/>
                </a:lnTo>
                <a:lnTo>
                  <a:pt x="2279" y="319"/>
                </a:lnTo>
                <a:lnTo>
                  <a:pt x="2277" y="317"/>
                </a:lnTo>
                <a:lnTo>
                  <a:pt x="2274" y="317"/>
                </a:lnTo>
                <a:lnTo>
                  <a:pt x="2267" y="317"/>
                </a:lnTo>
                <a:lnTo>
                  <a:pt x="2265" y="314"/>
                </a:lnTo>
                <a:lnTo>
                  <a:pt x="2263" y="314"/>
                </a:lnTo>
                <a:lnTo>
                  <a:pt x="2256" y="314"/>
                </a:lnTo>
                <a:lnTo>
                  <a:pt x="2251" y="314"/>
                </a:lnTo>
                <a:lnTo>
                  <a:pt x="2248" y="314"/>
                </a:lnTo>
                <a:lnTo>
                  <a:pt x="2241" y="312"/>
                </a:lnTo>
                <a:lnTo>
                  <a:pt x="2239" y="312"/>
                </a:lnTo>
                <a:lnTo>
                  <a:pt x="2237" y="312"/>
                </a:lnTo>
                <a:lnTo>
                  <a:pt x="2234" y="312"/>
                </a:lnTo>
                <a:lnTo>
                  <a:pt x="2232" y="312"/>
                </a:lnTo>
                <a:lnTo>
                  <a:pt x="2230" y="312"/>
                </a:lnTo>
                <a:lnTo>
                  <a:pt x="2225" y="310"/>
                </a:lnTo>
                <a:lnTo>
                  <a:pt x="2222" y="310"/>
                </a:lnTo>
                <a:lnTo>
                  <a:pt x="2218" y="310"/>
                </a:lnTo>
                <a:lnTo>
                  <a:pt x="2215" y="310"/>
                </a:lnTo>
                <a:lnTo>
                  <a:pt x="2213" y="310"/>
                </a:lnTo>
                <a:lnTo>
                  <a:pt x="2211" y="310"/>
                </a:lnTo>
                <a:lnTo>
                  <a:pt x="2204" y="310"/>
                </a:lnTo>
                <a:lnTo>
                  <a:pt x="2201" y="310"/>
                </a:lnTo>
                <a:lnTo>
                  <a:pt x="2197" y="310"/>
                </a:lnTo>
                <a:lnTo>
                  <a:pt x="2194" y="310"/>
                </a:lnTo>
                <a:lnTo>
                  <a:pt x="2192" y="310"/>
                </a:lnTo>
                <a:lnTo>
                  <a:pt x="2189" y="310"/>
                </a:lnTo>
                <a:lnTo>
                  <a:pt x="2187" y="310"/>
                </a:lnTo>
                <a:lnTo>
                  <a:pt x="2185" y="310"/>
                </a:lnTo>
                <a:lnTo>
                  <a:pt x="2182" y="310"/>
                </a:lnTo>
                <a:lnTo>
                  <a:pt x="2175" y="312"/>
                </a:lnTo>
                <a:lnTo>
                  <a:pt x="2173" y="312"/>
                </a:lnTo>
                <a:lnTo>
                  <a:pt x="2171" y="312"/>
                </a:lnTo>
                <a:lnTo>
                  <a:pt x="2168" y="312"/>
                </a:lnTo>
                <a:lnTo>
                  <a:pt x="2166" y="314"/>
                </a:lnTo>
                <a:lnTo>
                  <a:pt x="2163" y="314"/>
                </a:lnTo>
                <a:lnTo>
                  <a:pt x="2159" y="314"/>
                </a:lnTo>
                <a:lnTo>
                  <a:pt x="2156" y="314"/>
                </a:lnTo>
                <a:lnTo>
                  <a:pt x="2154" y="317"/>
                </a:lnTo>
                <a:lnTo>
                  <a:pt x="2152" y="317"/>
                </a:lnTo>
                <a:lnTo>
                  <a:pt x="2152" y="319"/>
                </a:lnTo>
                <a:lnTo>
                  <a:pt x="2149" y="319"/>
                </a:lnTo>
                <a:lnTo>
                  <a:pt x="2147" y="321"/>
                </a:lnTo>
                <a:lnTo>
                  <a:pt x="2145" y="321"/>
                </a:lnTo>
                <a:lnTo>
                  <a:pt x="2142" y="326"/>
                </a:lnTo>
                <a:lnTo>
                  <a:pt x="2140" y="329"/>
                </a:lnTo>
                <a:lnTo>
                  <a:pt x="2137" y="338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0"/>
                </a:lnTo>
                <a:lnTo>
                  <a:pt x="2145" y="362"/>
                </a:lnTo>
                <a:lnTo>
                  <a:pt x="2142" y="362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55"/>
                </a:lnTo>
                <a:lnTo>
                  <a:pt x="2142" y="352"/>
                </a:lnTo>
                <a:lnTo>
                  <a:pt x="2142" y="357"/>
                </a:lnTo>
                <a:lnTo>
                  <a:pt x="2142" y="352"/>
                </a:lnTo>
                <a:lnTo>
                  <a:pt x="2142" y="359"/>
                </a:lnTo>
                <a:lnTo>
                  <a:pt x="2142" y="350"/>
                </a:lnTo>
                <a:lnTo>
                  <a:pt x="2142" y="352"/>
                </a:lnTo>
                <a:lnTo>
                  <a:pt x="2140" y="343"/>
                </a:lnTo>
                <a:lnTo>
                  <a:pt x="2140" y="347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3"/>
                </a:lnTo>
                <a:lnTo>
                  <a:pt x="2140" y="345"/>
                </a:lnTo>
                <a:lnTo>
                  <a:pt x="2140" y="347"/>
                </a:lnTo>
                <a:lnTo>
                  <a:pt x="2142" y="359"/>
                </a:lnTo>
                <a:lnTo>
                  <a:pt x="2145" y="366"/>
                </a:lnTo>
                <a:lnTo>
                  <a:pt x="2140" y="345"/>
                </a:lnTo>
                <a:lnTo>
                  <a:pt x="2142" y="352"/>
                </a:lnTo>
                <a:lnTo>
                  <a:pt x="2142" y="355"/>
                </a:lnTo>
                <a:lnTo>
                  <a:pt x="2145" y="366"/>
                </a:lnTo>
                <a:lnTo>
                  <a:pt x="2145" y="369"/>
                </a:lnTo>
                <a:lnTo>
                  <a:pt x="2145" y="362"/>
                </a:lnTo>
                <a:lnTo>
                  <a:pt x="2145" y="371"/>
                </a:lnTo>
                <a:lnTo>
                  <a:pt x="2142" y="359"/>
                </a:lnTo>
                <a:lnTo>
                  <a:pt x="2142" y="357"/>
                </a:lnTo>
                <a:lnTo>
                  <a:pt x="2142" y="362"/>
                </a:lnTo>
                <a:lnTo>
                  <a:pt x="2142" y="357"/>
                </a:lnTo>
                <a:lnTo>
                  <a:pt x="2145" y="366"/>
                </a:lnTo>
                <a:lnTo>
                  <a:pt x="2145" y="364"/>
                </a:lnTo>
                <a:lnTo>
                  <a:pt x="2145" y="366"/>
                </a:lnTo>
                <a:lnTo>
                  <a:pt x="2149" y="388"/>
                </a:lnTo>
                <a:lnTo>
                  <a:pt x="2149" y="385"/>
                </a:lnTo>
                <a:lnTo>
                  <a:pt x="2147" y="381"/>
                </a:lnTo>
                <a:lnTo>
                  <a:pt x="2147" y="383"/>
                </a:lnTo>
                <a:lnTo>
                  <a:pt x="2149" y="388"/>
                </a:lnTo>
                <a:lnTo>
                  <a:pt x="2147" y="383"/>
                </a:lnTo>
                <a:lnTo>
                  <a:pt x="2149" y="385"/>
                </a:lnTo>
                <a:lnTo>
                  <a:pt x="2149" y="388"/>
                </a:lnTo>
                <a:lnTo>
                  <a:pt x="2149" y="390"/>
                </a:lnTo>
                <a:lnTo>
                  <a:pt x="2149" y="392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4"/>
                </a:lnTo>
                <a:lnTo>
                  <a:pt x="2145" y="407"/>
                </a:lnTo>
                <a:lnTo>
                  <a:pt x="2145" y="399"/>
                </a:lnTo>
                <a:lnTo>
                  <a:pt x="2142" y="397"/>
                </a:lnTo>
                <a:lnTo>
                  <a:pt x="2130" y="399"/>
                </a:lnTo>
                <a:lnTo>
                  <a:pt x="2133" y="333"/>
                </a:lnTo>
                <a:lnTo>
                  <a:pt x="2102" y="329"/>
                </a:lnTo>
                <a:lnTo>
                  <a:pt x="2109" y="296"/>
                </a:lnTo>
                <a:lnTo>
                  <a:pt x="2088" y="298"/>
                </a:lnTo>
                <a:lnTo>
                  <a:pt x="2064" y="298"/>
                </a:lnTo>
                <a:lnTo>
                  <a:pt x="2059" y="298"/>
                </a:lnTo>
                <a:lnTo>
                  <a:pt x="2059" y="303"/>
                </a:lnTo>
                <a:lnTo>
                  <a:pt x="2057" y="303"/>
                </a:lnTo>
                <a:lnTo>
                  <a:pt x="2055" y="270"/>
                </a:lnTo>
                <a:lnTo>
                  <a:pt x="2045" y="270"/>
                </a:lnTo>
                <a:lnTo>
                  <a:pt x="2045" y="260"/>
                </a:lnTo>
                <a:lnTo>
                  <a:pt x="2043" y="260"/>
                </a:lnTo>
                <a:lnTo>
                  <a:pt x="2015" y="262"/>
                </a:lnTo>
                <a:lnTo>
                  <a:pt x="2015" y="270"/>
                </a:lnTo>
                <a:lnTo>
                  <a:pt x="2012" y="270"/>
                </a:lnTo>
                <a:lnTo>
                  <a:pt x="2008" y="270"/>
                </a:lnTo>
                <a:lnTo>
                  <a:pt x="2008" y="267"/>
                </a:lnTo>
                <a:lnTo>
                  <a:pt x="1996" y="267"/>
                </a:lnTo>
                <a:lnTo>
                  <a:pt x="1993" y="270"/>
                </a:lnTo>
                <a:lnTo>
                  <a:pt x="1986" y="270"/>
                </a:lnTo>
                <a:lnTo>
                  <a:pt x="1984" y="272"/>
                </a:lnTo>
                <a:lnTo>
                  <a:pt x="1984" y="366"/>
                </a:lnTo>
                <a:lnTo>
                  <a:pt x="1984" y="397"/>
                </a:lnTo>
                <a:lnTo>
                  <a:pt x="1932" y="397"/>
                </a:lnTo>
                <a:lnTo>
                  <a:pt x="1927" y="359"/>
                </a:lnTo>
                <a:lnTo>
                  <a:pt x="1927" y="331"/>
                </a:lnTo>
                <a:lnTo>
                  <a:pt x="1927" y="298"/>
                </a:lnTo>
                <a:lnTo>
                  <a:pt x="1932" y="267"/>
                </a:lnTo>
                <a:lnTo>
                  <a:pt x="1908" y="267"/>
                </a:lnTo>
                <a:lnTo>
                  <a:pt x="1908" y="260"/>
                </a:lnTo>
                <a:lnTo>
                  <a:pt x="1906" y="258"/>
                </a:lnTo>
                <a:lnTo>
                  <a:pt x="1880" y="260"/>
                </a:lnTo>
                <a:lnTo>
                  <a:pt x="1880" y="262"/>
                </a:lnTo>
                <a:lnTo>
                  <a:pt x="1880" y="265"/>
                </a:lnTo>
                <a:lnTo>
                  <a:pt x="1880" y="267"/>
                </a:lnTo>
                <a:lnTo>
                  <a:pt x="1875" y="267"/>
                </a:lnTo>
                <a:lnTo>
                  <a:pt x="1871" y="267"/>
                </a:lnTo>
                <a:lnTo>
                  <a:pt x="1866" y="267"/>
                </a:lnTo>
                <a:lnTo>
                  <a:pt x="1863" y="267"/>
                </a:lnTo>
                <a:lnTo>
                  <a:pt x="1856" y="265"/>
                </a:lnTo>
                <a:lnTo>
                  <a:pt x="1856" y="267"/>
                </a:lnTo>
                <a:lnTo>
                  <a:pt x="1854" y="267"/>
                </a:lnTo>
                <a:lnTo>
                  <a:pt x="1852" y="265"/>
                </a:lnTo>
                <a:lnTo>
                  <a:pt x="1845" y="265"/>
                </a:lnTo>
                <a:lnTo>
                  <a:pt x="1845" y="267"/>
                </a:lnTo>
                <a:lnTo>
                  <a:pt x="1830" y="267"/>
                </a:lnTo>
                <a:lnTo>
                  <a:pt x="1840" y="331"/>
                </a:lnTo>
                <a:lnTo>
                  <a:pt x="1835" y="411"/>
                </a:lnTo>
                <a:lnTo>
                  <a:pt x="1833" y="395"/>
                </a:lnTo>
                <a:lnTo>
                  <a:pt x="1807" y="189"/>
                </a:lnTo>
                <a:lnTo>
                  <a:pt x="1684" y="173"/>
                </a:lnTo>
                <a:lnTo>
                  <a:pt x="1677" y="225"/>
                </a:lnTo>
                <a:lnTo>
                  <a:pt x="1682" y="239"/>
                </a:lnTo>
                <a:lnTo>
                  <a:pt x="1684" y="251"/>
                </a:lnTo>
                <a:lnTo>
                  <a:pt x="1677" y="310"/>
                </a:lnTo>
                <a:lnTo>
                  <a:pt x="1677" y="312"/>
                </a:lnTo>
                <a:lnTo>
                  <a:pt x="1672" y="383"/>
                </a:lnTo>
                <a:lnTo>
                  <a:pt x="1648" y="381"/>
                </a:lnTo>
                <a:lnTo>
                  <a:pt x="1646" y="163"/>
                </a:lnTo>
                <a:lnTo>
                  <a:pt x="1646" y="159"/>
                </a:lnTo>
                <a:lnTo>
                  <a:pt x="1646" y="156"/>
                </a:lnTo>
                <a:lnTo>
                  <a:pt x="1653" y="149"/>
                </a:lnTo>
                <a:lnTo>
                  <a:pt x="1653" y="147"/>
                </a:lnTo>
                <a:lnTo>
                  <a:pt x="1639" y="147"/>
                </a:lnTo>
                <a:lnTo>
                  <a:pt x="1641" y="147"/>
                </a:lnTo>
                <a:lnTo>
                  <a:pt x="1639" y="140"/>
                </a:lnTo>
                <a:lnTo>
                  <a:pt x="1613" y="140"/>
                </a:lnTo>
                <a:lnTo>
                  <a:pt x="1585" y="140"/>
                </a:lnTo>
                <a:lnTo>
                  <a:pt x="1582" y="144"/>
                </a:lnTo>
                <a:lnTo>
                  <a:pt x="1582" y="147"/>
                </a:lnTo>
                <a:lnTo>
                  <a:pt x="1573" y="147"/>
                </a:lnTo>
                <a:lnTo>
                  <a:pt x="1573" y="149"/>
                </a:lnTo>
                <a:lnTo>
                  <a:pt x="1575" y="154"/>
                </a:lnTo>
                <a:lnTo>
                  <a:pt x="1575" y="159"/>
                </a:lnTo>
                <a:lnTo>
                  <a:pt x="1580" y="161"/>
                </a:lnTo>
                <a:lnTo>
                  <a:pt x="1578" y="161"/>
                </a:lnTo>
                <a:lnTo>
                  <a:pt x="1578" y="166"/>
                </a:lnTo>
                <a:lnTo>
                  <a:pt x="1575" y="166"/>
                </a:lnTo>
                <a:lnTo>
                  <a:pt x="1575" y="168"/>
                </a:lnTo>
                <a:lnTo>
                  <a:pt x="1580" y="170"/>
                </a:lnTo>
                <a:lnTo>
                  <a:pt x="1580" y="184"/>
                </a:lnTo>
                <a:lnTo>
                  <a:pt x="1578" y="184"/>
                </a:lnTo>
                <a:lnTo>
                  <a:pt x="1578" y="189"/>
                </a:lnTo>
                <a:lnTo>
                  <a:pt x="1578" y="192"/>
                </a:lnTo>
                <a:lnTo>
                  <a:pt x="1578" y="194"/>
                </a:lnTo>
                <a:lnTo>
                  <a:pt x="1578" y="208"/>
                </a:lnTo>
                <a:lnTo>
                  <a:pt x="1578" y="213"/>
                </a:lnTo>
                <a:lnTo>
                  <a:pt x="1578" y="215"/>
                </a:lnTo>
                <a:lnTo>
                  <a:pt x="1578" y="232"/>
                </a:lnTo>
                <a:lnTo>
                  <a:pt x="1578" y="236"/>
                </a:lnTo>
                <a:lnTo>
                  <a:pt x="1578" y="239"/>
                </a:lnTo>
                <a:lnTo>
                  <a:pt x="1578" y="255"/>
                </a:lnTo>
                <a:lnTo>
                  <a:pt x="1578" y="260"/>
                </a:lnTo>
                <a:lnTo>
                  <a:pt x="1578" y="262"/>
                </a:lnTo>
                <a:lnTo>
                  <a:pt x="1578" y="281"/>
                </a:lnTo>
                <a:lnTo>
                  <a:pt x="1578" y="284"/>
                </a:lnTo>
                <a:lnTo>
                  <a:pt x="1578" y="286"/>
                </a:lnTo>
                <a:lnTo>
                  <a:pt x="1578" y="305"/>
                </a:lnTo>
                <a:lnTo>
                  <a:pt x="1578" y="310"/>
                </a:lnTo>
                <a:lnTo>
                  <a:pt x="1578" y="329"/>
                </a:lnTo>
                <a:lnTo>
                  <a:pt x="1578" y="333"/>
                </a:lnTo>
                <a:lnTo>
                  <a:pt x="1578" y="336"/>
                </a:lnTo>
                <a:lnTo>
                  <a:pt x="1578" y="352"/>
                </a:lnTo>
                <a:lnTo>
                  <a:pt x="1578" y="357"/>
                </a:lnTo>
                <a:lnTo>
                  <a:pt x="1578" y="359"/>
                </a:lnTo>
                <a:lnTo>
                  <a:pt x="1578" y="381"/>
                </a:lnTo>
                <a:lnTo>
                  <a:pt x="1556" y="381"/>
                </a:lnTo>
                <a:lnTo>
                  <a:pt x="1556" y="194"/>
                </a:lnTo>
                <a:lnTo>
                  <a:pt x="1559" y="194"/>
                </a:lnTo>
                <a:lnTo>
                  <a:pt x="1559" y="192"/>
                </a:lnTo>
                <a:lnTo>
                  <a:pt x="1556" y="192"/>
                </a:lnTo>
                <a:lnTo>
                  <a:pt x="1554" y="192"/>
                </a:lnTo>
                <a:lnTo>
                  <a:pt x="1554" y="175"/>
                </a:lnTo>
                <a:lnTo>
                  <a:pt x="1554" y="170"/>
                </a:lnTo>
                <a:lnTo>
                  <a:pt x="1554" y="166"/>
                </a:lnTo>
                <a:lnTo>
                  <a:pt x="1549" y="166"/>
                </a:lnTo>
                <a:lnTo>
                  <a:pt x="1504" y="166"/>
                </a:lnTo>
                <a:lnTo>
                  <a:pt x="1504" y="173"/>
                </a:lnTo>
                <a:lnTo>
                  <a:pt x="1502" y="173"/>
                </a:lnTo>
                <a:lnTo>
                  <a:pt x="1502" y="192"/>
                </a:lnTo>
                <a:lnTo>
                  <a:pt x="1500" y="192"/>
                </a:lnTo>
                <a:lnTo>
                  <a:pt x="1500" y="194"/>
                </a:lnTo>
                <a:lnTo>
                  <a:pt x="1500" y="201"/>
                </a:lnTo>
                <a:lnTo>
                  <a:pt x="1497" y="201"/>
                </a:lnTo>
                <a:lnTo>
                  <a:pt x="1495" y="381"/>
                </a:lnTo>
                <a:lnTo>
                  <a:pt x="1488" y="381"/>
                </a:lnTo>
                <a:lnTo>
                  <a:pt x="1488" y="88"/>
                </a:lnTo>
                <a:lnTo>
                  <a:pt x="1438" y="85"/>
                </a:lnTo>
                <a:lnTo>
                  <a:pt x="1433" y="102"/>
                </a:lnTo>
                <a:lnTo>
                  <a:pt x="1433" y="352"/>
                </a:lnTo>
                <a:lnTo>
                  <a:pt x="1424" y="352"/>
                </a:lnTo>
                <a:lnTo>
                  <a:pt x="1424" y="357"/>
                </a:lnTo>
                <a:lnTo>
                  <a:pt x="1417" y="357"/>
                </a:lnTo>
                <a:lnTo>
                  <a:pt x="1419" y="3"/>
                </a:lnTo>
                <a:lnTo>
                  <a:pt x="1377" y="0"/>
                </a:lnTo>
                <a:lnTo>
                  <a:pt x="1377" y="357"/>
                </a:lnTo>
                <a:lnTo>
                  <a:pt x="1370" y="357"/>
                </a:lnTo>
                <a:lnTo>
                  <a:pt x="1370" y="352"/>
                </a:lnTo>
                <a:lnTo>
                  <a:pt x="1363" y="352"/>
                </a:lnTo>
                <a:lnTo>
                  <a:pt x="1363" y="97"/>
                </a:lnTo>
                <a:lnTo>
                  <a:pt x="1360" y="81"/>
                </a:lnTo>
                <a:lnTo>
                  <a:pt x="1308" y="78"/>
                </a:lnTo>
                <a:lnTo>
                  <a:pt x="1306" y="366"/>
                </a:lnTo>
                <a:lnTo>
                  <a:pt x="1299" y="366"/>
                </a:lnTo>
                <a:lnTo>
                  <a:pt x="1299" y="357"/>
                </a:lnTo>
                <a:lnTo>
                  <a:pt x="1292" y="357"/>
                </a:lnTo>
                <a:lnTo>
                  <a:pt x="1289" y="201"/>
                </a:lnTo>
                <a:lnTo>
                  <a:pt x="1285" y="201"/>
                </a:lnTo>
                <a:lnTo>
                  <a:pt x="1285" y="194"/>
                </a:lnTo>
                <a:lnTo>
                  <a:pt x="1282" y="182"/>
                </a:lnTo>
                <a:lnTo>
                  <a:pt x="1275" y="182"/>
                </a:lnTo>
                <a:lnTo>
                  <a:pt x="1273" y="175"/>
                </a:lnTo>
                <a:lnTo>
                  <a:pt x="1263" y="175"/>
                </a:lnTo>
                <a:lnTo>
                  <a:pt x="1259" y="163"/>
                </a:lnTo>
                <a:lnTo>
                  <a:pt x="1261" y="154"/>
                </a:lnTo>
                <a:lnTo>
                  <a:pt x="1249" y="154"/>
                </a:lnTo>
                <a:lnTo>
                  <a:pt x="1249" y="147"/>
                </a:lnTo>
                <a:lnTo>
                  <a:pt x="1249" y="128"/>
                </a:lnTo>
                <a:lnTo>
                  <a:pt x="1247" y="81"/>
                </a:lnTo>
                <a:lnTo>
                  <a:pt x="1242" y="81"/>
                </a:lnTo>
                <a:lnTo>
                  <a:pt x="1242" y="83"/>
                </a:lnTo>
                <a:lnTo>
                  <a:pt x="1240" y="130"/>
                </a:lnTo>
                <a:lnTo>
                  <a:pt x="1240" y="149"/>
                </a:lnTo>
                <a:lnTo>
                  <a:pt x="1240" y="154"/>
                </a:lnTo>
                <a:lnTo>
                  <a:pt x="1230" y="154"/>
                </a:lnTo>
                <a:lnTo>
                  <a:pt x="1230" y="166"/>
                </a:lnTo>
                <a:lnTo>
                  <a:pt x="1228" y="175"/>
                </a:lnTo>
                <a:lnTo>
                  <a:pt x="1219" y="175"/>
                </a:lnTo>
                <a:lnTo>
                  <a:pt x="1216" y="182"/>
                </a:lnTo>
                <a:lnTo>
                  <a:pt x="1209" y="182"/>
                </a:lnTo>
                <a:lnTo>
                  <a:pt x="1207" y="194"/>
                </a:lnTo>
                <a:lnTo>
                  <a:pt x="1207" y="201"/>
                </a:lnTo>
                <a:lnTo>
                  <a:pt x="1207" y="203"/>
                </a:lnTo>
                <a:lnTo>
                  <a:pt x="1202" y="203"/>
                </a:lnTo>
                <a:lnTo>
                  <a:pt x="1202" y="206"/>
                </a:lnTo>
                <a:lnTo>
                  <a:pt x="1200" y="364"/>
                </a:lnTo>
                <a:lnTo>
                  <a:pt x="1200" y="385"/>
                </a:lnTo>
                <a:lnTo>
                  <a:pt x="1188" y="385"/>
                </a:lnTo>
                <a:lnTo>
                  <a:pt x="1164" y="385"/>
                </a:lnTo>
                <a:lnTo>
                  <a:pt x="1164" y="364"/>
                </a:lnTo>
                <a:lnTo>
                  <a:pt x="1176" y="362"/>
                </a:lnTo>
                <a:lnTo>
                  <a:pt x="1155" y="352"/>
                </a:lnTo>
                <a:lnTo>
                  <a:pt x="1157" y="352"/>
                </a:lnTo>
                <a:lnTo>
                  <a:pt x="1157" y="343"/>
                </a:lnTo>
                <a:lnTo>
                  <a:pt x="1167" y="340"/>
                </a:lnTo>
                <a:lnTo>
                  <a:pt x="1150" y="329"/>
                </a:lnTo>
                <a:lnTo>
                  <a:pt x="1150" y="324"/>
                </a:lnTo>
                <a:lnTo>
                  <a:pt x="1159" y="321"/>
                </a:lnTo>
                <a:lnTo>
                  <a:pt x="1122" y="296"/>
                </a:lnTo>
                <a:lnTo>
                  <a:pt x="1124" y="296"/>
                </a:lnTo>
                <a:lnTo>
                  <a:pt x="1124" y="293"/>
                </a:lnTo>
                <a:lnTo>
                  <a:pt x="1124" y="291"/>
                </a:lnTo>
                <a:lnTo>
                  <a:pt x="1124" y="288"/>
                </a:lnTo>
                <a:lnTo>
                  <a:pt x="1124" y="286"/>
                </a:lnTo>
                <a:lnTo>
                  <a:pt x="1122" y="284"/>
                </a:lnTo>
                <a:lnTo>
                  <a:pt x="1119" y="284"/>
                </a:lnTo>
                <a:lnTo>
                  <a:pt x="1119" y="286"/>
                </a:lnTo>
                <a:lnTo>
                  <a:pt x="1117" y="286"/>
                </a:lnTo>
                <a:lnTo>
                  <a:pt x="1117" y="288"/>
                </a:lnTo>
                <a:lnTo>
                  <a:pt x="1119" y="288"/>
                </a:lnTo>
                <a:lnTo>
                  <a:pt x="1119" y="293"/>
                </a:lnTo>
                <a:lnTo>
                  <a:pt x="1117" y="293"/>
                </a:lnTo>
                <a:lnTo>
                  <a:pt x="1117" y="296"/>
                </a:lnTo>
                <a:lnTo>
                  <a:pt x="1119" y="296"/>
                </a:lnTo>
                <a:lnTo>
                  <a:pt x="1081" y="321"/>
                </a:lnTo>
                <a:lnTo>
                  <a:pt x="1091" y="321"/>
                </a:lnTo>
                <a:lnTo>
                  <a:pt x="1091" y="324"/>
                </a:lnTo>
                <a:lnTo>
                  <a:pt x="1091" y="329"/>
                </a:lnTo>
                <a:lnTo>
                  <a:pt x="1074" y="340"/>
                </a:lnTo>
                <a:lnTo>
                  <a:pt x="1084" y="343"/>
                </a:lnTo>
                <a:lnTo>
                  <a:pt x="1084" y="352"/>
                </a:lnTo>
                <a:lnTo>
                  <a:pt x="1065" y="362"/>
                </a:lnTo>
                <a:lnTo>
                  <a:pt x="1077" y="364"/>
                </a:lnTo>
                <a:lnTo>
                  <a:pt x="1074" y="364"/>
                </a:lnTo>
                <a:lnTo>
                  <a:pt x="1077" y="364"/>
                </a:lnTo>
                <a:lnTo>
                  <a:pt x="1077" y="392"/>
                </a:lnTo>
                <a:lnTo>
                  <a:pt x="1077" y="397"/>
                </a:lnTo>
                <a:lnTo>
                  <a:pt x="1058" y="397"/>
                </a:lnTo>
                <a:lnTo>
                  <a:pt x="1056" y="366"/>
                </a:lnTo>
                <a:lnTo>
                  <a:pt x="1053" y="362"/>
                </a:lnTo>
                <a:lnTo>
                  <a:pt x="987" y="362"/>
                </a:lnTo>
                <a:lnTo>
                  <a:pt x="985" y="362"/>
                </a:lnTo>
                <a:lnTo>
                  <a:pt x="956" y="362"/>
                </a:lnTo>
                <a:lnTo>
                  <a:pt x="956" y="350"/>
                </a:lnTo>
                <a:lnTo>
                  <a:pt x="968" y="343"/>
                </a:lnTo>
                <a:lnTo>
                  <a:pt x="949" y="336"/>
                </a:lnTo>
                <a:lnTo>
                  <a:pt x="949" y="333"/>
                </a:lnTo>
                <a:lnTo>
                  <a:pt x="959" y="329"/>
                </a:lnTo>
                <a:lnTo>
                  <a:pt x="940" y="321"/>
                </a:lnTo>
                <a:lnTo>
                  <a:pt x="930" y="296"/>
                </a:lnTo>
                <a:lnTo>
                  <a:pt x="930" y="293"/>
                </a:lnTo>
                <a:lnTo>
                  <a:pt x="930" y="288"/>
                </a:lnTo>
                <a:lnTo>
                  <a:pt x="930" y="293"/>
                </a:lnTo>
                <a:lnTo>
                  <a:pt x="928" y="293"/>
                </a:lnTo>
                <a:lnTo>
                  <a:pt x="928" y="291"/>
                </a:lnTo>
                <a:lnTo>
                  <a:pt x="926" y="288"/>
                </a:lnTo>
                <a:lnTo>
                  <a:pt x="923" y="288"/>
                </a:lnTo>
                <a:lnTo>
                  <a:pt x="923" y="291"/>
                </a:lnTo>
                <a:lnTo>
                  <a:pt x="923" y="296"/>
                </a:lnTo>
                <a:lnTo>
                  <a:pt x="765" y="296"/>
                </a:lnTo>
                <a:lnTo>
                  <a:pt x="767" y="291"/>
                </a:lnTo>
                <a:lnTo>
                  <a:pt x="765" y="288"/>
                </a:lnTo>
                <a:lnTo>
                  <a:pt x="763" y="291"/>
                </a:lnTo>
                <a:lnTo>
                  <a:pt x="763" y="293"/>
                </a:lnTo>
                <a:lnTo>
                  <a:pt x="760" y="293"/>
                </a:lnTo>
                <a:lnTo>
                  <a:pt x="760" y="288"/>
                </a:lnTo>
                <a:lnTo>
                  <a:pt x="760" y="296"/>
                </a:lnTo>
                <a:lnTo>
                  <a:pt x="760" y="298"/>
                </a:lnTo>
                <a:lnTo>
                  <a:pt x="751" y="321"/>
                </a:lnTo>
                <a:lnTo>
                  <a:pt x="732" y="329"/>
                </a:lnTo>
                <a:lnTo>
                  <a:pt x="741" y="333"/>
                </a:lnTo>
                <a:lnTo>
                  <a:pt x="741" y="338"/>
                </a:lnTo>
                <a:lnTo>
                  <a:pt x="722" y="345"/>
                </a:lnTo>
                <a:lnTo>
                  <a:pt x="734" y="350"/>
                </a:lnTo>
                <a:lnTo>
                  <a:pt x="734" y="362"/>
                </a:lnTo>
                <a:lnTo>
                  <a:pt x="708" y="362"/>
                </a:lnTo>
                <a:lnTo>
                  <a:pt x="706" y="364"/>
                </a:lnTo>
                <a:lnTo>
                  <a:pt x="668" y="364"/>
                </a:lnTo>
                <a:lnTo>
                  <a:pt x="668" y="329"/>
                </a:lnTo>
                <a:lnTo>
                  <a:pt x="663" y="329"/>
                </a:lnTo>
                <a:lnTo>
                  <a:pt x="663" y="307"/>
                </a:lnTo>
                <a:lnTo>
                  <a:pt x="656" y="305"/>
                </a:lnTo>
                <a:lnTo>
                  <a:pt x="656" y="293"/>
                </a:lnTo>
                <a:lnTo>
                  <a:pt x="659" y="293"/>
                </a:lnTo>
                <a:lnTo>
                  <a:pt x="659" y="284"/>
                </a:lnTo>
                <a:lnTo>
                  <a:pt x="637" y="267"/>
                </a:lnTo>
                <a:lnTo>
                  <a:pt x="635" y="267"/>
                </a:lnTo>
                <a:lnTo>
                  <a:pt x="635" y="262"/>
                </a:lnTo>
                <a:lnTo>
                  <a:pt x="633" y="262"/>
                </a:lnTo>
                <a:lnTo>
                  <a:pt x="630" y="262"/>
                </a:lnTo>
                <a:lnTo>
                  <a:pt x="630" y="267"/>
                </a:lnTo>
                <a:lnTo>
                  <a:pt x="628" y="267"/>
                </a:lnTo>
                <a:lnTo>
                  <a:pt x="602" y="284"/>
                </a:lnTo>
                <a:lnTo>
                  <a:pt x="607" y="291"/>
                </a:lnTo>
                <a:lnTo>
                  <a:pt x="607" y="303"/>
                </a:lnTo>
                <a:lnTo>
                  <a:pt x="600" y="305"/>
                </a:lnTo>
                <a:lnTo>
                  <a:pt x="600" y="326"/>
                </a:lnTo>
                <a:lnTo>
                  <a:pt x="595" y="329"/>
                </a:lnTo>
                <a:lnTo>
                  <a:pt x="595" y="369"/>
                </a:lnTo>
                <a:lnTo>
                  <a:pt x="519" y="369"/>
                </a:lnTo>
                <a:lnTo>
                  <a:pt x="519" y="331"/>
                </a:lnTo>
                <a:lnTo>
                  <a:pt x="519" y="300"/>
                </a:lnTo>
                <a:lnTo>
                  <a:pt x="517" y="300"/>
                </a:lnTo>
                <a:lnTo>
                  <a:pt x="517" y="298"/>
                </a:lnTo>
                <a:lnTo>
                  <a:pt x="517" y="296"/>
                </a:lnTo>
                <a:lnTo>
                  <a:pt x="517" y="293"/>
                </a:lnTo>
                <a:lnTo>
                  <a:pt x="515" y="293"/>
                </a:lnTo>
                <a:lnTo>
                  <a:pt x="515" y="296"/>
                </a:lnTo>
                <a:lnTo>
                  <a:pt x="515" y="298"/>
                </a:lnTo>
                <a:lnTo>
                  <a:pt x="515" y="300"/>
                </a:lnTo>
                <a:lnTo>
                  <a:pt x="512" y="300"/>
                </a:lnTo>
                <a:lnTo>
                  <a:pt x="512" y="321"/>
                </a:lnTo>
                <a:lnTo>
                  <a:pt x="510" y="321"/>
                </a:lnTo>
                <a:lnTo>
                  <a:pt x="510" y="326"/>
                </a:lnTo>
                <a:lnTo>
                  <a:pt x="477" y="326"/>
                </a:lnTo>
                <a:lnTo>
                  <a:pt x="477" y="321"/>
                </a:lnTo>
                <a:lnTo>
                  <a:pt x="474" y="321"/>
                </a:lnTo>
                <a:lnTo>
                  <a:pt x="474" y="310"/>
                </a:lnTo>
                <a:lnTo>
                  <a:pt x="474" y="284"/>
                </a:lnTo>
                <a:lnTo>
                  <a:pt x="472" y="284"/>
                </a:lnTo>
                <a:lnTo>
                  <a:pt x="472" y="281"/>
                </a:lnTo>
                <a:lnTo>
                  <a:pt x="472" y="279"/>
                </a:lnTo>
                <a:lnTo>
                  <a:pt x="472" y="277"/>
                </a:lnTo>
                <a:lnTo>
                  <a:pt x="470" y="277"/>
                </a:lnTo>
                <a:lnTo>
                  <a:pt x="470" y="279"/>
                </a:lnTo>
                <a:lnTo>
                  <a:pt x="470" y="281"/>
                </a:lnTo>
                <a:lnTo>
                  <a:pt x="470" y="284"/>
                </a:lnTo>
                <a:lnTo>
                  <a:pt x="467" y="284"/>
                </a:lnTo>
                <a:lnTo>
                  <a:pt x="467" y="296"/>
                </a:lnTo>
                <a:lnTo>
                  <a:pt x="463" y="296"/>
                </a:lnTo>
                <a:lnTo>
                  <a:pt x="463" y="300"/>
                </a:lnTo>
                <a:lnTo>
                  <a:pt x="408" y="300"/>
                </a:lnTo>
                <a:lnTo>
                  <a:pt x="408" y="296"/>
                </a:lnTo>
                <a:lnTo>
                  <a:pt x="404" y="296"/>
                </a:lnTo>
                <a:lnTo>
                  <a:pt x="404" y="284"/>
                </a:lnTo>
                <a:lnTo>
                  <a:pt x="401" y="284"/>
                </a:lnTo>
                <a:lnTo>
                  <a:pt x="401" y="281"/>
                </a:lnTo>
                <a:lnTo>
                  <a:pt x="401" y="279"/>
                </a:lnTo>
                <a:lnTo>
                  <a:pt x="401" y="277"/>
                </a:lnTo>
                <a:lnTo>
                  <a:pt x="399" y="277"/>
                </a:lnTo>
                <a:lnTo>
                  <a:pt x="399" y="279"/>
                </a:lnTo>
                <a:lnTo>
                  <a:pt x="399" y="281"/>
                </a:lnTo>
                <a:lnTo>
                  <a:pt x="399" y="284"/>
                </a:lnTo>
                <a:lnTo>
                  <a:pt x="396" y="284"/>
                </a:lnTo>
                <a:lnTo>
                  <a:pt x="396" y="310"/>
                </a:lnTo>
                <a:lnTo>
                  <a:pt x="396" y="321"/>
                </a:lnTo>
                <a:lnTo>
                  <a:pt x="394" y="321"/>
                </a:lnTo>
                <a:lnTo>
                  <a:pt x="394" y="326"/>
                </a:lnTo>
                <a:lnTo>
                  <a:pt x="361" y="326"/>
                </a:lnTo>
                <a:lnTo>
                  <a:pt x="361" y="321"/>
                </a:lnTo>
                <a:lnTo>
                  <a:pt x="359" y="321"/>
                </a:lnTo>
                <a:lnTo>
                  <a:pt x="359" y="329"/>
                </a:lnTo>
                <a:lnTo>
                  <a:pt x="356" y="329"/>
                </a:lnTo>
                <a:lnTo>
                  <a:pt x="359" y="300"/>
                </a:lnTo>
                <a:lnTo>
                  <a:pt x="356" y="300"/>
                </a:lnTo>
                <a:lnTo>
                  <a:pt x="356" y="298"/>
                </a:lnTo>
                <a:lnTo>
                  <a:pt x="356" y="296"/>
                </a:lnTo>
                <a:lnTo>
                  <a:pt x="356" y="293"/>
                </a:lnTo>
                <a:lnTo>
                  <a:pt x="354" y="293"/>
                </a:lnTo>
                <a:lnTo>
                  <a:pt x="354" y="296"/>
                </a:lnTo>
                <a:lnTo>
                  <a:pt x="354" y="298"/>
                </a:lnTo>
                <a:lnTo>
                  <a:pt x="354" y="300"/>
                </a:lnTo>
                <a:lnTo>
                  <a:pt x="352" y="300"/>
                </a:lnTo>
                <a:lnTo>
                  <a:pt x="352" y="329"/>
                </a:lnTo>
                <a:lnTo>
                  <a:pt x="349" y="373"/>
                </a:lnTo>
                <a:lnTo>
                  <a:pt x="349" y="392"/>
                </a:lnTo>
                <a:lnTo>
                  <a:pt x="347" y="392"/>
                </a:lnTo>
                <a:lnTo>
                  <a:pt x="344" y="390"/>
                </a:lnTo>
                <a:lnTo>
                  <a:pt x="342" y="390"/>
                </a:lnTo>
                <a:lnTo>
                  <a:pt x="337" y="388"/>
                </a:lnTo>
                <a:lnTo>
                  <a:pt x="335" y="385"/>
                </a:lnTo>
                <a:lnTo>
                  <a:pt x="333" y="383"/>
                </a:lnTo>
                <a:lnTo>
                  <a:pt x="328" y="381"/>
                </a:lnTo>
                <a:lnTo>
                  <a:pt x="326" y="378"/>
                </a:lnTo>
                <a:lnTo>
                  <a:pt x="323" y="376"/>
                </a:lnTo>
                <a:lnTo>
                  <a:pt x="321" y="373"/>
                </a:lnTo>
                <a:lnTo>
                  <a:pt x="321" y="371"/>
                </a:lnTo>
                <a:lnTo>
                  <a:pt x="321" y="373"/>
                </a:lnTo>
                <a:lnTo>
                  <a:pt x="318" y="376"/>
                </a:lnTo>
                <a:lnTo>
                  <a:pt x="316" y="378"/>
                </a:lnTo>
                <a:lnTo>
                  <a:pt x="314" y="381"/>
                </a:lnTo>
                <a:lnTo>
                  <a:pt x="309" y="381"/>
                </a:lnTo>
                <a:lnTo>
                  <a:pt x="300" y="376"/>
                </a:lnTo>
                <a:lnTo>
                  <a:pt x="300" y="364"/>
                </a:lnTo>
                <a:lnTo>
                  <a:pt x="300" y="362"/>
                </a:lnTo>
                <a:lnTo>
                  <a:pt x="292" y="362"/>
                </a:lnTo>
                <a:lnTo>
                  <a:pt x="292" y="355"/>
                </a:lnTo>
                <a:lnTo>
                  <a:pt x="295" y="352"/>
                </a:lnTo>
                <a:lnTo>
                  <a:pt x="290" y="350"/>
                </a:lnTo>
                <a:lnTo>
                  <a:pt x="285" y="350"/>
                </a:lnTo>
                <a:lnTo>
                  <a:pt x="281" y="355"/>
                </a:lnTo>
                <a:lnTo>
                  <a:pt x="283" y="357"/>
                </a:lnTo>
                <a:lnTo>
                  <a:pt x="283" y="362"/>
                </a:lnTo>
                <a:lnTo>
                  <a:pt x="276" y="362"/>
                </a:lnTo>
                <a:lnTo>
                  <a:pt x="255" y="362"/>
                </a:lnTo>
                <a:lnTo>
                  <a:pt x="255" y="357"/>
                </a:lnTo>
                <a:lnTo>
                  <a:pt x="255" y="345"/>
                </a:lnTo>
                <a:lnTo>
                  <a:pt x="266" y="340"/>
                </a:lnTo>
                <a:lnTo>
                  <a:pt x="264" y="340"/>
                </a:lnTo>
                <a:lnTo>
                  <a:pt x="262" y="340"/>
                </a:lnTo>
                <a:lnTo>
                  <a:pt x="259" y="340"/>
                </a:lnTo>
                <a:lnTo>
                  <a:pt x="257" y="338"/>
                </a:lnTo>
                <a:lnTo>
                  <a:pt x="255" y="338"/>
                </a:lnTo>
                <a:lnTo>
                  <a:pt x="255" y="336"/>
                </a:lnTo>
                <a:lnTo>
                  <a:pt x="250" y="314"/>
                </a:lnTo>
                <a:lnTo>
                  <a:pt x="250" y="312"/>
                </a:lnTo>
                <a:lnTo>
                  <a:pt x="250" y="307"/>
                </a:lnTo>
                <a:lnTo>
                  <a:pt x="250" y="305"/>
                </a:lnTo>
                <a:lnTo>
                  <a:pt x="248" y="305"/>
                </a:lnTo>
                <a:lnTo>
                  <a:pt x="245" y="305"/>
                </a:lnTo>
                <a:lnTo>
                  <a:pt x="245" y="307"/>
                </a:lnTo>
                <a:lnTo>
                  <a:pt x="248" y="307"/>
                </a:lnTo>
                <a:lnTo>
                  <a:pt x="248" y="310"/>
                </a:lnTo>
                <a:lnTo>
                  <a:pt x="248" y="312"/>
                </a:lnTo>
                <a:lnTo>
                  <a:pt x="127" y="310"/>
                </a:lnTo>
                <a:lnTo>
                  <a:pt x="127" y="307"/>
                </a:lnTo>
                <a:lnTo>
                  <a:pt x="129" y="307"/>
                </a:lnTo>
                <a:lnTo>
                  <a:pt x="129" y="305"/>
                </a:lnTo>
                <a:lnTo>
                  <a:pt x="127" y="305"/>
                </a:lnTo>
                <a:lnTo>
                  <a:pt x="125" y="305"/>
                </a:lnTo>
                <a:lnTo>
                  <a:pt x="125" y="307"/>
                </a:lnTo>
                <a:lnTo>
                  <a:pt x="125" y="310"/>
                </a:lnTo>
                <a:lnTo>
                  <a:pt x="125" y="314"/>
                </a:lnTo>
                <a:lnTo>
                  <a:pt x="122" y="336"/>
                </a:lnTo>
                <a:lnTo>
                  <a:pt x="122" y="338"/>
                </a:lnTo>
                <a:lnTo>
                  <a:pt x="120" y="338"/>
                </a:lnTo>
                <a:lnTo>
                  <a:pt x="118" y="340"/>
                </a:lnTo>
                <a:lnTo>
                  <a:pt x="115" y="340"/>
                </a:lnTo>
                <a:lnTo>
                  <a:pt x="113" y="340"/>
                </a:lnTo>
                <a:lnTo>
                  <a:pt x="111" y="340"/>
                </a:lnTo>
                <a:lnTo>
                  <a:pt x="118" y="345"/>
                </a:lnTo>
                <a:lnTo>
                  <a:pt x="122" y="347"/>
                </a:lnTo>
                <a:lnTo>
                  <a:pt x="122" y="355"/>
                </a:lnTo>
                <a:lnTo>
                  <a:pt x="122" y="357"/>
                </a:lnTo>
                <a:lnTo>
                  <a:pt x="120" y="357"/>
                </a:lnTo>
                <a:lnTo>
                  <a:pt x="111" y="357"/>
                </a:lnTo>
                <a:lnTo>
                  <a:pt x="111" y="362"/>
                </a:lnTo>
                <a:lnTo>
                  <a:pt x="101" y="362"/>
                </a:lnTo>
                <a:lnTo>
                  <a:pt x="85" y="362"/>
                </a:lnTo>
                <a:lnTo>
                  <a:pt x="85" y="355"/>
                </a:lnTo>
                <a:lnTo>
                  <a:pt x="87" y="355"/>
                </a:lnTo>
                <a:lnTo>
                  <a:pt x="82" y="350"/>
                </a:lnTo>
                <a:lnTo>
                  <a:pt x="80" y="350"/>
                </a:lnTo>
                <a:lnTo>
                  <a:pt x="75" y="352"/>
                </a:lnTo>
                <a:lnTo>
                  <a:pt x="78" y="355"/>
                </a:lnTo>
                <a:lnTo>
                  <a:pt x="78" y="362"/>
                </a:lnTo>
                <a:lnTo>
                  <a:pt x="70" y="362"/>
                </a:lnTo>
                <a:lnTo>
                  <a:pt x="70" y="364"/>
                </a:lnTo>
                <a:lnTo>
                  <a:pt x="70" y="376"/>
                </a:lnTo>
                <a:lnTo>
                  <a:pt x="61" y="381"/>
                </a:lnTo>
                <a:lnTo>
                  <a:pt x="59" y="378"/>
                </a:lnTo>
                <a:lnTo>
                  <a:pt x="56" y="378"/>
                </a:lnTo>
                <a:lnTo>
                  <a:pt x="56" y="376"/>
                </a:lnTo>
                <a:lnTo>
                  <a:pt x="56" y="378"/>
                </a:lnTo>
                <a:lnTo>
                  <a:pt x="54" y="378"/>
                </a:lnTo>
                <a:lnTo>
                  <a:pt x="52" y="381"/>
                </a:lnTo>
                <a:lnTo>
                  <a:pt x="49" y="383"/>
                </a:lnTo>
                <a:lnTo>
                  <a:pt x="47" y="385"/>
                </a:lnTo>
                <a:lnTo>
                  <a:pt x="42" y="388"/>
                </a:lnTo>
                <a:lnTo>
                  <a:pt x="40" y="390"/>
                </a:lnTo>
                <a:lnTo>
                  <a:pt x="37" y="390"/>
                </a:lnTo>
                <a:lnTo>
                  <a:pt x="35" y="392"/>
                </a:lnTo>
                <a:lnTo>
                  <a:pt x="30" y="395"/>
                </a:lnTo>
                <a:lnTo>
                  <a:pt x="28" y="395"/>
                </a:lnTo>
                <a:lnTo>
                  <a:pt x="26" y="395"/>
                </a:lnTo>
                <a:lnTo>
                  <a:pt x="23" y="397"/>
                </a:lnTo>
                <a:lnTo>
                  <a:pt x="30" y="404"/>
                </a:lnTo>
                <a:lnTo>
                  <a:pt x="30" y="411"/>
                </a:lnTo>
                <a:lnTo>
                  <a:pt x="0" y="411"/>
                </a:lnTo>
                <a:lnTo>
                  <a:pt x="0" y="492"/>
                </a:lnTo>
                <a:lnTo>
                  <a:pt x="2660" y="492"/>
                </a:lnTo>
                <a:lnTo>
                  <a:pt x="2660" y="411"/>
                </a:lnTo>
                <a:close/>
                <a:moveTo>
                  <a:pt x="2140" y="343"/>
                </a:moveTo>
                <a:lnTo>
                  <a:pt x="2140" y="343"/>
                </a:lnTo>
                <a:lnTo>
                  <a:pt x="2137" y="338"/>
                </a:lnTo>
                <a:lnTo>
                  <a:pt x="2137" y="340"/>
                </a:lnTo>
                <a:lnTo>
                  <a:pt x="2140" y="340"/>
                </a:lnTo>
                <a:lnTo>
                  <a:pt x="2140" y="343"/>
                </a:lnTo>
                <a:close/>
                <a:moveTo>
                  <a:pt x="396" y="392"/>
                </a:moveTo>
                <a:lnTo>
                  <a:pt x="396" y="392"/>
                </a:lnTo>
                <a:lnTo>
                  <a:pt x="394" y="392"/>
                </a:lnTo>
                <a:lnTo>
                  <a:pt x="394" y="395"/>
                </a:lnTo>
                <a:lnTo>
                  <a:pt x="394" y="399"/>
                </a:lnTo>
                <a:lnTo>
                  <a:pt x="394" y="402"/>
                </a:lnTo>
                <a:lnTo>
                  <a:pt x="394" y="404"/>
                </a:lnTo>
                <a:lnTo>
                  <a:pt x="394" y="407"/>
                </a:lnTo>
                <a:lnTo>
                  <a:pt x="394" y="411"/>
                </a:lnTo>
                <a:lnTo>
                  <a:pt x="361" y="411"/>
                </a:lnTo>
                <a:lnTo>
                  <a:pt x="359" y="411"/>
                </a:lnTo>
                <a:lnTo>
                  <a:pt x="359" y="407"/>
                </a:lnTo>
                <a:lnTo>
                  <a:pt x="361" y="407"/>
                </a:lnTo>
                <a:lnTo>
                  <a:pt x="361" y="404"/>
                </a:lnTo>
                <a:lnTo>
                  <a:pt x="359" y="404"/>
                </a:lnTo>
                <a:lnTo>
                  <a:pt x="359" y="402"/>
                </a:lnTo>
                <a:lnTo>
                  <a:pt x="359" y="399"/>
                </a:lnTo>
                <a:lnTo>
                  <a:pt x="361" y="399"/>
                </a:lnTo>
                <a:lnTo>
                  <a:pt x="361" y="395"/>
                </a:lnTo>
                <a:lnTo>
                  <a:pt x="359" y="395"/>
                </a:lnTo>
                <a:lnTo>
                  <a:pt x="359" y="392"/>
                </a:lnTo>
                <a:lnTo>
                  <a:pt x="356" y="392"/>
                </a:lnTo>
                <a:lnTo>
                  <a:pt x="356" y="390"/>
                </a:lnTo>
                <a:lnTo>
                  <a:pt x="359" y="390"/>
                </a:lnTo>
                <a:lnTo>
                  <a:pt x="361" y="381"/>
                </a:lnTo>
                <a:lnTo>
                  <a:pt x="363" y="381"/>
                </a:lnTo>
                <a:lnTo>
                  <a:pt x="366" y="378"/>
                </a:lnTo>
                <a:lnTo>
                  <a:pt x="368" y="378"/>
                </a:lnTo>
                <a:lnTo>
                  <a:pt x="370" y="376"/>
                </a:lnTo>
                <a:lnTo>
                  <a:pt x="385" y="376"/>
                </a:lnTo>
                <a:lnTo>
                  <a:pt x="385" y="378"/>
                </a:lnTo>
                <a:lnTo>
                  <a:pt x="387" y="378"/>
                </a:lnTo>
                <a:lnTo>
                  <a:pt x="389" y="378"/>
                </a:lnTo>
                <a:lnTo>
                  <a:pt x="392" y="381"/>
                </a:lnTo>
                <a:lnTo>
                  <a:pt x="394" y="381"/>
                </a:lnTo>
                <a:lnTo>
                  <a:pt x="394" y="390"/>
                </a:lnTo>
                <a:lnTo>
                  <a:pt x="396" y="390"/>
                </a:lnTo>
                <a:lnTo>
                  <a:pt x="396" y="392"/>
                </a:lnTo>
                <a:close/>
                <a:moveTo>
                  <a:pt x="467" y="392"/>
                </a:moveTo>
                <a:lnTo>
                  <a:pt x="467" y="395"/>
                </a:lnTo>
                <a:lnTo>
                  <a:pt x="465" y="395"/>
                </a:lnTo>
                <a:lnTo>
                  <a:pt x="465" y="399"/>
                </a:lnTo>
                <a:lnTo>
                  <a:pt x="465" y="402"/>
                </a:lnTo>
                <a:lnTo>
                  <a:pt x="467" y="402"/>
                </a:lnTo>
                <a:lnTo>
                  <a:pt x="465" y="402"/>
                </a:lnTo>
                <a:lnTo>
                  <a:pt x="465" y="404"/>
                </a:lnTo>
                <a:lnTo>
                  <a:pt x="465" y="407"/>
                </a:lnTo>
                <a:lnTo>
                  <a:pt x="465" y="411"/>
                </a:lnTo>
                <a:lnTo>
                  <a:pt x="406" y="411"/>
                </a:lnTo>
                <a:lnTo>
                  <a:pt x="406" y="407"/>
                </a:lnTo>
                <a:lnTo>
                  <a:pt x="406" y="404"/>
                </a:lnTo>
                <a:lnTo>
                  <a:pt x="406" y="402"/>
                </a:lnTo>
                <a:lnTo>
                  <a:pt x="406" y="399"/>
                </a:lnTo>
                <a:lnTo>
                  <a:pt x="406" y="395"/>
                </a:lnTo>
                <a:lnTo>
                  <a:pt x="404" y="392"/>
                </a:lnTo>
                <a:lnTo>
                  <a:pt x="404" y="364"/>
                </a:lnTo>
                <a:lnTo>
                  <a:pt x="406" y="364"/>
                </a:lnTo>
                <a:lnTo>
                  <a:pt x="408" y="355"/>
                </a:lnTo>
                <a:lnTo>
                  <a:pt x="411" y="355"/>
                </a:lnTo>
                <a:lnTo>
                  <a:pt x="411" y="352"/>
                </a:lnTo>
                <a:lnTo>
                  <a:pt x="413" y="352"/>
                </a:lnTo>
                <a:lnTo>
                  <a:pt x="415" y="352"/>
                </a:lnTo>
                <a:lnTo>
                  <a:pt x="418" y="350"/>
                </a:lnTo>
                <a:lnTo>
                  <a:pt x="455" y="350"/>
                </a:lnTo>
                <a:lnTo>
                  <a:pt x="455" y="352"/>
                </a:lnTo>
                <a:lnTo>
                  <a:pt x="458" y="352"/>
                </a:lnTo>
                <a:lnTo>
                  <a:pt x="460" y="352"/>
                </a:lnTo>
                <a:lnTo>
                  <a:pt x="463" y="355"/>
                </a:lnTo>
                <a:lnTo>
                  <a:pt x="465" y="355"/>
                </a:lnTo>
                <a:lnTo>
                  <a:pt x="467" y="362"/>
                </a:lnTo>
                <a:lnTo>
                  <a:pt x="467" y="392"/>
                </a:lnTo>
                <a:close/>
                <a:moveTo>
                  <a:pt x="515" y="392"/>
                </a:moveTo>
                <a:lnTo>
                  <a:pt x="512" y="392"/>
                </a:lnTo>
                <a:lnTo>
                  <a:pt x="512" y="395"/>
                </a:lnTo>
                <a:lnTo>
                  <a:pt x="510" y="395"/>
                </a:lnTo>
                <a:lnTo>
                  <a:pt x="510" y="399"/>
                </a:lnTo>
                <a:lnTo>
                  <a:pt x="512" y="399"/>
                </a:lnTo>
                <a:lnTo>
                  <a:pt x="512" y="402"/>
                </a:lnTo>
                <a:lnTo>
                  <a:pt x="512" y="404"/>
                </a:lnTo>
                <a:lnTo>
                  <a:pt x="510" y="404"/>
                </a:lnTo>
                <a:lnTo>
                  <a:pt x="510" y="407"/>
                </a:lnTo>
                <a:lnTo>
                  <a:pt x="512" y="407"/>
                </a:lnTo>
                <a:lnTo>
                  <a:pt x="512" y="411"/>
                </a:lnTo>
                <a:lnTo>
                  <a:pt x="510" y="411"/>
                </a:lnTo>
                <a:lnTo>
                  <a:pt x="479" y="411"/>
                </a:lnTo>
                <a:lnTo>
                  <a:pt x="477" y="411"/>
                </a:lnTo>
                <a:lnTo>
                  <a:pt x="477" y="407"/>
                </a:lnTo>
                <a:lnTo>
                  <a:pt x="479" y="407"/>
                </a:lnTo>
                <a:lnTo>
                  <a:pt x="479" y="404"/>
                </a:lnTo>
                <a:lnTo>
                  <a:pt x="477" y="404"/>
                </a:lnTo>
                <a:lnTo>
                  <a:pt x="477" y="402"/>
                </a:lnTo>
                <a:lnTo>
                  <a:pt x="477" y="399"/>
                </a:lnTo>
                <a:lnTo>
                  <a:pt x="479" y="399"/>
                </a:lnTo>
                <a:lnTo>
                  <a:pt x="479" y="395"/>
                </a:lnTo>
                <a:lnTo>
                  <a:pt x="477" y="395"/>
                </a:lnTo>
                <a:lnTo>
                  <a:pt x="477" y="392"/>
                </a:lnTo>
                <a:lnTo>
                  <a:pt x="474" y="392"/>
                </a:lnTo>
                <a:lnTo>
                  <a:pt x="474" y="390"/>
                </a:lnTo>
                <a:lnTo>
                  <a:pt x="477" y="390"/>
                </a:lnTo>
                <a:lnTo>
                  <a:pt x="479" y="381"/>
                </a:lnTo>
                <a:lnTo>
                  <a:pt x="481" y="381"/>
                </a:lnTo>
                <a:lnTo>
                  <a:pt x="484" y="378"/>
                </a:lnTo>
                <a:lnTo>
                  <a:pt x="486" y="378"/>
                </a:lnTo>
                <a:lnTo>
                  <a:pt x="489" y="376"/>
                </a:lnTo>
                <a:lnTo>
                  <a:pt x="500" y="376"/>
                </a:lnTo>
                <a:lnTo>
                  <a:pt x="503" y="378"/>
                </a:lnTo>
                <a:lnTo>
                  <a:pt x="505" y="378"/>
                </a:lnTo>
                <a:lnTo>
                  <a:pt x="507" y="381"/>
                </a:lnTo>
                <a:lnTo>
                  <a:pt x="510" y="381"/>
                </a:lnTo>
                <a:lnTo>
                  <a:pt x="512" y="390"/>
                </a:lnTo>
                <a:lnTo>
                  <a:pt x="515" y="390"/>
                </a:lnTo>
                <a:lnTo>
                  <a:pt x="515" y="392"/>
                </a:lnTo>
                <a:close/>
                <a:moveTo>
                  <a:pt x="921" y="399"/>
                </a:moveTo>
                <a:lnTo>
                  <a:pt x="921" y="397"/>
                </a:lnTo>
                <a:lnTo>
                  <a:pt x="923" y="395"/>
                </a:lnTo>
                <a:lnTo>
                  <a:pt x="926" y="395"/>
                </a:lnTo>
                <a:lnTo>
                  <a:pt x="928" y="395"/>
                </a:lnTo>
                <a:lnTo>
                  <a:pt x="930" y="397"/>
                </a:lnTo>
                <a:lnTo>
                  <a:pt x="930" y="399"/>
                </a:lnTo>
                <a:lnTo>
                  <a:pt x="930" y="402"/>
                </a:lnTo>
                <a:lnTo>
                  <a:pt x="930" y="409"/>
                </a:lnTo>
                <a:lnTo>
                  <a:pt x="921" y="409"/>
                </a:lnTo>
                <a:lnTo>
                  <a:pt x="921" y="407"/>
                </a:lnTo>
                <a:lnTo>
                  <a:pt x="921" y="402"/>
                </a:lnTo>
                <a:lnTo>
                  <a:pt x="921" y="399"/>
                </a:lnTo>
                <a:close/>
                <a:moveTo>
                  <a:pt x="883" y="397"/>
                </a:moveTo>
                <a:lnTo>
                  <a:pt x="883" y="395"/>
                </a:lnTo>
                <a:lnTo>
                  <a:pt x="885" y="395"/>
                </a:lnTo>
                <a:lnTo>
                  <a:pt x="885" y="392"/>
                </a:lnTo>
                <a:lnTo>
                  <a:pt x="888" y="392"/>
                </a:lnTo>
                <a:lnTo>
                  <a:pt x="890" y="392"/>
                </a:lnTo>
                <a:lnTo>
                  <a:pt x="893" y="392"/>
                </a:lnTo>
                <a:lnTo>
                  <a:pt x="895" y="395"/>
                </a:lnTo>
                <a:lnTo>
                  <a:pt x="897" y="397"/>
                </a:lnTo>
                <a:lnTo>
                  <a:pt x="897" y="399"/>
                </a:lnTo>
                <a:lnTo>
                  <a:pt x="897" y="409"/>
                </a:lnTo>
                <a:lnTo>
                  <a:pt x="883" y="409"/>
                </a:lnTo>
                <a:lnTo>
                  <a:pt x="883" y="407"/>
                </a:lnTo>
                <a:lnTo>
                  <a:pt x="883" y="399"/>
                </a:lnTo>
                <a:lnTo>
                  <a:pt x="883" y="397"/>
                </a:lnTo>
                <a:close/>
                <a:moveTo>
                  <a:pt x="836" y="395"/>
                </a:moveTo>
                <a:lnTo>
                  <a:pt x="836" y="392"/>
                </a:lnTo>
                <a:lnTo>
                  <a:pt x="838" y="390"/>
                </a:lnTo>
                <a:lnTo>
                  <a:pt x="841" y="390"/>
                </a:lnTo>
                <a:lnTo>
                  <a:pt x="843" y="388"/>
                </a:lnTo>
                <a:lnTo>
                  <a:pt x="845" y="388"/>
                </a:lnTo>
                <a:lnTo>
                  <a:pt x="848" y="388"/>
                </a:lnTo>
                <a:lnTo>
                  <a:pt x="850" y="390"/>
                </a:lnTo>
                <a:lnTo>
                  <a:pt x="852" y="392"/>
                </a:lnTo>
                <a:lnTo>
                  <a:pt x="852" y="395"/>
                </a:lnTo>
                <a:lnTo>
                  <a:pt x="852" y="397"/>
                </a:lnTo>
                <a:lnTo>
                  <a:pt x="852" y="409"/>
                </a:lnTo>
                <a:lnTo>
                  <a:pt x="836" y="409"/>
                </a:lnTo>
                <a:lnTo>
                  <a:pt x="836" y="397"/>
                </a:lnTo>
                <a:lnTo>
                  <a:pt x="836" y="395"/>
                </a:lnTo>
                <a:close/>
                <a:moveTo>
                  <a:pt x="793" y="397"/>
                </a:moveTo>
                <a:lnTo>
                  <a:pt x="793" y="395"/>
                </a:lnTo>
                <a:lnTo>
                  <a:pt x="796" y="395"/>
                </a:lnTo>
                <a:lnTo>
                  <a:pt x="796" y="392"/>
                </a:lnTo>
                <a:lnTo>
                  <a:pt x="798" y="392"/>
                </a:lnTo>
                <a:lnTo>
                  <a:pt x="800" y="392"/>
                </a:lnTo>
                <a:lnTo>
                  <a:pt x="803" y="392"/>
                </a:lnTo>
                <a:lnTo>
                  <a:pt x="805" y="395"/>
                </a:lnTo>
                <a:lnTo>
                  <a:pt x="805" y="397"/>
                </a:lnTo>
                <a:lnTo>
                  <a:pt x="807" y="399"/>
                </a:lnTo>
                <a:lnTo>
                  <a:pt x="805" y="407"/>
                </a:lnTo>
                <a:lnTo>
                  <a:pt x="805" y="409"/>
                </a:lnTo>
                <a:lnTo>
                  <a:pt x="793" y="409"/>
                </a:lnTo>
                <a:lnTo>
                  <a:pt x="793" y="399"/>
                </a:lnTo>
                <a:lnTo>
                  <a:pt x="793" y="397"/>
                </a:lnTo>
                <a:close/>
                <a:moveTo>
                  <a:pt x="760" y="399"/>
                </a:moveTo>
                <a:lnTo>
                  <a:pt x="760" y="397"/>
                </a:lnTo>
                <a:lnTo>
                  <a:pt x="763" y="397"/>
                </a:lnTo>
                <a:lnTo>
                  <a:pt x="763" y="395"/>
                </a:lnTo>
                <a:lnTo>
                  <a:pt x="765" y="395"/>
                </a:lnTo>
                <a:lnTo>
                  <a:pt x="767" y="395"/>
                </a:lnTo>
                <a:lnTo>
                  <a:pt x="767" y="397"/>
                </a:lnTo>
                <a:lnTo>
                  <a:pt x="770" y="399"/>
                </a:lnTo>
                <a:lnTo>
                  <a:pt x="770" y="402"/>
                </a:lnTo>
                <a:lnTo>
                  <a:pt x="770" y="407"/>
                </a:lnTo>
                <a:lnTo>
                  <a:pt x="770" y="409"/>
                </a:lnTo>
                <a:lnTo>
                  <a:pt x="758" y="409"/>
                </a:lnTo>
                <a:lnTo>
                  <a:pt x="758" y="402"/>
                </a:lnTo>
                <a:lnTo>
                  <a:pt x="760" y="399"/>
                </a:lnTo>
                <a:close/>
                <a:moveTo>
                  <a:pt x="1757" y="359"/>
                </a:moveTo>
                <a:lnTo>
                  <a:pt x="1712" y="359"/>
                </a:lnTo>
                <a:lnTo>
                  <a:pt x="1719" y="293"/>
                </a:lnTo>
                <a:lnTo>
                  <a:pt x="1724" y="241"/>
                </a:lnTo>
                <a:lnTo>
                  <a:pt x="1750" y="241"/>
                </a:lnTo>
                <a:lnTo>
                  <a:pt x="1762" y="355"/>
                </a:lnTo>
                <a:lnTo>
                  <a:pt x="1757" y="359"/>
                </a:lnTo>
                <a:close/>
                <a:moveTo>
                  <a:pt x="2133" y="411"/>
                </a:moveTo>
                <a:lnTo>
                  <a:pt x="2133" y="411"/>
                </a:lnTo>
                <a:close/>
                <a:moveTo>
                  <a:pt x="2137" y="411"/>
                </a:moveTo>
                <a:lnTo>
                  <a:pt x="2137" y="411"/>
                </a:lnTo>
                <a:close/>
                <a:moveTo>
                  <a:pt x="2142" y="411"/>
                </a:moveTo>
                <a:lnTo>
                  <a:pt x="2142" y="411"/>
                </a:lnTo>
                <a:lnTo>
                  <a:pt x="2145" y="411"/>
                </a:lnTo>
                <a:lnTo>
                  <a:pt x="2142" y="411"/>
                </a:lnTo>
                <a:close/>
                <a:moveTo>
                  <a:pt x="2147" y="376"/>
                </a:moveTo>
                <a:lnTo>
                  <a:pt x="2145" y="371"/>
                </a:lnTo>
                <a:lnTo>
                  <a:pt x="2145" y="369"/>
                </a:lnTo>
                <a:lnTo>
                  <a:pt x="2145" y="371"/>
                </a:lnTo>
                <a:lnTo>
                  <a:pt x="2147" y="373"/>
                </a:lnTo>
                <a:lnTo>
                  <a:pt x="2147" y="378"/>
                </a:lnTo>
                <a:lnTo>
                  <a:pt x="2147" y="376"/>
                </a:lnTo>
                <a:close/>
                <a:moveTo>
                  <a:pt x="2154" y="411"/>
                </a:moveTo>
                <a:lnTo>
                  <a:pt x="2145" y="411"/>
                </a:lnTo>
                <a:lnTo>
                  <a:pt x="2154" y="409"/>
                </a:lnTo>
                <a:lnTo>
                  <a:pt x="2154" y="411"/>
                </a:lnTo>
                <a:close/>
                <a:moveTo>
                  <a:pt x="2154" y="409"/>
                </a:moveTo>
                <a:lnTo>
                  <a:pt x="2154" y="409"/>
                </a:lnTo>
                <a:lnTo>
                  <a:pt x="2149" y="390"/>
                </a:lnTo>
                <a:lnTo>
                  <a:pt x="2149" y="388"/>
                </a:lnTo>
                <a:lnTo>
                  <a:pt x="2147" y="381"/>
                </a:lnTo>
                <a:lnTo>
                  <a:pt x="2147" y="378"/>
                </a:lnTo>
                <a:lnTo>
                  <a:pt x="2154" y="407"/>
                </a:lnTo>
                <a:lnTo>
                  <a:pt x="2147" y="378"/>
                </a:lnTo>
                <a:lnTo>
                  <a:pt x="2154" y="407"/>
                </a:lnTo>
                <a:lnTo>
                  <a:pt x="2152" y="402"/>
                </a:lnTo>
                <a:lnTo>
                  <a:pt x="2152" y="404"/>
                </a:lnTo>
                <a:lnTo>
                  <a:pt x="2154" y="40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3" descr="C:\Documents and Settings\Administrator\桌面\1.png"/>
          <p:cNvPicPr/>
          <p:nvPr/>
        </p:nvPicPr>
        <p:blipFill>
          <a:blip r:embed="rId3"/>
          <a:stretch/>
        </p:blipFill>
        <p:spPr>
          <a:xfrm>
            <a:off x="539640" y="-165240"/>
            <a:ext cx="8035920" cy="463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4"/>
          <a:stretch/>
        </p:blipFill>
        <p:spPr>
          <a:xfrm rot="1271400">
            <a:off x="5347800" y="744480"/>
            <a:ext cx="693720" cy="711360"/>
          </a:xfrm>
          <a:prstGeom prst="rect">
            <a:avLst/>
          </a:prstGeom>
          <a:ln w="0">
            <a:noFill/>
          </a:ln>
        </p:spPr>
      </p:pic>
      <p:sp>
        <p:nvSpPr>
          <p:cNvPr id="230" name="矩形 68"/>
          <p:cNvSpPr/>
          <p:nvPr/>
        </p:nvSpPr>
        <p:spPr>
          <a:xfrm>
            <a:off x="1854360" y="1527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上海锐普广告有限公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"/>
          <p:cNvSpPr/>
          <p:nvPr/>
        </p:nvSpPr>
        <p:spPr>
          <a:xfrm rot="9900000">
            <a:off x="3933360" y="1676160"/>
            <a:ext cx="2246400" cy="1272960"/>
          </a:xfrm>
          <a:prstGeom prst="cloudCallout">
            <a:avLst>
              <a:gd name="adj1" fmla="val -13652"/>
              <a:gd name="adj2" fmla="val -24171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0"/>
          <p:cNvSpPr/>
          <p:nvPr/>
        </p:nvSpPr>
        <p:spPr>
          <a:xfrm rot="19700400">
            <a:off x="4479120" y="20210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硬笔楷书简体"/>
                <a:ea typeface="方正硬笔楷书简体"/>
              </a:rPr>
              <a:t>您辛苦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C:\Documents and Settings\Administrator\桌面\4047a418e55bf46434fa4152.png"/>
          <p:cNvPicPr/>
          <p:nvPr/>
        </p:nvPicPr>
        <p:blipFill>
          <a:blip r:embed="rId5"/>
          <a:stretch/>
        </p:blipFill>
        <p:spPr>
          <a:xfrm rot="547200">
            <a:off x="6079680" y="896400"/>
            <a:ext cx="2898720" cy="5088240"/>
          </a:xfrm>
          <a:prstGeom prst="rect">
            <a:avLst/>
          </a:prstGeom>
          <a:ln w="0">
            <a:noFill/>
          </a:ln>
        </p:spPr>
      </p:pic>
      <p:sp>
        <p:nvSpPr>
          <p:cNvPr id="234" name="矩形 1"/>
          <p:cNvSpPr/>
          <p:nvPr/>
        </p:nvSpPr>
        <p:spPr>
          <a:xfrm>
            <a:off x="1332000" y="1962000"/>
            <a:ext cx="3087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月流逝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已长大可您的两鬓却已斑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只能对您说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之以桃，报之以李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，教师节快乐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125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Rot by="120000">
                                      <p:cBhvr>
                                        <p:cTn id="8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0"/>
          <p:cNvSpPr/>
          <p:nvPr/>
        </p:nvSpPr>
        <p:spPr>
          <a:xfrm>
            <a:off x="1042920" y="1347840"/>
            <a:ext cx="7201080" cy="302400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11" descr=""/>
          <p:cNvPicPr/>
          <p:nvPr/>
        </p:nvPicPr>
        <p:blipFill>
          <a:blip r:embed="rId1"/>
          <a:stretch/>
        </p:blipFill>
        <p:spPr>
          <a:xfrm>
            <a:off x="7881840" y="1146240"/>
            <a:ext cx="790560" cy="676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14"/>
          <p:cNvSpPr/>
          <p:nvPr/>
        </p:nvSpPr>
        <p:spPr>
          <a:xfrm>
            <a:off x="6155280" y="1503360"/>
            <a:ext cx="820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您的教诲催我风雨兼程，我的祝福伴您昼夜心耕。一路上有您的教导，我才没有迷失方向；一路上有您的关注，我才能顺利实现理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5"/>
          <p:cNvSpPr/>
          <p:nvPr/>
        </p:nvSpPr>
        <p:spPr>
          <a:xfrm>
            <a:off x="6985800" y="10972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亲爱的老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7"/>
          <p:cNvSpPr/>
          <p:nvPr/>
        </p:nvSpPr>
        <p:spPr>
          <a:xfrm>
            <a:off x="2812680" y="32220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敬爱的老师，节日快乐</a:t>
            </a:r>
            <a:r>
              <a:rPr b="0" lang="en-US" sz="40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3" descr="C:\Documents and Settings\Administrator\桌面\1.png"/>
          <p:cNvPicPr/>
          <p:nvPr/>
        </p:nvPicPr>
        <p:blipFill>
          <a:blip r:embed="rId2"/>
          <a:srcRect l="3563" t="9019" r="1385" b="404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23:08:02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Administrator</cp:lastModifiedBy>
  <dcterms:modified xsi:type="dcterms:W3CDTF">2016-03-25T23:08:14Z</dcterms:modified>
  <cp:revision>29</cp:revision>
  <dc:subject/>
  <dc:title>新潮祝福-锐普2011年教师节免费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