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618D-C3CF-4916-8DBA-07E1D829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347-EC8B-43CE-945A-1997FFD0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E6A-972F-43C6-A6B0-36C59880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B53C-81BB-46CF-BB0F-5D15B559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0E1-27E7-4DBF-9777-4EA3975D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526-7CEE-459F-8ED1-0DC1E5D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9DF-2C0B-44EA-8100-1EE59701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022-B695-4C96-9EDA-6453A9A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05F-3295-4D53-AAAE-A741F174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6D7-B3FB-4D7B-B26D-8B51D136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DC9-2CEF-4728-991F-7F180D20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DA3-9842-445B-B7A8-170BD801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F529-D18D-4A27-AF8D-1B04C0CA78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9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42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" name="TextBox 27"/>
          <p:cNvSpPr/>
          <p:nvPr/>
        </p:nvSpPr>
        <p:spPr>
          <a:xfrm rot="746400">
            <a:off x="8569440" y="2311560"/>
            <a:ext cx="2971800" cy="19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家</a:t>
            </a:r>
            <a:endParaRPr b="0" lang="en-US" sz="1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lenovo\Desktop\大妞1.png"/>
          <p:cNvPicPr/>
          <p:nvPr/>
        </p:nvPicPr>
        <p:blipFill>
          <a:blip r:embed="rId2"/>
          <a:srcRect l="0" t="0" r="29722" b="0"/>
          <a:stretch/>
        </p:blipFill>
        <p:spPr>
          <a:xfrm>
            <a:off x="-63360" y="0"/>
            <a:ext cx="6627600" cy="631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05160" y="2417400"/>
            <a:ext cx="37335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400" spc="-1" strike="noStrike">
                <a:solidFill>
                  <a:srgbClr val="140a00"/>
                </a:solidFill>
                <a:latin typeface="方正艺黑简体"/>
                <a:ea typeface="方正艺黑简体"/>
              </a:rPr>
              <a:t>梦</a:t>
            </a:r>
            <a:r>
              <a:rPr b="0" lang="ja-JP" sz="12400" spc="-1" strike="noStrike">
                <a:solidFill>
                  <a:srgbClr val="960000"/>
                </a:solidFill>
                <a:latin typeface="方正艺黑简体"/>
                <a:ea typeface="方正艺黑简体"/>
              </a:rPr>
              <a:t>の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9"/>
          <p:cNvGrpSpPr/>
          <p:nvPr/>
        </p:nvGrpSpPr>
        <p:grpSpPr>
          <a:xfrm>
            <a:off x="4660200" y="-140040"/>
            <a:ext cx="8839800" cy="3179160"/>
            <a:chOff x="4660200" y="-140040"/>
            <a:chExt cx="8839800" cy="3179160"/>
          </a:xfrm>
        </p:grpSpPr>
        <p:pic>
          <p:nvPicPr>
            <p:cNvPr id="53" name="Picture 6" descr="C:\Users\lenovo\Desktop\M2.gif"/>
            <p:cNvPicPr/>
            <p:nvPr/>
          </p:nvPicPr>
          <p:blipFill>
            <a:blip r:embed="rId3"/>
            <a:srcRect l="0" t="0" r="38096" b="0"/>
            <a:stretch/>
          </p:blipFill>
          <p:spPr>
            <a:xfrm rot="537000">
              <a:off x="4846680" y="114120"/>
              <a:ext cx="3480120" cy="26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4"/>
            <p:cNvSpPr/>
            <p:nvPr/>
          </p:nvSpPr>
          <p:spPr>
            <a:xfrm>
              <a:off x="6782040" y="1319760"/>
              <a:ext cx="67179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960000"/>
                  </a:solidFill>
                  <a:latin typeface="Kozuka Mincho Pro B"/>
                  <a:ea typeface="Kozuka Mincho Pro B"/>
                </a:rPr>
                <a:t>mèng</a:t>
              </a:r>
              <a:endParaRPr b="0" lang="en-US" sz="37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" name="Picture 4" descr="G:\DURING\坐着大妞.png"/>
          <p:cNvPicPr/>
          <p:nvPr/>
        </p:nvPicPr>
        <p:blipFill>
          <a:blip r:embed="rId4"/>
          <a:stretch/>
        </p:blipFill>
        <p:spPr>
          <a:xfrm>
            <a:off x="3165480" y="541440"/>
            <a:ext cx="186372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Users\lenovo\Desktop\M1.gif"/>
          <p:cNvPicPr/>
          <p:nvPr/>
        </p:nvPicPr>
        <p:blipFill>
          <a:blip r:embed="rId5"/>
          <a:srcRect l="36587" t="0" r="34144" b="0"/>
          <a:stretch/>
        </p:blipFill>
        <p:spPr>
          <a:xfrm>
            <a:off x="10058400" y="1263600"/>
            <a:ext cx="182880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C:\Users\lenovo\Desktop\牧羊.png"/>
          <p:cNvPicPr/>
          <p:nvPr/>
        </p:nvPicPr>
        <p:blipFill>
          <a:blip r:embed="rId6"/>
          <a:stretch/>
        </p:blipFill>
        <p:spPr>
          <a:xfrm>
            <a:off x="8839080" y="4873680"/>
            <a:ext cx="1716120" cy="1528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C:\Users\lenovo\Desktop\推.gif"/>
          <p:cNvPicPr/>
          <p:nvPr/>
        </p:nvPicPr>
        <p:blipFill>
          <a:blip r:embed="rId7"/>
          <a:stretch/>
        </p:blipFill>
        <p:spPr>
          <a:xfrm>
            <a:off x="9067680" y="3139920"/>
            <a:ext cx="176400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825640"/>
            <a:ext cx="4419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目录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257800" y="184140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G:\DURING\坐着大妞.png"/>
          <p:cNvPicPr/>
          <p:nvPr/>
        </p:nvPicPr>
        <p:blipFill>
          <a:blip r:embed="rId2"/>
          <a:stretch/>
        </p:blipFill>
        <p:spPr>
          <a:xfrm>
            <a:off x="762120" y="442800"/>
            <a:ext cx="1981080" cy="352908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6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TextBox 25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直接连接符 18"/>
          <p:cNvSpPr/>
          <p:nvPr/>
        </p:nvSpPr>
        <p:spPr>
          <a:xfrm>
            <a:off x="5029200" y="1335240"/>
            <a:ext cx="0" cy="3681360"/>
          </a:xfrm>
          <a:prstGeom prst="line">
            <a:avLst/>
          </a:prstGeom>
          <a:ln w="28440">
            <a:solidFill>
              <a:srgbClr val="2a15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5257800" y="2562120"/>
            <a:ext cx="640080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我们的故事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踏上征途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努力拼搏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a1500"/>
                </a:solidFill>
                <a:latin typeface="Calibri"/>
              </a:rPr>
              <a:t>再别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………………………………………………………………………………</a:t>
            </a:r>
            <a:r>
              <a:rPr b="0" lang="en-US" sz="1800" spc="-1" strike="noStrike">
                <a:solidFill>
                  <a:srgbClr val="2a15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57240" y="249048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壹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6"/>
          <p:cNvGrpSpPr/>
          <p:nvPr/>
        </p:nvGrpSpPr>
        <p:grpSpPr>
          <a:xfrm>
            <a:off x="7113600" y="1984320"/>
            <a:ext cx="2639880" cy="2600280"/>
            <a:chOff x="7113600" y="1984320"/>
            <a:chExt cx="2639880" cy="2600280"/>
          </a:xfrm>
        </p:grpSpPr>
        <p:sp>
          <p:nvSpPr>
            <p:cNvPr id="74" name="直接连接符 17"/>
            <p:cNvSpPr/>
            <p:nvPr/>
          </p:nvSpPr>
          <p:spPr>
            <a:xfrm>
              <a:off x="731520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5" descr="C:\Users\lenovo\Desktop\M1.gif"/>
            <p:cNvPicPr/>
            <p:nvPr/>
          </p:nvPicPr>
          <p:blipFill>
            <a:blip r:embed="rId2"/>
            <a:srcRect l="36585" t="27784" r="30253" b="11108"/>
            <a:stretch/>
          </p:blipFill>
          <p:spPr>
            <a:xfrm>
              <a:off x="7113600" y="2273040"/>
              <a:ext cx="2639880" cy="231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组合 21"/>
          <p:cNvGrpSpPr/>
          <p:nvPr/>
        </p:nvGrpSpPr>
        <p:grpSpPr>
          <a:xfrm>
            <a:off x="2514600" y="1984320"/>
            <a:ext cx="2743200" cy="2600280"/>
            <a:chOff x="2514600" y="1984320"/>
            <a:chExt cx="2743200" cy="2600280"/>
          </a:xfrm>
        </p:grpSpPr>
        <p:sp>
          <p:nvSpPr>
            <p:cNvPr id="77" name="直接连接符 18"/>
            <p:cNvSpPr/>
            <p:nvPr/>
          </p:nvSpPr>
          <p:spPr>
            <a:xfrm>
              <a:off x="4724640" y="1984320"/>
              <a:ext cx="0" cy="260028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8" name="Picture 6" descr="C:\Users\lenovo\Desktop\M2.gif"/>
            <p:cNvPicPr/>
            <p:nvPr/>
          </p:nvPicPr>
          <p:blipFill>
            <a:blip r:embed="rId3"/>
            <a:srcRect l="6399" t="19655" r="58133" b="15481"/>
            <a:stretch/>
          </p:blipFill>
          <p:spPr>
            <a:xfrm>
              <a:off x="2514600" y="1984320"/>
              <a:ext cx="2743200" cy="23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TextBox 27"/>
          <p:cNvSpPr/>
          <p:nvPr/>
        </p:nvSpPr>
        <p:spPr>
          <a:xfrm>
            <a:off x="5181480" y="4511520"/>
            <a:ext cx="182880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2a1500"/>
                </a:solidFill>
                <a:latin typeface="Calibri"/>
              </a:rPr>
              <a:t>你好！梦想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组合 16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81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TextBox 32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6400800" y="-1697040"/>
            <a:ext cx="1676520" cy="597960"/>
          </a:xfrm>
          <a:prstGeom prst="rect">
            <a:avLst/>
          </a:prstGeom>
          <a:solidFill>
            <a:srgbClr val="9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梦</a:t>
            </a:r>
            <a:r>
              <a:rPr b="0" lang="ja-JP" sz="33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の</a:t>
            </a:r>
            <a:r>
              <a:rPr b="0" lang="zh-CN" sz="3300" spc="-1" strike="noStrike">
                <a:solidFill>
                  <a:srgbClr val="ffffff"/>
                </a:solidFill>
                <a:latin typeface="方正艺黑简体"/>
                <a:ea typeface="方正艺黑简体"/>
              </a:rPr>
              <a:t>家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31"/>
          <p:cNvGrpSpPr/>
          <p:nvPr/>
        </p:nvGrpSpPr>
        <p:grpSpPr>
          <a:xfrm>
            <a:off x="1143000" y="2057400"/>
            <a:ext cx="10071000" cy="3873600"/>
            <a:chOff x="1143000" y="2057400"/>
            <a:chExt cx="10071000" cy="3873600"/>
          </a:xfrm>
        </p:grpSpPr>
        <p:sp>
          <p:nvSpPr>
            <p:cNvPr id="90" name="TextBox 29"/>
            <p:cNvSpPr/>
            <p:nvPr/>
          </p:nvSpPr>
          <p:spPr>
            <a:xfrm>
              <a:off x="1143000" y="2057400"/>
              <a:ext cx="10058040" cy="1739880"/>
            </a:xfrm>
            <a:prstGeom prst="rect">
              <a:avLst/>
            </a:prstGeom>
            <a:noFill/>
            <a:ln w="936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a1500"/>
                  </a:solidFill>
                  <a:latin typeface="Calibri"/>
                </a:rPr>
                <a:t>         </a:t>
              </a:r>
              <a:r>
                <a:rPr b="0" lang="zh-CN" sz="1500" spc="-1" strike="noStrike">
                  <a:solidFill>
                    <a:srgbClr val="2a1500"/>
                  </a:solidFill>
                  <a:latin typeface="Calibri"/>
                </a:rPr>
                <a:t>清晨第一束阳光洒在美丽的地球上，虽然还不够明亮但我能感受到它的能量。坚定自己的信仰，只为共同的梦想！起到有双翅膀 能助我们飞翔。无论多大风多大的浪，前进的方向永远不会迷茫；狂风暴雨再怎么顽强都无法阻挡我们的梦想！有过狼狈的模样，讨厌那种看不起的眼光。昂起头挺胸向前，这是我们的梦想。穿上华丽的衣装，璀璨的灯光站在舞台中央，释放出那撼动身心的力量。看似丑陋的仙人掌，花开却散发着芬香。虽然仅一天可赏，但却难把它的香味遗忘。坚定自己的信仰，只为共同的梦想</a:t>
              </a:r>
              <a:r>
                <a:rPr b="0" lang="zh-CN" sz="1800" spc="-1" strike="noStrike">
                  <a:solidFill>
                    <a:srgbClr val="2a1500"/>
                  </a:solidFill>
                  <a:latin typeface="Calibri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143000" y="2156040"/>
              <a:ext cx="761760" cy="10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600" spc="-1" strike="noStrike" baseline="-25000">
                  <a:solidFill>
                    <a:srgbClr val="2a1500"/>
                  </a:solidFill>
                  <a:latin typeface="Calibri"/>
                </a:rPr>
                <a:t>当</a:t>
              </a:r>
              <a:endParaRPr b="0" lang="en-US" sz="5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2" name="Picture 4" descr="G:\DURING\坐着大妞.png"/>
            <p:cNvPicPr/>
            <p:nvPr/>
          </p:nvPicPr>
          <p:blipFill>
            <a:blip r:embed="rId2"/>
            <a:stretch/>
          </p:blipFill>
          <p:spPr>
            <a:xfrm>
              <a:off x="10147320" y="4030920"/>
              <a:ext cx="1066680" cy="1900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组合 30"/>
          <p:cNvGrpSpPr/>
          <p:nvPr/>
        </p:nvGrpSpPr>
        <p:grpSpPr>
          <a:xfrm>
            <a:off x="-609840" y="-476280"/>
            <a:ext cx="10147680" cy="2967120"/>
            <a:chOff x="-609840" y="-476280"/>
            <a:chExt cx="10147680" cy="2967120"/>
          </a:xfrm>
        </p:grpSpPr>
        <p:pic>
          <p:nvPicPr>
            <p:cNvPr id="94" name="Picture 5" descr="C:\Users\lenovo\Desktop\M1.gif"/>
            <p:cNvPicPr/>
            <p:nvPr/>
          </p:nvPicPr>
          <p:blipFill>
            <a:blip r:embed="rId3"/>
            <a:stretch/>
          </p:blipFill>
          <p:spPr>
            <a:xfrm flipH="1">
              <a:off x="-609840" y="-476280"/>
              <a:ext cx="5410440" cy="296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直接连接符 19"/>
            <p:cNvSpPr/>
            <p:nvPr/>
          </p:nvSpPr>
          <p:spPr>
            <a:xfrm>
              <a:off x="2743200" y="560160"/>
              <a:ext cx="0" cy="1443240"/>
            </a:xfrm>
            <a:prstGeom prst="line">
              <a:avLst/>
            </a:prstGeom>
            <a:ln w="28440">
              <a:solidFill>
                <a:srgbClr val="96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6" name="组合 28"/>
            <p:cNvGrpSpPr/>
            <p:nvPr/>
          </p:nvGrpSpPr>
          <p:grpSpPr>
            <a:xfrm>
              <a:off x="2743200" y="1065240"/>
              <a:ext cx="6794640" cy="1014120"/>
              <a:chOff x="2743200" y="1065240"/>
              <a:chExt cx="6794640" cy="1014120"/>
            </a:xfrm>
          </p:grpSpPr>
          <p:sp>
            <p:nvSpPr>
              <p:cNvPr id="97" name="TextBox 26"/>
              <p:cNvSpPr/>
              <p:nvPr/>
            </p:nvSpPr>
            <p:spPr>
              <a:xfrm>
                <a:off x="2743200" y="1065240"/>
                <a:ext cx="3505320" cy="101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我们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ts val="3623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       </a:t>
                </a:r>
                <a:r>
                  <a:rPr b="0" lang="ja-JP" sz="3700" spc="-1" strike="noStrike">
                    <a:solidFill>
                      <a:srgbClr val="2a1500"/>
                    </a:solidFill>
                    <a:latin typeface="方正艺黑简体"/>
                    <a:ea typeface="方正艺黑简体"/>
                  </a:rPr>
                  <a:t>の</a:t>
                </a:r>
                <a:r>
                  <a:rPr b="0" lang="zh-CN" sz="3700" spc="-1" strike="noStrike">
                    <a:solidFill>
                      <a:srgbClr val="960000"/>
                    </a:solidFill>
                    <a:latin typeface="方正艺黑简体"/>
                    <a:ea typeface="方正艺黑简体"/>
                  </a:rPr>
                  <a:t>梦想</a:t>
                </a:r>
                <a:endParaRPr b="0" lang="en-US" sz="3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TextBox 27"/>
              <p:cNvSpPr/>
              <p:nvPr/>
            </p:nvSpPr>
            <p:spPr>
              <a:xfrm>
                <a:off x="2819160" y="1423080"/>
                <a:ext cx="67186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960000"/>
                    </a:solidFill>
                    <a:latin typeface="Kozuka Mincho Pro B"/>
                    <a:ea typeface="Kozuka Mincho Pro B"/>
                  </a:rPr>
                  <a:t>mèng</a:t>
                </a:r>
                <a:endParaRPr b="0" lang="en-US" sz="29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9" name="组合 20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00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4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95320" y="2850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2a1500"/>
                </a:solidFill>
                <a:latin typeface="方正艺黑简体"/>
                <a:ea typeface="方正艺黑简体"/>
              </a:rPr>
              <a:t>谢谢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9"/>
          <p:cNvGrpSpPr/>
          <p:nvPr/>
        </p:nvGrpSpPr>
        <p:grpSpPr>
          <a:xfrm>
            <a:off x="609480" y="1335240"/>
            <a:ext cx="3810240" cy="3754440"/>
            <a:chOff x="609480" y="1335240"/>
            <a:chExt cx="3810240" cy="3754440"/>
          </a:xfrm>
        </p:grpSpPr>
        <p:pic>
          <p:nvPicPr>
            <p:cNvPr id="109" name="Picture 6" descr="C:\Users\lenovo\Desktop\M2.gif"/>
            <p:cNvPicPr/>
            <p:nvPr/>
          </p:nvPicPr>
          <p:blipFill>
            <a:blip r:embed="rId2"/>
            <a:srcRect l="4646" t="21858" r="62824" b="9275"/>
            <a:stretch/>
          </p:blipFill>
          <p:spPr>
            <a:xfrm>
              <a:off x="609480" y="1335240"/>
              <a:ext cx="3734280" cy="37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直接连接符 18"/>
            <p:cNvSpPr/>
            <p:nvPr/>
          </p:nvSpPr>
          <p:spPr>
            <a:xfrm>
              <a:off x="4419720" y="1623960"/>
              <a:ext cx="0" cy="3249720"/>
            </a:xfrm>
            <a:prstGeom prst="line">
              <a:avLst/>
            </a:prstGeom>
            <a:ln w="28440">
              <a:solidFill>
                <a:srgbClr val="2a15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" name="TextBox 16"/>
          <p:cNvSpPr/>
          <p:nvPr/>
        </p:nvSpPr>
        <p:spPr>
          <a:xfrm>
            <a:off x="5016600" y="2228760"/>
            <a:ext cx="6718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960000"/>
                </a:solidFill>
                <a:latin typeface="Kozuka Mincho Pro B"/>
                <a:ea typeface="Kozuka Mincho Pro B"/>
              </a:rPr>
              <a:t>Thanks 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" name="组合 15"/>
          <p:cNvGrpSpPr/>
          <p:nvPr/>
        </p:nvGrpSpPr>
        <p:grpSpPr>
          <a:xfrm>
            <a:off x="0" y="6172200"/>
            <a:ext cx="12801600" cy="592560"/>
            <a:chOff x="0" y="6172200"/>
            <a:chExt cx="12801600" cy="592560"/>
          </a:xfrm>
        </p:grpSpPr>
        <p:sp>
          <p:nvSpPr>
            <p:cNvPr id="113" name="直接连接符 5"/>
            <p:cNvSpPr/>
            <p:nvPr/>
          </p:nvSpPr>
          <p:spPr>
            <a:xfrm>
              <a:off x="0" y="6172200"/>
              <a:ext cx="12192480" cy="216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接连接符 9"/>
            <p:cNvSpPr/>
            <p:nvPr/>
          </p:nvSpPr>
          <p:spPr>
            <a:xfrm flipV="1">
              <a:off x="0" y="6318360"/>
              <a:ext cx="12192480" cy="6120"/>
            </a:xfrm>
            <a:prstGeom prst="line">
              <a:avLst/>
            </a:prstGeom>
            <a:ln w="22320">
              <a:solidFill>
                <a:srgbClr val="4221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等腰三角形 11"/>
            <p:cNvSpPr/>
            <p:nvPr/>
          </p:nvSpPr>
          <p:spPr>
            <a:xfrm rot="10800000">
              <a:off x="76140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等腰三角形 11"/>
            <p:cNvSpPr/>
            <p:nvPr/>
          </p:nvSpPr>
          <p:spPr>
            <a:xfrm rot="10800000">
              <a:off x="380952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等腰三角形 11"/>
            <p:cNvSpPr/>
            <p:nvPr/>
          </p:nvSpPr>
          <p:spPr>
            <a:xfrm rot="10800000">
              <a:off x="708624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等腰三角形 11"/>
            <p:cNvSpPr/>
            <p:nvPr/>
          </p:nvSpPr>
          <p:spPr>
            <a:xfrm rot="10800000">
              <a:off x="9677160" y="6316560"/>
              <a:ext cx="228600" cy="154080"/>
            </a:xfrm>
            <a:prstGeom prst="triangle">
              <a:avLst>
                <a:gd name="adj" fmla="val 50000"/>
              </a:avLst>
            </a:prstGeom>
            <a:solidFill>
              <a:srgbClr val="422100"/>
            </a:solidFill>
            <a:ln w="25560">
              <a:solidFill>
                <a:srgbClr val="422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8"/>
            <p:cNvSpPr/>
            <p:nvPr/>
          </p:nvSpPr>
          <p:spPr>
            <a:xfrm>
              <a:off x="838080" y="6441120"/>
              <a:ext cx="119635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040" rIns="95040" tIns="47520" bIns="475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422100"/>
                  </a:solidFill>
                  <a:latin typeface="Calibri"/>
                </a:rPr>
                <a:t>Hi!My Sweet Dream                                    Just Fulfill your Dream                                       Work Harder                                       Goodbye 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www.pptbz.com</dc:creator>
  <dc:description/>
  <dc:language>en-US</dc:language>
  <cp:lastModifiedBy>Administrator</cp:lastModifiedBy>
  <dcterms:modified xsi:type="dcterms:W3CDTF">2016-01-07T07:39:4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