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E40-9111-4E53-9CA5-C3F4DD47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037-F7B0-4B3B-94B3-A507DC08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A15E1-CFD7-47BA-910E-88931CB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A982-B040-4DE6-BB4D-ACADF98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F4C7-54EC-4E1A-B81E-B1BB43DF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65F8C-4ED9-4D3B-BBB2-32B0435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55A5D-5EBE-4E55-9C46-419289C9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B3A2-BB7C-4268-AA48-CEF18218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FAF4F-D28C-40F7-A92F-5FF6362B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E131C-97F1-4D1F-967C-5F4ACFDE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387A-F332-49E3-A46E-612F55FF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8A23E-AD74-4808-9C67-8BD34ED2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FC5-5636-470E-80C0-03ADF824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FED4-7BA3-40FC-8D59-0448CEED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BBC9-CC0B-4421-994E-946ECBB5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560B-7F14-4A20-9668-8E876230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F8C7B-7EE9-4ADA-8A70-7F98D62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A6116-28A4-437E-963B-CF398B77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0C51-F01B-432D-8A02-31550D1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6D8EB-76C7-4B78-AAAC-03CAC53C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3D2DD-F159-4E5F-8E60-13B6758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2E05-CC82-455E-B896-4BD996B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BA4AC-D5C2-4019-8B7C-112B6DBC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030-89AE-41EE-A184-2555FDE0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9DCD0-A035-4AED-BA00-0EBAD4F9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4CA9-2183-400D-9A36-7BAE2716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BCFAF-5737-44AD-BEFC-B08C50A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BC6E-D2FE-42F3-ACFD-B59C8129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063B-E8CA-4877-B72D-D40F3E7E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3742F-1067-4C59-85AE-DCCB1F9D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7D76-79AB-4662-990A-BEB81F6D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A616C-8F57-45C6-91D8-69DEA06E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2113C-CCFC-4B6E-B5F9-1C1153BF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C303-A890-485F-AD5C-FFD783FC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9E751-68D6-46C9-8C65-4B4D566B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C382-6B32-4C8C-8DA9-906C9A65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E222-1AAF-490B-80BF-AF601093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06B63-9A8B-4522-979B-2C2340A8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9B125-30C5-4E80-B0D8-BFA414AA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689A9-B33E-4C44-A731-7E449EA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4158C-0210-4546-A5A1-E8080A3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8F5D4-3F39-4996-B023-F544AF85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34FED-7F9E-439B-B30C-3D1F1059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506CA-3FB6-4402-8AC1-3B66C1C4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8705C-E487-4AFF-9442-EAF8238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7BC6A-49AB-4BAD-831D-F1D5114F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9B6FF-3E87-4936-B8C9-81AF24A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85718-65BE-4964-B2B8-E887BD30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74E6F-9E55-418A-84B2-8079140E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C7E-1925-4C04-A0AD-EE76C376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F60-915A-4198-A321-824586A1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627-E93A-454A-BA08-012DE087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69E8-AB1A-4ED5-9FB9-BD40A98B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8BE-0E72-422C-9CB3-328648A0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9F27-DF1E-43AB-A021-4DF2BCE8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D0ED-92F9-4F18-828A-E315D2F7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56A8-BB52-459C-85BF-1166DB7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47B4-9C44-4EA9-A6B7-3E0AF47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AF8-DA22-487B-A64A-34DE8EE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ED6F-2561-457D-BDCC-8CF20D7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5744-1F19-44F2-944C-72E2F40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11F9-49ED-4AF0-82D0-39949A22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E6F-AD8C-4A6B-B5EA-0CC27251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06B0-8B93-4D2C-B046-B1468D6F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FE3-28D5-4235-A61C-A108DE39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12C-F8AE-4490-A896-3EBB4B45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9C6F-478D-4383-8AD2-D9E71108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3271-436D-4970-9126-BEC494E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5F0E-8BE9-44D1-80D9-85EC7338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F264-8862-4FB4-AE4E-6D701655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1F06-B263-4C21-AF83-12E5B62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37ABB-D774-4760-9DB2-EC47822E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4136-F132-4648-9060-B45482FA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A476-F5F0-4153-9A1F-BF451E2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40E1-2696-4C8C-906A-528B67E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CFA-34A7-413E-893F-BAA2D36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6854-84B3-4284-ACEC-89038F8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C989-B7BB-4F7A-A50A-D171E2CA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FBCC-D214-4096-AA2B-D7A9B5BC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67CC-54B7-4450-8AB1-14F13D98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9DAC-3E91-49E7-915E-8F9477D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12A3-1BC3-480A-8E33-CFC054A3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2F86-EB86-4D11-96F0-6656F12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D5471-872C-417B-B388-FC058C3E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8438-16C9-46FC-90F1-AD6EA4E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9541-AB71-4236-B80E-360A855D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930-A452-414A-A84B-33F264E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2BF5-840A-494F-9BEA-852EBE84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0EF5-9858-4EDB-845E-A4DA202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B0F16-0F4B-4938-9E92-9D74569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598A-0C8B-46AA-BFA0-5E795327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8277-6950-40AE-8187-2C413C0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C437-EE3F-4F7C-BD8C-04078184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9CB9-062E-4C38-AC14-523F808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81B8-FFFB-47E7-94FD-7A2B07B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2DBF-E6AF-4529-ABF6-3ADDE27C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E41A2-01F4-494C-8817-F0AC2D04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021-B55D-4F0B-B02A-0C14286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4532-2FDA-4193-9B48-0AC9C33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B70DF-CA77-4BE5-A9D1-0373563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86A9-B373-4A08-BCAC-4B9C46D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5446-C8C9-497F-ABE7-049BB13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18B5-37F4-424F-ADEF-6A6C48C7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8BD6-B2EC-4775-85CE-7A21CFC8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92CF0-EC70-4661-9657-DE43FCB2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18F5-E4ED-48DA-A919-CE1471D2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FF94E-AAAF-4065-8EB8-77E23245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13F2-4933-44C2-BDFD-13BD8DE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6634-39D3-46A4-9A52-57CC5A5BDB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6A73-EC82-4CFF-A277-DACD0E46DE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4552-C8E1-4520-821B-F36DE5CE0E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FD09-3215-4884-9FD8-541055FF1D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BA6A-4D90-4AEE-9E36-1F0065141F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6920-FE2E-4002-A54F-09BE036F8F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7ED-54B0-451B-BF4E-5C522B6BC2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D7C5-9FE5-4319-BDC8-CE38247E53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2726-CC83-4C78-89CB-3DD91D06BB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43.png"/><Relationship Id="rId4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34.png"/><Relationship Id="rId39" Type="http://schemas.openxmlformats.org/officeDocument/2006/relationships/image" Target="../media/image35.png"/><Relationship Id="rId40" Type="http://schemas.openxmlformats.org/officeDocument/2006/relationships/image" Target="../media/image36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pn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image" Target="../media/image42.png"/><Relationship Id="rId4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image" Target="../media/image62.png"/><Relationship Id="rId3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4" descr="1-1.png"/>
          <p:cNvPicPr/>
          <p:nvPr/>
        </p:nvPicPr>
        <p:blipFill>
          <a:blip r:embed="rId1"/>
          <a:stretch/>
        </p:blipFill>
        <p:spPr>
          <a:xfrm>
            <a:off x="0" y="0"/>
            <a:ext cx="23814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5" descr="1-2.png"/>
          <p:cNvPicPr/>
          <p:nvPr/>
        </p:nvPicPr>
        <p:blipFill>
          <a:blip r:embed="rId2"/>
          <a:stretch/>
        </p:blipFill>
        <p:spPr>
          <a:xfrm>
            <a:off x="0" y="6388200"/>
            <a:ext cx="2249640" cy="4698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1-3.png"/>
          <p:cNvPicPr/>
          <p:nvPr/>
        </p:nvPicPr>
        <p:blipFill>
          <a:blip r:embed="rId3"/>
          <a:srcRect l="0" t="43468" r="0" b="0"/>
          <a:stretch/>
        </p:blipFill>
        <p:spPr>
          <a:xfrm>
            <a:off x="0" y="2857680"/>
            <a:ext cx="2322360" cy="371628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7" descr="1-4.png"/>
          <p:cNvPicPr/>
          <p:nvPr/>
        </p:nvPicPr>
        <p:blipFill>
          <a:blip r:embed="rId4"/>
          <a:stretch/>
        </p:blipFill>
        <p:spPr>
          <a:xfrm>
            <a:off x="108000" y="1149480"/>
            <a:ext cx="2030400" cy="344808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9" descr="1-6.png"/>
          <p:cNvPicPr/>
          <p:nvPr/>
        </p:nvPicPr>
        <p:blipFill>
          <a:blip r:embed="rId5"/>
          <a:stretch/>
        </p:blipFill>
        <p:spPr>
          <a:xfrm>
            <a:off x="1446120" y="5857920"/>
            <a:ext cx="617760" cy="67932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0" descr="1-7.png"/>
          <p:cNvPicPr/>
          <p:nvPr/>
        </p:nvPicPr>
        <p:blipFill>
          <a:blip r:embed="rId6"/>
          <a:stretch/>
        </p:blipFill>
        <p:spPr>
          <a:xfrm>
            <a:off x="247680" y="2076480"/>
            <a:ext cx="1914480" cy="90180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1" descr="2-1.png"/>
          <p:cNvPicPr/>
          <p:nvPr/>
        </p:nvPicPr>
        <p:blipFill>
          <a:blip r:embed="rId7"/>
          <a:stretch/>
        </p:blipFill>
        <p:spPr>
          <a:xfrm>
            <a:off x="2260440" y="0"/>
            <a:ext cx="232416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12" descr="2-2.png"/>
          <p:cNvPicPr/>
          <p:nvPr/>
        </p:nvPicPr>
        <p:blipFill>
          <a:blip r:embed="rId8"/>
          <a:stretch/>
        </p:blipFill>
        <p:spPr>
          <a:xfrm>
            <a:off x="2273400" y="5499000"/>
            <a:ext cx="2298600" cy="135900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3" descr="2-3.png"/>
          <p:cNvPicPr/>
          <p:nvPr/>
        </p:nvPicPr>
        <p:blipFill>
          <a:blip r:embed="rId9"/>
          <a:stretch/>
        </p:blipFill>
        <p:spPr>
          <a:xfrm>
            <a:off x="2273400" y="0"/>
            <a:ext cx="2324160" cy="40788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4" descr="2-4.png"/>
          <p:cNvPicPr/>
          <p:nvPr/>
        </p:nvPicPr>
        <p:blipFill>
          <a:blip r:embed="rId10"/>
          <a:stretch/>
        </p:blipFill>
        <p:spPr>
          <a:xfrm>
            <a:off x="3249720" y="0"/>
            <a:ext cx="1334880" cy="90180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5" descr="2-5.png"/>
          <p:cNvPicPr/>
          <p:nvPr/>
        </p:nvPicPr>
        <p:blipFill>
          <a:blip r:embed="rId11"/>
          <a:stretch/>
        </p:blipFill>
        <p:spPr>
          <a:xfrm>
            <a:off x="2298600" y="5845320"/>
            <a:ext cx="542880" cy="50616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6" descr="2-6.png"/>
          <p:cNvPicPr/>
          <p:nvPr/>
        </p:nvPicPr>
        <p:blipFill>
          <a:blip r:embed="rId12"/>
          <a:stretch/>
        </p:blipFill>
        <p:spPr>
          <a:xfrm>
            <a:off x="2890800" y="5857920"/>
            <a:ext cx="507960" cy="51732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7" descr="2-7.png"/>
          <p:cNvPicPr/>
          <p:nvPr/>
        </p:nvPicPr>
        <p:blipFill>
          <a:blip r:embed="rId13"/>
          <a:stretch/>
        </p:blipFill>
        <p:spPr>
          <a:xfrm>
            <a:off x="3435480" y="5881680"/>
            <a:ext cx="506160" cy="4698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8" descr="2-8.png"/>
          <p:cNvPicPr/>
          <p:nvPr/>
        </p:nvPicPr>
        <p:blipFill>
          <a:blip r:embed="rId14"/>
          <a:stretch/>
        </p:blipFill>
        <p:spPr>
          <a:xfrm>
            <a:off x="4029120" y="5881680"/>
            <a:ext cx="530280" cy="48276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19" descr="2-9.png"/>
          <p:cNvPicPr/>
          <p:nvPr/>
        </p:nvPicPr>
        <p:blipFill>
          <a:blip r:embed="rId15"/>
          <a:stretch/>
        </p:blipFill>
        <p:spPr>
          <a:xfrm>
            <a:off x="2779560" y="6029280"/>
            <a:ext cx="1322640" cy="18576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0" descr="2-10.png"/>
          <p:cNvPicPr/>
          <p:nvPr/>
        </p:nvPicPr>
        <p:blipFill>
          <a:blip r:embed="rId16"/>
          <a:stretch/>
        </p:blipFill>
        <p:spPr>
          <a:xfrm>
            <a:off x="2384280" y="1247760"/>
            <a:ext cx="2125800" cy="412740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21" descr="2-11.png"/>
          <p:cNvPicPr/>
          <p:nvPr/>
        </p:nvPicPr>
        <p:blipFill>
          <a:blip r:embed="rId17"/>
          <a:stretch/>
        </p:blipFill>
        <p:spPr>
          <a:xfrm>
            <a:off x="2347920" y="420840"/>
            <a:ext cx="2063880" cy="40399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2" descr="2-12.png"/>
          <p:cNvPicPr/>
          <p:nvPr/>
        </p:nvPicPr>
        <p:blipFill>
          <a:blip r:embed="rId18"/>
          <a:stretch/>
        </p:blipFill>
        <p:spPr>
          <a:xfrm>
            <a:off x="3236760" y="4189320"/>
            <a:ext cx="1236960" cy="140832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3" descr="2-13.png"/>
          <p:cNvPicPr/>
          <p:nvPr/>
        </p:nvPicPr>
        <p:blipFill>
          <a:blip r:embed="rId19"/>
          <a:stretch/>
        </p:blipFill>
        <p:spPr>
          <a:xfrm>
            <a:off x="2335320" y="4819680"/>
            <a:ext cx="901440" cy="7650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24" descr="2-14.png"/>
          <p:cNvPicPr/>
          <p:nvPr/>
        </p:nvPicPr>
        <p:blipFill>
          <a:blip r:embed="rId20"/>
          <a:stretch/>
        </p:blipFill>
        <p:spPr>
          <a:xfrm>
            <a:off x="2965320" y="1209600"/>
            <a:ext cx="828720" cy="95112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26" descr="3-1.png"/>
          <p:cNvPicPr/>
          <p:nvPr/>
        </p:nvPicPr>
        <p:blipFill>
          <a:blip r:embed="rId21"/>
          <a:stretch/>
        </p:blipFill>
        <p:spPr>
          <a:xfrm>
            <a:off x="4546440" y="0"/>
            <a:ext cx="2337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27" descr="3-2.png"/>
          <p:cNvPicPr/>
          <p:nvPr/>
        </p:nvPicPr>
        <p:blipFill>
          <a:blip r:embed="rId22"/>
          <a:stretch/>
        </p:blipFill>
        <p:spPr>
          <a:xfrm>
            <a:off x="4608360" y="0"/>
            <a:ext cx="2187720" cy="65556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28" descr="3-3.png"/>
          <p:cNvPicPr/>
          <p:nvPr/>
        </p:nvPicPr>
        <p:blipFill>
          <a:blip r:embed="rId23"/>
          <a:stretch/>
        </p:blipFill>
        <p:spPr>
          <a:xfrm>
            <a:off x="4546440" y="6227640"/>
            <a:ext cx="2324160" cy="63036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29" descr="3-4.png"/>
          <p:cNvPicPr/>
          <p:nvPr/>
        </p:nvPicPr>
        <p:blipFill>
          <a:blip r:embed="rId24"/>
          <a:stretch/>
        </p:blipFill>
        <p:spPr>
          <a:xfrm>
            <a:off x="4597560" y="371520"/>
            <a:ext cx="2234880" cy="266868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30" descr="3-5.png"/>
          <p:cNvPicPr/>
          <p:nvPr/>
        </p:nvPicPr>
        <p:blipFill>
          <a:blip r:embed="rId25"/>
          <a:stretch/>
        </p:blipFill>
        <p:spPr>
          <a:xfrm>
            <a:off x="4546440" y="3187800"/>
            <a:ext cx="1038240" cy="31636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31" descr="3-6.png"/>
          <p:cNvPicPr/>
          <p:nvPr/>
        </p:nvPicPr>
        <p:blipFill>
          <a:blip r:embed="rId26"/>
          <a:stretch/>
        </p:blipFill>
        <p:spPr>
          <a:xfrm>
            <a:off x="5313240" y="5646600"/>
            <a:ext cx="519120" cy="70488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32" descr="3-7.png"/>
          <p:cNvPicPr/>
          <p:nvPr/>
        </p:nvPicPr>
        <p:blipFill>
          <a:blip r:embed="rId27"/>
          <a:stretch/>
        </p:blipFill>
        <p:spPr>
          <a:xfrm>
            <a:off x="5757840" y="5721480"/>
            <a:ext cx="531720" cy="61740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33" descr="3-8.png"/>
          <p:cNvPicPr/>
          <p:nvPr/>
        </p:nvPicPr>
        <p:blipFill>
          <a:blip r:embed="rId28"/>
          <a:stretch/>
        </p:blipFill>
        <p:spPr>
          <a:xfrm>
            <a:off x="6178680" y="5610240"/>
            <a:ext cx="593640" cy="71604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34" descr="3-9.png"/>
          <p:cNvPicPr/>
          <p:nvPr/>
        </p:nvPicPr>
        <p:blipFill>
          <a:blip r:embed="rId29"/>
          <a:stretch/>
        </p:blipFill>
        <p:spPr>
          <a:xfrm>
            <a:off x="5003640" y="420840"/>
            <a:ext cx="741600" cy="11491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35" descr="3-10.png"/>
          <p:cNvPicPr/>
          <p:nvPr/>
        </p:nvPicPr>
        <p:blipFill>
          <a:blip r:embed="rId30"/>
          <a:stretch/>
        </p:blipFill>
        <p:spPr>
          <a:xfrm>
            <a:off x="6116760" y="3719520"/>
            <a:ext cx="555480" cy="51912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36" descr="3-11.png"/>
          <p:cNvPicPr/>
          <p:nvPr/>
        </p:nvPicPr>
        <p:blipFill>
          <a:blip r:embed="rId31"/>
          <a:stretch/>
        </p:blipFill>
        <p:spPr>
          <a:xfrm>
            <a:off x="4757760" y="1420920"/>
            <a:ext cx="1890720" cy="76680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37" descr="4-1.png"/>
          <p:cNvPicPr/>
          <p:nvPr/>
        </p:nvPicPr>
        <p:blipFill>
          <a:blip r:embed="rId32"/>
          <a:stretch/>
        </p:blipFill>
        <p:spPr>
          <a:xfrm>
            <a:off x="6808680" y="0"/>
            <a:ext cx="23353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38" descr="4-2.png"/>
          <p:cNvPicPr/>
          <p:nvPr/>
        </p:nvPicPr>
        <p:blipFill>
          <a:blip r:embed="rId33"/>
          <a:stretch/>
        </p:blipFill>
        <p:spPr>
          <a:xfrm>
            <a:off x="6845400" y="6388200"/>
            <a:ext cx="2298600" cy="4698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39" descr="4-3.png"/>
          <p:cNvPicPr/>
          <p:nvPr/>
        </p:nvPicPr>
        <p:blipFill>
          <a:blip r:embed="rId34"/>
          <a:stretch/>
        </p:blipFill>
        <p:spPr>
          <a:xfrm>
            <a:off x="7537320" y="5288040"/>
            <a:ext cx="976320" cy="128592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42" descr="4-6.png"/>
          <p:cNvPicPr/>
          <p:nvPr/>
        </p:nvPicPr>
        <p:blipFill>
          <a:blip r:embed="rId35"/>
          <a:stretch/>
        </p:blipFill>
        <p:spPr>
          <a:xfrm>
            <a:off x="8105760" y="1282680"/>
            <a:ext cx="482760" cy="4190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43" descr="4-7.png"/>
          <p:cNvPicPr/>
          <p:nvPr/>
        </p:nvPicPr>
        <p:blipFill>
          <a:blip r:embed="rId36"/>
          <a:stretch/>
        </p:blipFill>
        <p:spPr>
          <a:xfrm>
            <a:off x="7674120" y="12826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44" descr="4-8.png"/>
          <p:cNvPicPr/>
          <p:nvPr/>
        </p:nvPicPr>
        <p:blipFill>
          <a:blip r:embed="rId37"/>
          <a:stretch/>
        </p:blipFill>
        <p:spPr>
          <a:xfrm>
            <a:off x="7229520" y="1270080"/>
            <a:ext cx="468360" cy="4446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45" descr="4-9.png"/>
          <p:cNvPicPr/>
          <p:nvPr/>
        </p:nvPicPr>
        <p:blipFill>
          <a:blip r:embed="rId38"/>
          <a:stretch/>
        </p:blipFill>
        <p:spPr>
          <a:xfrm>
            <a:off x="7674120" y="431640"/>
            <a:ext cx="703080" cy="6922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46" descr="4-10.png"/>
          <p:cNvPicPr/>
          <p:nvPr/>
        </p:nvPicPr>
        <p:blipFill>
          <a:blip r:embed="rId39"/>
          <a:stretch/>
        </p:blipFill>
        <p:spPr>
          <a:xfrm>
            <a:off x="8193240" y="147600"/>
            <a:ext cx="395280" cy="4078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48" descr="2.png"/>
          <p:cNvPicPr/>
          <p:nvPr/>
        </p:nvPicPr>
        <p:blipFill>
          <a:blip r:embed="rId40"/>
          <a:srcRect l="77147" t="74076" r="14762" b="16191"/>
          <a:stretch/>
        </p:blipFill>
        <p:spPr>
          <a:xfrm>
            <a:off x="7053120" y="5079960"/>
            <a:ext cx="741600" cy="66852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49" descr="2.png"/>
          <p:cNvPicPr/>
          <p:nvPr/>
        </p:nvPicPr>
        <p:blipFill>
          <a:blip r:embed="rId41"/>
          <a:srcRect l="91349" t="71966" r="1575" b="19215"/>
          <a:stretch/>
        </p:blipFill>
        <p:spPr>
          <a:xfrm>
            <a:off x="8353440" y="4935600"/>
            <a:ext cx="646200" cy="6048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47" descr="1.png"/>
          <p:cNvPicPr/>
          <p:nvPr/>
        </p:nvPicPr>
        <p:blipFill>
          <a:blip r:embed="rId42"/>
          <a:stretch/>
        </p:blipFill>
        <p:spPr>
          <a:xfrm rot="18600000">
            <a:off x="8467200" y="1099800"/>
            <a:ext cx="114948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11111E-006 2.96296E-006 C -0.03976 0.04444 -0.03056 0.41481 -0.03056 0.65185 E">
                                      <p:cBhvr>
                                        <p:cTn id="1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3000000">
                                      <p:cBhvr>
                                        <p:cTn id="1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7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3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3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7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3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7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3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0.65277 L -0.19462 0.65231 E">
                                      <p:cBhvr>
                                        <p:cTn id="40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4329 L -4.16667E-006 -4.81481E-006 E">
                                      <p:cBhvr>
                                        <p:cTn id="47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10139 C 0.02465 0.05648 0.02777 0.00787 4.44444E-006 -1.85185E-006 E">
                                      <p:cBhvr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12 0.12453 C -0.10763 0.03819 -0.06197 -0.02639 -4.72222E-006 2.59259E-006 E">
                                      <p:cBhvr>
                                        <p:cTn id="59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79 0.65156 C -0.21719 0.55931 -0.27656 0.56833 -0.27656 0.61596 E">
                                      <p:cBhvr>
                                        <p:cTn id="62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56 0.61596 L -0.45156 0.6148 E">
                                      <p:cBhvr>
                                        <p:cTn id="65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3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156 0.6148 C -0.45295 0.47584 -0.53386 0.46544 -0.53229 0.5163 E">
                                      <p:cBhvr>
                                        <p:cTn id="80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8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29 0.5163 L -0.70052 0.51653 E">
                                      <p:cBhvr>
                                        <p:cTn id="89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2049 0.03376 L 0.00174 -0.11422 L 0.00174 -0.01479 L 0.00174 -0.03399 L -2.77778E-007 -3.2948E-006 E">
                                      <p:cBhvr>
                                        <p:cTn id="95" dur="3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52 0.51653 C -0.76129 0.50844 -0.78507 0.61619 -0.78663 0.65018 E">
                                      <p:cBhvr>
                                        <p:cTn id="12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663 0.65018 L -1.09288 0.65041 E">
                                      <p:cBhvr>
                                        <p:cTn id="124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00416 C -0.04496 -0.1037 -0.00226 -0.11481 -2.77778E-007 -3.7037E-006 E">
                                      <p:cBhvr>
                                        <p:cTn id="130" dur="3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9" presetSubtype="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3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8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7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3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7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3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70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59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54" descr="5-1.png"/>
          <p:cNvPicPr/>
          <p:nvPr/>
        </p:nvPicPr>
        <p:blipFill>
          <a:blip r:embed="rId2"/>
          <a:srcRect l="0" t="0" r="74599" b="0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5" descr="5-2.png"/>
          <p:cNvPicPr/>
          <p:nvPr/>
        </p:nvPicPr>
        <p:blipFill>
          <a:blip r:embed="rId3"/>
          <a:srcRect l="24412" t="0" r="50321" b="0"/>
          <a:stretch/>
        </p:blipFill>
        <p:spPr>
          <a:xfrm>
            <a:off x="2232000" y="0"/>
            <a:ext cx="234936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56" descr="5-3.png"/>
          <p:cNvPicPr/>
          <p:nvPr/>
        </p:nvPicPr>
        <p:blipFill>
          <a:blip r:embed="rId4"/>
          <a:srcRect l="49691" t="0" r="25397" b="0"/>
          <a:stretch/>
        </p:blipFill>
        <p:spPr>
          <a:xfrm>
            <a:off x="4543560" y="0"/>
            <a:ext cx="232884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57" descr="5-4.png"/>
          <p:cNvPicPr/>
          <p:nvPr/>
        </p:nvPicPr>
        <p:blipFill>
          <a:blip r:embed="rId5"/>
          <a:srcRect l="75139" t="0" r="0" b="0"/>
          <a:stretch/>
        </p:blipFill>
        <p:spPr>
          <a:xfrm>
            <a:off x="6870600" y="0"/>
            <a:ext cx="2273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53"/>
          <p:cNvGrpSpPr/>
          <p:nvPr/>
        </p:nvGrpSpPr>
        <p:grpSpPr>
          <a:xfrm>
            <a:off x="0" y="0"/>
            <a:ext cx="2381400" cy="6858000"/>
            <a:chOff x="0" y="0"/>
            <a:chExt cx="2381400" cy="6858000"/>
          </a:xfrm>
        </p:grpSpPr>
        <p:pic>
          <p:nvPicPr>
            <p:cNvPr id="532" name="图片 4" descr="1-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3814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图片 5" descr="1-2.png"/>
            <p:cNvPicPr/>
            <p:nvPr/>
          </p:nvPicPr>
          <p:blipFill>
            <a:blip r:embed="rId7"/>
            <a:stretch/>
          </p:blipFill>
          <p:spPr>
            <a:xfrm>
              <a:off x="0" y="6388920"/>
              <a:ext cx="224928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图片 6" descr="1-3.png"/>
            <p:cNvPicPr/>
            <p:nvPr/>
          </p:nvPicPr>
          <p:blipFill>
            <a:blip r:embed="rId8"/>
            <a:srcRect l="0" t="43468" r="0" b="0"/>
            <a:stretch/>
          </p:blipFill>
          <p:spPr>
            <a:xfrm>
              <a:off x="0" y="2857320"/>
              <a:ext cx="2323440" cy="37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图片 7" descr="1-4.png"/>
            <p:cNvPicPr/>
            <p:nvPr/>
          </p:nvPicPr>
          <p:blipFill>
            <a:blip r:embed="rId9"/>
            <a:stretch/>
          </p:blipFill>
          <p:spPr>
            <a:xfrm>
              <a:off x="108000" y="1148760"/>
              <a:ext cx="2029680" cy="34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图片 9" descr="1-6.png"/>
            <p:cNvPicPr/>
            <p:nvPr/>
          </p:nvPicPr>
          <p:blipFill>
            <a:blip r:embed="rId10"/>
            <a:stretch/>
          </p:blipFill>
          <p:spPr>
            <a:xfrm>
              <a:off x="1445760" y="5857560"/>
              <a:ext cx="61776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图片 10" descr="1-7.png"/>
            <p:cNvPicPr/>
            <p:nvPr/>
          </p:nvPicPr>
          <p:blipFill>
            <a:blip r:embed="rId11"/>
            <a:stretch/>
          </p:blipFill>
          <p:spPr>
            <a:xfrm>
              <a:off x="246600" y="2075760"/>
              <a:ext cx="1915920" cy="90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组合 52"/>
          <p:cNvGrpSpPr/>
          <p:nvPr/>
        </p:nvGrpSpPr>
        <p:grpSpPr>
          <a:xfrm>
            <a:off x="2260440" y="0"/>
            <a:ext cx="2337120" cy="6858000"/>
            <a:chOff x="2260440" y="0"/>
            <a:chExt cx="2337120" cy="6858000"/>
          </a:xfrm>
        </p:grpSpPr>
        <p:pic>
          <p:nvPicPr>
            <p:cNvPr id="539" name="图片 11" descr="2-1.png"/>
            <p:cNvPicPr/>
            <p:nvPr/>
          </p:nvPicPr>
          <p:blipFill>
            <a:blip r:embed="rId12"/>
            <a:stretch/>
          </p:blipFill>
          <p:spPr>
            <a:xfrm>
              <a:off x="2260440" y="0"/>
              <a:ext cx="2324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12" descr="2-2.png"/>
            <p:cNvPicPr/>
            <p:nvPr/>
          </p:nvPicPr>
          <p:blipFill>
            <a:blip r:embed="rId13"/>
            <a:stretch/>
          </p:blipFill>
          <p:spPr>
            <a:xfrm>
              <a:off x="2272680" y="5499000"/>
              <a:ext cx="230004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13" descr="2-3.png"/>
            <p:cNvPicPr/>
            <p:nvPr/>
          </p:nvPicPr>
          <p:blipFill>
            <a:blip r:embed="rId14"/>
            <a:stretch/>
          </p:blipFill>
          <p:spPr>
            <a:xfrm>
              <a:off x="2272680" y="0"/>
              <a:ext cx="23248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图片 14" descr="2-4.png"/>
            <p:cNvPicPr/>
            <p:nvPr/>
          </p:nvPicPr>
          <p:blipFill>
            <a:blip r:embed="rId15"/>
            <a:stretch/>
          </p:blipFill>
          <p:spPr>
            <a:xfrm>
              <a:off x="3249720" y="0"/>
              <a:ext cx="13356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图片 15" descr="2-5.png"/>
            <p:cNvPicPr/>
            <p:nvPr/>
          </p:nvPicPr>
          <p:blipFill>
            <a:blip r:embed="rId16"/>
            <a:stretch/>
          </p:blipFill>
          <p:spPr>
            <a:xfrm>
              <a:off x="2297520" y="5844960"/>
              <a:ext cx="5439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图片 16" descr="2-6.png"/>
            <p:cNvPicPr/>
            <p:nvPr/>
          </p:nvPicPr>
          <p:blipFill>
            <a:blip r:embed="rId17"/>
            <a:stretch/>
          </p:blipFill>
          <p:spPr>
            <a:xfrm>
              <a:off x="2891160" y="5857560"/>
              <a:ext cx="5068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17" descr="2-7.png"/>
            <p:cNvPicPr/>
            <p:nvPr/>
          </p:nvPicPr>
          <p:blipFill>
            <a:blip r:embed="rId18"/>
            <a:stretch/>
          </p:blipFill>
          <p:spPr>
            <a:xfrm>
              <a:off x="3435120" y="5882040"/>
              <a:ext cx="50688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18" descr="2-8.png"/>
            <p:cNvPicPr/>
            <p:nvPr/>
          </p:nvPicPr>
          <p:blipFill>
            <a:blip r:embed="rId19"/>
            <a:stretch/>
          </p:blipFill>
          <p:spPr>
            <a:xfrm>
              <a:off x="4028760" y="5882040"/>
              <a:ext cx="531720" cy="4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19" descr="2-9.png"/>
            <p:cNvPicPr/>
            <p:nvPr/>
          </p:nvPicPr>
          <p:blipFill>
            <a:blip r:embed="rId20"/>
            <a:stretch/>
          </p:blipFill>
          <p:spPr>
            <a:xfrm>
              <a:off x="2779560" y="6030360"/>
              <a:ext cx="132300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20" descr="2-10.png"/>
            <p:cNvPicPr/>
            <p:nvPr/>
          </p:nvPicPr>
          <p:blipFill>
            <a:blip r:embed="rId21"/>
            <a:stretch/>
          </p:blipFill>
          <p:spPr>
            <a:xfrm>
              <a:off x="2383920" y="1247760"/>
              <a:ext cx="2126880" cy="41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21" descr="2-11.png"/>
            <p:cNvPicPr/>
            <p:nvPr/>
          </p:nvPicPr>
          <p:blipFill>
            <a:blip r:embed="rId22"/>
            <a:stretch/>
          </p:blipFill>
          <p:spPr>
            <a:xfrm>
              <a:off x="2346840" y="419760"/>
              <a:ext cx="2065320" cy="40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22" descr="2-12.png"/>
            <p:cNvPicPr/>
            <p:nvPr/>
          </p:nvPicPr>
          <p:blipFill>
            <a:blip r:embed="rId23"/>
            <a:stretch/>
          </p:blipFill>
          <p:spPr>
            <a:xfrm>
              <a:off x="3237480" y="4188960"/>
              <a:ext cx="123660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图片 23" descr="2-13.png"/>
            <p:cNvPicPr/>
            <p:nvPr/>
          </p:nvPicPr>
          <p:blipFill>
            <a:blip r:embed="rId24"/>
            <a:stretch/>
          </p:blipFill>
          <p:spPr>
            <a:xfrm>
              <a:off x="2334600" y="4819320"/>
              <a:ext cx="902520" cy="7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图片 24" descr="2-14.png"/>
            <p:cNvPicPr/>
            <p:nvPr/>
          </p:nvPicPr>
          <p:blipFill>
            <a:blip r:embed="rId25"/>
            <a:stretch/>
          </p:blipFill>
          <p:spPr>
            <a:xfrm>
              <a:off x="2965320" y="1208520"/>
              <a:ext cx="8283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组合 51"/>
          <p:cNvGrpSpPr/>
          <p:nvPr/>
        </p:nvGrpSpPr>
        <p:grpSpPr>
          <a:xfrm>
            <a:off x="4546440" y="0"/>
            <a:ext cx="2337120" cy="6858000"/>
            <a:chOff x="4546440" y="0"/>
            <a:chExt cx="2337120" cy="6858000"/>
          </a:xfrm>
        </p:grpSpPr>
        <p:pic>
          <p:nvPicPr>
            <p:cNvPr id="554" name="图片 26" descr="3-1.png"/>
            <p:cNvPicPr/>
            <p:nvPr/>
          </p:nvPicPr>
          <p:blipFill>
            <a:blip r:embed="rId26"/>
            <a:stretch/>
          </p:blipFill>
          <p:spPr>
            <a:xfrm>
              <a:off x="4546440" y="0"/>
              <a:ext cx="2337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图片 27" descr="3-2.png"/>
            <p:cNvPicPr/>
            <p:nvPr/>
          </p:nvPicPr>
          <p:blipFill>
            <a:blip r:embed="rId27"/>
            <a:stretch/>
          </p:blipFill>
          <p:spPr>
            <a:xfrm>
              <a:off x="4608000" y="0"/>
              <a:ext cx="2188800" cy="65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图片 28" descr="3-3.png"/>
            <p:cNvPicPr/>
            <p:nvPr/>
          </p:nvPicPr>
          <p:blipFill>
            <a:blip r:embed="rId28"/>
            <a:stretch/>
          </p:blipFill>
          <p:spPr>
            <a:xfrm>
              <a:off x="4546440" y="6228360"/>
              <a:ext cx="232488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29" descr="3-4.png"/>
            <p:cNvPicPr/>
            <p:nvPr/>
          </p:nvPicPr>
          <p:blipFill>
            <a:blip r:embed="rId29"/>
            <a:stretch/>
          </p:blipFill>
          <p:spPr>
            <a:xfrm>
              <a:off x="4595760" y="370440"/>
              <a:ext cx="2238480" cy="266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30" descr="3-5.png"/>
            <p:cNvPicPr/>
            <p:nvPr/>
          </p:nvPicPr>
          <p:blipFill>
            <a:blip r:embed="rId30"/>
            <a:stretch/>
          </p:blipFill>
          <p:spPr>
            <a:xfrm>
              <a:off x="4546440" y="3188160"/>
              <a:ext cx="1038600" cy="31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图片 31" descr="3-6.png"/>
            <p:cNvPicPr/>
            <p:nvPr/>
          </p:nvPicPr>
          <p:blipFill>
            <a:blip r:embed="rId31"/>
            <a:stretch/>
          </p:blipFill>
          <p:spPr>
            <a:xfrm>
              <a:off x="5312880" y="5647320"/>
              <a:ext cx="51912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32" descr="3-7.png"/>
            <p:cNvPicPr/>
            <p:nvPr/>
          </p:nvPicPr>
          <p:blipFill>
            <a:blip r:embed="rId32"/>
            <a:stretch/>
          </p:blipFill>
          <p:spPr>
            <a:xfrm>
              <a:off x="5758200" y="5721480"/>
              <a:ext cx="5317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图片 33" descr="3-8.png"/>
            <p:cNvPicPr/>
            <p:nvPr/>
          </p:nvPicPr>
          <p:blipFill>
            <a:blip r:embed="rId33"/>
            <a:stretch/>
          </p:blipFill>
          <p:spPr>
            <a:xfrm>
              <a:off x="6178680" y="5610240"/>
              <a:ext cx="59364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图片 34" descr="3-9.png"/>
            <p:cNvPicPr/>
            <p:nvPr/>
          </p:nvPicPr>
          <p:blipFill>
            <a:blip r:embed="rId34"/>
            <a:stretch/>
          </p:blipFill>
          <p:spPr>
            <a:xfrm>
              <a:off x="5004000" y="419760"/>
              <a:ext cx="74196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图片 35" descr="3-10.png"/>
            <p:cNvPicPr/>
            <p:nvPr/>
          </p:nvPicPr>
          <p:blipFill>
            <a:blip r:embed="rId35"/>
            <a:stretch/>
          </p:blipFill>
          <p:spPr>
            <a:xfrm>
              <a:off x="6117120" y="3719520"/>
              <a:ext cx="55620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图片 36" descr="3-11.png"/>
            <p:cNvPicPr/>
            <p:nvPr/>
          </p:nvPicPr>
          <p:blipFill>
            <a:blip r:embed="rId36"/>
            <a:stretch/>
          </p:blipFill>
          <p:spPr>
            <a:xfrm>
              <a:off x="4756680" y="1420920"/>
              <a:ext cx="1892160" cy="76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5" name="组合 50"/>
          <p:cNvGrpSpPr/>
          <p:nvPr/>
        </p:nvGrpSpPr>
        <p:grpSpPr>
          <a:xfrm>
            <a:off x="6808680" y="0"/>
            <a:ext cx="2335320" cy="6858000"/>
            <a:chOff x="6808680" y="0"/>
            <a:chExt cx="2335320" cy="6858000"/>
          </a:xfrm>
        </p:grpSpPr>
        <p:pic>
          <p:nvPicPr>
            <p:cNvPr id="566" name="图片 37" descr="4-1.png"/>
            <p:cNvPicPr/>
            <p:nvPr/>
          </p:nvPicPr>
          <p:blipFill>
            <a:blip r:embed="rId37"/>
            <a:stretch/>
          </p:blipFill>
          <p:spPr>
            <a:xfrm>
              <a:off x="6808680" y="0"/>
              <a:ext cx="2335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图片 38" descr="4-2.png"/>
            <p:cNvPicPr/>
            <p:nvPr/>
          </p:nvPicPr>
          <p:blipFill>
            <a:blip r:embed="rId38"/>
            <a:stretch/>
          </p:blipFill>
          <p:spPr>
            <a:xfrm>
              <a:off x="6845400" y="6388920"/>
              <a:ext cx="229824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图片 39" descr="4-3.png"/>
            <p:cNvPicPr/>
            <p:nvPr/>
          </p:nvPicPr>
          <p:blipFill>
            <a:blip r:embed="rId39"/>
            <a:stretch/>
          </p:blipFill>
          <p:spPr>
            <a:xfrm>
              <a:off x="7537680" y="5289120"/>
              <a:ext cx="976320" cy="12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图片 42" descr="4-6.png"/>
            <p:cNvPicPr/>
            <p:nvPr/>
          </p:nvPicPr>
          <p:blipFill>
            <a:blip r:embed="rId40"/>
            <a:stretch/>
          </p:blipFill>
          <p:spPr>
            <a:xfrm>
              <a:off x="8106480" y="1281600"/>
              <a:ext cx="4820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图片 43" descr="4-7.png"/>
            <p:cNvPicPr/>
            <p:nvPr/>
          </p:nvPicPr>
          <p:blipFill>
            <a:blip r:embed="rId41"/>
            <a:stretch/>
          </p:blipFill>
          <p:spPr>
            <a:xfrm>
              <a:off x="7673760" y="1281600"/>
              <a:ext cx="43236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图片 44" descr="4-8.png"/>
            <p:cNvPicPr/>
            <p:nvPr/>
          </p:nvPicPr>
          <p:blipFill>
            <a:blip r:embed="rId42"/>
            <a:stretch/>
          </p:blipFill>
          <p:spPr>
            <a:xfrm>
              <a:off x="7228800" y="1269360"/>
              <a:ext cx="4694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图片 45" descr="4-9.png"/>
            <p:cNvPicPr/>
            <p:nvPr/>
          </p:nvPicPr>
          <p:blipFill>
            <a:blip r:embed="rId43"/>
            <a:stretch/>
          </p:blipFill>
          <p:spPr>
            <a:xfrm>
              <a:off x="7673760" y="432000"/>
              <a:ext cx="70452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46" descr="4-10.png"/>
            <p:cNvPicPr/>
            <p:nvPr/>
          </p:nvPicPr>
          <p:blipFill>
            <a:blip r:embed="rId44"/>
            <a:stretch/>
          </p:blipFill>
          <p:spPr>
            <a:xfrm>
              <a:off x="8192880" y="147960"/>
              <a:ext cx="3952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图片 48" descr="2.png"/>
            <p:cNvPicPr/>
            <p:nvPr/>
          </p:nvPicPr>
          <p:blipFill>
            <a:blip r:embed="rId45"/>
            <a:srcRect l="77147" t="74076" r="14762" b="16191"/>
            <a:stretch/>
          </p:blipFill>
          <p:spPr>
            <a:xfrm>
              <a:off x="7053840" y="5080320"/>
              <a:ext cx="740160" cy="6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图片 49" descr="2.png"/>
            <p:cNvPicPr/>
            <p:nvPr/>
          </p:nvPicPr>
          <p:blipFill>
            <a:blip r:embed="rId46"/>
            <a:srcRect l="91349" t="71966" r="1575" b="19215"/>
            <a:stretch/>
          </p:blipFill>
          <p:spPr>
            <a:xfrm>
              <a:off x="8353080" y="4935240"/>
              <a:ext cx="647280" cy="60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"/>
                            </p:stCondLst>
                            <p:childTnLst>
                              <p:par>
                                <p:cTn id="249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"/>
                            </p:stCondLst>
                            <p:childTnLst>
                              <p:par>
                                <p:cTn id="256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"/>
                            </p:stCondLst>
                            <p:childTnLst>
                              <p:par>
                                <p:cTn id="263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4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4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4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4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4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"/>
                            </p:stCondLst>
                            <p:childTnLst>
                              <p:par>
                                <p:cTn id="376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377" dur="12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9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100"/>
                            </p:stCondLst>
                            <p:childTnLst>
                              <p:par>
                                <p:cTn id="420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421" dur="8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39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1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4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45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2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400"/>
                            </p:stCondLst>
                            <p:childTnLst>
                              <p:par>
                                <p:cTn id="4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451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457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2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5" descr=""/>
          <p:cNvPicPr/>
          <p:nvPr/>
        </p:nvPicPr>
        <p:blipFill>
          <a:blip r:embed="rId35"/>
          <a:stretch/>
        </p:blipFill>
        <p:spPr>
          <a:xfrm>
            <a:off x="7504200" y="5803920"/>
            <a:ext cx="13539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4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4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4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4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4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4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4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"/>
                            </p:stCondLst>
                            <p:childTnLst>
                              <p:par>
                                <p:cTn id="537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538" dur="12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900"/>
                            </p:stCondLst>
                            <p:childTnLst>
                              <p:par>
                                <p:cTn id="5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100"/>
                            </p:stCondLst>
                            <p:childTnLst>
                              <p:par>
                                <p:cTn id="581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582" dur="8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600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02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0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606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2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400"/>
                            </p:stCondLst>
                            <p:childTnLst>
                              <p:par>
                                <p:cTn id="6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612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618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100"/>
                            </p:stCondLst>
                            <p:childTnLst>
                              <p:par>
                                <p:cTn id="6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7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7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3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6:45:44Z</dcterms:created>
  <dc:creator>YlmF</dc:creator>
  <dc:description/>
  <dc:language>en-US</dc:language>
  <cp:lastModifiedBy>nana</cp:lastModifiedBy>
  <dcterms:modified xsi:type="dcterms:W3CDTF">2016-03-23T06:23:30Z</dcterms:modified>
  <cp:revision>14</cp:revision>
  <dc:subject/>
  <dc:title>幻灯片 1</dc:title>
</cp:coreProperties>
</file>