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370-DC23-4AF7-BEC0-0A9A386A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B2B-7BB7-40D9-9719-D2BCE3B8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F94-52DC-4036-AF04-F25CB532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6DF-0ACF-478C-8D17-AD3190EC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F65-FB43-491B-8103-59C850D4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CFD-1B25-4835-A23A-CBDACC98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219-377A-4F56-A172-02E9C2F0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CC5-6569-4B99-8E6E-06B2C99A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F4B-3F57-4586-9BC3-4BCF3C80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A11-3D50-4D88-8797-651BD40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072-7497-48D7-B6FF-6020B43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24F-0CA2-4EA9-AD56-ABAFC3A7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prstGeom prst="pie">
            <a:avLst/>
          </a:pr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11160" y="5864400"/>
            <a:ext cx="11412720" cy="100476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728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6320"/>
              <a:ext cx="213840" cy="1206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7800"/>
              <a:ext cx="61920" cy="15516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36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29680" y="991080"/>
              <a:ext cx="56520" cy="792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200" y="6302160"/>
              <a:ext cx="783000" cy="555840"/>
            </a:xfrm>
            <a:prstGeom prst="pie">
              <a:avLst/>
            </a:pr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600" y="6686640"/>
              <a:ext cx="552600" cy="10944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840" y="6764400"/>
              <a:ext cx="60120" cy="9360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880"/>
              <a:ext cx="14040" cy="4572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080" y="6365880"/>
              <a:ext cx="230040" cy="32868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2280"/>
            </a:xfrm>
            <a:prstGeom prst="pie">
              <a:avLst/>
            </a:pr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2040" y="3039840"/>
              <a:ext cx="72720" cy="29052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1680" cy="2700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9"/>
          <p:cNvGrpSpPr/>
          <p:nvPr/>
        </p:nvGrpSpPr>
        <p:grpSpPr>
          <a:xfrm>
            <a:off x="139680" y="-11160"/>
            <a:ext cx="1382400" cy="803160"/>
            <a:chOff x="139680" y="-11160"/>
            <a:chExt cx="1382400" cy="803160"/>
          </a:xfrm>
        </p:grpSpPr>
        <p:sp>
          <p:nvSpPr>
            <p:cNvPr id="28" name="Freeform 34"/>
            <p:cNvSpPr/>
            <p:nvPr/>
          </p:nvSpPr>
          <p:spPr>
            <a:xfrm>
              <a:off x="139680" y="-11160"/>
              <a:ext cx="366840" cy="24336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-1080"/>
              <a:ext cx="1180800" cy="7930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-1080"/>
              <a:ext cx="1085760" cy="733320"/>
            </a:xfrm>
            <a:prstGeom prst="pie">
              <a:avLst/>
            </a:pr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29160"/>
              <a:ext cx="695880" cy="31572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-1080"/>
              <a:ext cx="99360" cy="795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-1080"/>
              <a:ext cx="12600" cy="3888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7440"/>
              <a:ext cx="75600" cy="2937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6600"/>
              <a:ext cx="194760" cy="4755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38"/>
          <p:cNvGrpSpPr/>
          <p:nvPr/>
        </p:nvGrpSpPr>
        <p:grpSpPr>
          <a:xfrm>
            <a:off x="0" y="5006880"/>
            <a:ext cx="687240" cy="1147680"/>
            <a:chOff x="0" y="5006880"/>
            <a:chExt cx="687240" cy="114768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1400"/>
              <a:ext cx="617040" cy="887400"/>
            </a:xfrm>
            <a:prstGeom prst="pie">
              <a:avLst/>
            </a:pr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60120" y="5314680"/>
              <a:ext cx="203040" cy="55404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1280" y="5610240"/>
              <a:ext cx="352440" cy="18900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880" y="5865480"/>
              <a:ext cx="231480" cy="5580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700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920"/>
              <a:ext cx="127080" cy="21564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11002320" y="-7200"/>
            <a:ext cx="929880" cy="947880"/>
            <a:chOff x="11002320" y="-7200"/>
            <a:chExt cx="929880" cy="94788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4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48680"/>
              <a:ext cx="573120" cy="58284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1440" y="303480"/>
              <a:ext cx="93600" cy="404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9680" y="469800"/>
              <a:ext cx="184320" cy="1965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880" y="680760"/>
              <a:ext cx="160200" cy="53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8560" y="411120"/>
              <a:ext cx="225360" cy="1508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70400" y="574560"/>
              <a:ext cx="215640" cy="684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1160" y="725400"/>
              <a:ext cx="107640" cy="137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6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90720" y="3038040"/>
              <a:ext cx="868680" cy="904320"/>
            </a:xfrm>
            <a:prstGeom prst="pie">
              <a:avLst/>
            </a:pr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492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1840" y="3636000"/>
              <a:ext cx="216720" cy="13500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97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59364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23516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C853-9A22-4474-8A9D-E890EB5FB06B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D429-FD37-4E1A-AB19-B9770B9F75F4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0"/>
          <p:cNvSpPr/>
          <p:nvPr/>
        </p:nvSpPr>
        <p:spPr>
          <a:xfrm>
            <a:off x="569880" y="501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06" name="Freeform 457"/>
            <p:cNvSpPr/>
            <p:nvPr/>
          </p:nvSpPr>
          <p:spPr>
            <a:xfrm rot="248400">
              <a:off x="223560" y="2575080"/>
              <a:ext cx="4687920" cy="24256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8"/>
            <p:cNvSpPr/>
            <p:nvPr/>
          </p:nvSpPr>
          <p:spPr>
            <a:xfrm rot="248400">
              <a:off x="4480560" y="4739400"/>
              <a:ext cx="113760" cy="59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9"/>
            <p:cNvSpPr/>
            <p:nvPr/>
          </p:nvSpPr>
          <p:spPr>
            <a:xfrm rot="248400">
              <a:off x="2436480" y="2846160"/>
              <a:ext cx="72000" cy="817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0"/>
            <p:cNvSpPr/>
            <p:nvPr/>
          </p:nvSpPr>
          <p:spPr>
            <a:xfrm rot="248400">
              <a:off x="2255400" y="2988720"/>
              <a:ext cx="86040" cy="694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1"/>
            <p:cNvSpPr/>
            <p:nvPr/>
          </p:nvSpPr>
          <p:spPr>
            <a:xfrm rot="248400">
              <a:off x="2376720" y="3142800"/>
              <a:ext cx="91440" cy="763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2"/>
            <p:cNvSpPr/>
            <p:nvPr/>
          </p:nvSpPr>
          <p:spPr>
            <a:xfrm rot="248400">
              <a:off x="1999800" y="2977560"/>
              <a:ext cx="98640" cy="748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63"/>
            <p:cNvSpPr/>
            <p:nvPr/>
          </p:nvSpPr>
          <p:spPr>
            <a:xfrm rot="248400">
              <a:off x="1816560" y="2581560"/>
              <a:ext cx="79200" cy="9864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4"/>
            <p:cNvSpPr/>
            <p:nvPr/>
          </p:nvSpPr>
          <p:spPr>
            <a:xfrm rot="248400">
              <a:off x="2834280" y="3370680"/>
              <a:ext cx="79200" cy="622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5"/>
            <p:cNvSpPr/>
            <p:nvPr/>
          </p:nvSpPr>
          <p:spPr>
            <a:xfrm rot="248400">
              <a:off x="2894040" y="3272040"/>
              <a:ext cx="91440" cy="763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6"/>
            <p:cNvSpPr/>
            <p:nvPr/>
          </p:nvSpPr>
          <p:spPr>
            <a:xfrm rot="248400">
              <a:off x="3717000" y="4128840"/>
              <a:ext cx="72000" cy="694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67"/>
            <p:cNvSpPr/>
            <p:nvPr/>
          </p:nvSpPr>
          <p:spPr>
            <a:xfrm rot="248400">
              <a:off x="3783240" y="4042080"/>
              <a:ext cx="87480" cy="720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8"/>
            <p:cNvSpPr/>
            <p:nvPr/>
          </p:nvSpPr>
          <p:spPr>
            <a:xfrm rot="248400">
              <a:off x="3192840" y="3592800"/>
              <a:ext cx="65160" cy="694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69"/>
            <p:cNvSpPr/>
            <p:nvPr/>
          </p:nvSpPr>
          <p:spPr>
            <a:xfrm rot="248400">
              <a:off x="3434760" y="3571200"/>
              <a:ext cx="72000" cy="889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70"/>
            <p:cNvSpPr/>
            <p:nvPr/>
          </p:nvSpPr>
          <p:spPr>
            <a:xfrm rot="248400">
              <a:off x="3586680" y="3457440"/>
              <a:ext cx="76320" cy="928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1"/>
            <p:cNvSpPr/>
            <p:nvPr/>
          </p:nvSpPr>
          <p:spPr>
            <a:xfrm rot="248400">
              <a:off x="3831120" y="3827880"/>
              <a:ext cx="88920" cy="763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72"/>
            <p:cNvSpPr/>
            <p:nvPr/>
          </p:nvSpPr>
          <p:spPr>
            <a:xfrm rot="248400">
              <a:off x="4216320" y="4235040"/>
              <a:ext cx="77760" cy="918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3"/>
            <p:cNvSpPr/>
            <p:nvPr/>
          </p:nvSpPr>
          <p:spPr>
            <a:xfrm rot="248400">
              <a:off x="4107600" y="4236480"/>
              <a:ext cx="72000" cy="846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4"/>
            <p:cNvSpPr/>
            <p:nvPr/>
          </p:nvSpPr>
          <p:spPr>
            <a:xfrm rot="248400">
              <a:off x="4556880" y="4411440"/>
              <a:ext cx="65160" cy="720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5"/>
            <p:cNvSpPr/>
            <p:nvPr/>
          </p:nvSpPr>
          <p:spPr>
            <a:xfrm rot="248400">
              <a:off x="4605480" y="4507560"/>
              <a:ext cx="84600" cy="6804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6"/>
            <p:cNvSpPr/>
            <p:nvPr/>
          </p:nvSpPr>
          <p:spPr>
            <a:xfrm rot="248400">
              <a:off x="3911040" y="4365000"/>
              <a:ext cx="81720" cy="612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7"/>
            <p:cNvSpPr/>
            <p:nvPr/>
          </p:nvSpPr>
          <p:spPr>
            <a:xfrm rot="248400">
              <a:off x="2854800" y="2953800"/>
              <a:ext cx="74880" cy="622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8"/>
            <p:cNvSpPr/>
            <p:nvPr/>
          </p:nvSpPr>
          <p:spPr>
            <a:xfrm rot="248400">
              <a:off x="2690280" y="2847600"/>
              <a:ext cx="62280" cy="792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9"/>
            <p:cNvSpPr/>
            <p:nvPr/>
          </p:nvSpPr>
          <p:spPr>
            <a:xfrm rot="248400">
              <a:off x="379080" y="2754360"/>
              <a:ext cx="101160" cy="8604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0"/>
            <p:cNvSpPr/>
            <p:nvPr/>
          </p:nvSpPr>
          <p:spPr>
            <a:xfrm rot="248400">
              <a:off x="3436560" y="3798360"/>
              <a:ext cx="393120" cy="407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1"/>
            <p:cNvSpPr/>
            <p:nvPr/>
          </p:nvSpPr>
          <p:spPr>
            <a:xfrm rot="248400">
              <a:off x="3127680" y="3381120"/>
              <a:ext cx="873000" cy="7106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2"/>
            <p:cNvSpPr/>
            <p:nvPr/>
          </p:nvSpPr>
          <p:spPr>
            <a:xfrm rot="248400">
              <a:off x="4384080" y="4217040"/>
              <a:ext cx="416880" cy="815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83"/>
            <p:cNvSpPr/>
            <p:nvPr/>
          </p:nvSpPr>
          <p:spPr>
            <a:xfrm rot="248400">
              <a:off x="2188440" y="2774880"/>
              <a:ext cx="925560" cy="5716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4"/>
            <p:cNvSpPr/>
            <p:nvPr/>
          </p:nvSpPr>
          <p:spPr>
            <a:xfrm rot="248400">
              <a:off x="2312640" y="3018600"/>
              <a:ext cx="525240" cy="2599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5"/>
            <p:cNvSpPr/>
            <p:nvPr/>
          </p:nvSpPr>
          <p:spPr>
            <a:xfrm rot="248400">
              <a:off x="4066200" y="4379040"/>
              <a:ext cx="532440" cy="3060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86"/>
            <p:cNvSpPr/>
            <p:nvPr/>
          </p:nvSpPr>
          <p:spPr>
            <a:xfrm rot="248400">
              <a:off x="3166920" y="3533040"/>
              <a:ext cx="531000" cy="3031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7"/>
            <p:cNvSpPr/>
            <p:nvPr/>
          </p:nvSpPr>
          <p:spPr>
            <a:xfrm rot="248400">
              <a:off x="1329840" y="2573640"/>
              <a:ext cx="821520" cy="3808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8"/>
            <p:cNvSpPr/>
            <p:nvPr/>
          </p:nvSpPr>
          <p:spPr>
            <a:xfrm rot="248400">
              <a:off x="1446480" y="2772360"/>
              <a:ext cx="458640" cy="1486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9"/>
            <p:cNvSpPr/>
            <p:nvPr/>
          </p:nvSpPr>
          <p:spPr>
            <a:xfrm rot="248400">
              <a:off x="320400" y="2484720"/>
              <a:ext cx="932760" cy="4629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0"/>
            <p:cNvSpPr/>
            <p:nvPr/>
          </p:nvSpPr>
          <p:spPr>
            <a:xfrm rot="248400">
              <a:off x="587520" y="2736000"/>
              <a:ext cx="515520" cy="187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8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42" name="Freeform 28"/>
            <p:cNvSpPr/>
            <p:nvPr/>
          </p:nvSpPr>
          <p:spPr>
            <a:xfrm rot="17787600">
              <a:off x="54720" y="195480"/>
              <a:ext cx="517320" cy="5482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rot="17787600">
              <a:off x="79560" y="234720"/>
              <a:ext cx="438480" cy="44496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 rot="17787600">
              <a:off x="302040" y="335160"/>
              <a:ext cx="72360" cy="3096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 rot="17787600">
              <a:off x="241920" y="492480"/>
              <a:ext cx="140400" cy="150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 rot="17787600">
              <a:off x="372600" y="591120"/>
              <a:ext cx="122400" cy="42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 rot="17787600">
              <a:off x="337680" y="349920"/>
              <a:ext cx="171720" cy="1152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4"/>
            <p:cNvSpPr/>
            <p:nvPr/>
          </p:nvSpPr>
          <p:spPr>
            <a:xfrm rot="17787600">
              <a:off x="426240" y="437040"/>
              <a:ext cx="165600" cy="522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5"/>
            <p:cNvSpPr/>
            <p:nvPr/>
          </p:nvSpPr>
          <p:spPr>
            <a:xfrm rot="17787600">
              <a:off x="492480" y="566280"/>
              <a:ext cx="82800" cy="10584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500"/>
          <p:cNvSpPr/>
          <p:nvPr/>
        </p:nvSpPr>
        <p:spPr>
          <a:xfrm>
            <a:off x="3284640" y="4664160"/>
            <a:ext cx="8902440" cy="219384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8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52" name="Freeform 36"/>
            <p:cNvSpPr/>
            <p:nvPr/>
          </p:nvSpPr>
          <p:spPr>
            <a:xfrm rot="20399400">
              <a:off x="11876760" y="514800"/>
              <a:ext cx="133200" cy="20412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 rot="20399400">
              <a:off x="11434320" y="6120"/>
              <a:ext cx="677880" cy="64512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 rot="20399400">
              <a:off x="11478960" y="63360"/>
              <a:ext cx="573120" cy="59976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 rot="20399400">
              <a:off x="11688840" y="185400"/>
              <a:ext cx="187920" cy="38052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 rot="20399400">
              <a:off x="11834640" y="177480"/>
              <a:ext cx="111960" cy="2484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 rot="20399400">
              <a:off x="11912400" y="387000"/>
              <a:ext cx="143640" cy="900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 rot="20399400">
              <a:off x="11740320" y="544320"/>
              <a:ext cx="156960" cy="522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 rot="20399400">
              <a:off x="11588040" y="457200"/>
              <a:ext cx="264600" cy="9792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413"/>
          <p:cNvSpPr/>
          <p:nvPr/>
        </p:nvSpPr>
        <p:spPr>
          <a:xfrm>
            <a:off x="-20520" y="3006720"/>
            <a:ext cx="12185640" cy="3851280"/>
          </a:xfrm>
          <a:prstGeom prst="pie">
            <a:avLst/>
          </a:pr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14"/>
          <p:cNvSpPr/>
          <p:nvPr/>
        </p:nvSpPr>
        <p:spPr>
          <a:xfrm>
            <a:off x="-20520" y="3324240"/>
            <a:ext cx="12185640" cy="338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9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163" name="Freeform 6"/>
            <p:cNvSpPr/>
            <p:nvPr/>
          </p:nvSpPr>
          <p:spPr>
            <a:xfrm>
              <a:off x="21240" y="2488680"/>
              <a:ext cx="95040" cy="104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3360" y="2534760"/>
              <a:ext cx="129600" cy="817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48680" y="2601000"/>
              <a:ext cx="79560" cy="25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3240" y="2674800"/>
              <a:ext cx="261720" cy="2214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1778760" y="1919880"/>
              <a:ext cx="100440" cy="244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0" y="1430640"/>
              <a:ext cx="1790280" cy="17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484200" y="1552680"/>
              <a:ext cx="626400" cy="1872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0" y="1571760"/>
              <a:ext cx="1834920" cy="16236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748440" y="1004760"/>
              <a:ext cx="65880" cy="63720"/>
            </a:xfrm>
            <a:prstGeom prst="pie">
              <a:avLst/>
            </a:pr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676800" y="1010520"/>
              <a:ext cx="306360" cy="33804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705960" y="1232280"/>
              <a:ext cx="277200" cy="122040"/>
            </a:xfrm>
            <a:prstGeom prst="pie">
              <a:avLst/>
            </a:pr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19720" y="1264680"/>
              <a:ext cx="75960" cy="41400"/>
            </a:xfrm>
            <a:prstGeom prst="pie">
              <a:avLst/>
            </a:pr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462960" y="853920"/>
              <a:ext cx="676800" cy="653760"/>
            </a:xfrm>
            <a:prstGeom prst="pie">
              <a:avLst/>
            </a:pr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15520" y="2476800"/>
              <a:ext cx="562680" cy="647280"/>
            </a:xfrm>
            <a:prstGeom prst="pie">
              <a:avLst/>
            </a:pr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777600" y="2478960"/>
              <a:ext cx="36720" cy="644760"/>
            </a:xfrm>
            <a:prstGeom prst="pie">
              <a:avLst/>
            </a:pr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06200" y="1928880"/>
              <a:ext cx="399240" cy="398520"/>
            </a:xfrm>
            <a:prstGeom prst="pie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83960" y="1928880"/>
              <a:ext cx="397080" cy="398520"/>
            </a:xfrm>
            <a:prstGeom prst="pie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0" y="1404720"/>
              <a:ext cx="1829160" cy="536040"/>
            </a:xfrm>
            <a:prstGeom prst="pie">
              <a:avLst/>
            </a:pr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529200" y="3124080"/>
              <a:ext cx="549000" cy="12960"/>
            </a:xfrm>
            <a:prstGeom prst="pie">
              <a:avLst/>
            </a:pr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9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183" name="Freeform 34"/>
            <p:cNvSpPr/>
            <p:nvPr/>
          </p:nvSpPr>
          <p:spPr>
            <a:xfrm>
              <a:off x="1714680" y="4543560"/>
              <a:ext cx="1872720" cy="183132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2123640" y="5299920"/>
              <a:ext cx="1116360" cy="156672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2099520" y="4736160"/>
              <a:ext cx="1184040" cy="3808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1810080" y="5069880"/>
              <a:ext cx="605520" cy="13122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2757240" y="5051880"/>
              <a:ext cx="778680" cy="13226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5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189" name="Freeform 44"/>
            <p:cNvSpPr/>
            <p:nvPr/>
          </p:nvSpPr>
          <p:spPr>
            <a:xfrm>
              <a:off x="1787760" y="6097680"/>
              <a:ext cx="374400" cy="139680"/>
            </a:xfrm>
            <a:prstGeom prst="pie">
              <a:avLst/>
            </a:pr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1168560" y="5010120"/>
              <a:ext cx="1496880" cy="146376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1492560" y="5614920"/>
              <a:ext cx="895320" cy="125244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1424160" y="5164200"/>
              <a:ext cx="941400" cy="304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117880" y="5430960"/>
              <a:ext cx="487440" cy="1049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1225800" y="5416560"/>
              <a:ext cx="617400" cy="10573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2"/>
          <p:cNvGrpSpPr/>
          <p:nvPr/>
        </p:nvGrpSpPr>
        <p:grpSpPr>
          <a:xfrm>
            <a:off x="-20520" y="4349880"/>
            <a:ext cx="1695240" cy="2519280"/>
            <a:chOff x="-20520" y="4349880"/>
            <a:chExt cx="1695240" cy="2519280"/>
          </a:xfrm>
        </p:grpSpPr>
        <p:sp>
          <p:nvSpPr>
            <p:cNvPr id="196" name="Freeform 34"/>
            <p:cNvSpPr/>
            <p:nvPr/>
          </p:nvSpPr>
          <p:spPr>
            <a:xfrm>
              <a:off x="-18360" y="4440600"/>
              <a:ext cx="1613880" cy="18208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7560" y="5016600"/>
              <a:ext cx="1317960" cy="185256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-20520" y="4349880"/>
              <a:ext cx="1397520" cy="4507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55640" y="4723200"/>
              <a:ext cx="919080" cy="15638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7"/>
          <p:cNvGrpSpPr/>
          <p:nvPr/>
        </p:nvGrpSpPr>
        <p:grpSpPr>
          <a:xfrm>
            <a:off x="2705040" y="4560840"/>
            <a:ext cx="1850760" cy="2296440"/>
            <a:chOff x="2705040" y="4560840"/>
            <a:chExt cx="1850760" cy="2296440"/>
          </a:xfrm>
        </p:grpSpPr>
        <p:sp>
          <p:nvSpPr>
            <p:cNvPr id="201" name="Freeform 44"/>
            <p:cNvSpPr/>
            <p:nvPr/>
          </p:nvSpPr>
          <p:spPr>
            <a:xfrm>
              <a:off x="3470400" y="5905800"/>
              <a:ext cx="462960" cy="172440"/>
            </a:xfrm>
            <a:prstGeom prst="pie">
              <a:avLst/>
            </a:pr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"/>
            <p:cNvSpPr/>
            <p:nvPr/>
          </p:nvSpPr>
          <p:spPr>
            <a:xfrm>
              <a:off x="2705040" y="4560840"/>
              <a:ext cx="1850760" cy="1810080"/>
            </a:xfrm>
            <a:prstGeom prst="pie">
              <a:avLst/>
            </a:pr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6"/>
            <p:cNvSpPr/>
            <p:nvPr/>
          </p:nvSpPr>
          <p:spPr>
            <a:xfrm>
              <a:off x="3105360" y="5308560"/>
              <a:ext cx="1107000" cy="154872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7"/>
            <p:cNvSpPr/>
            <p:nvPr/>
          </p:nvSpPr>
          <p:spPr>
            <a:xfrm>
              <a:off x="3020760" y="4751280"/>
              <a:ext cx="1163880" cy="376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>
              <a:off x="3878640" y="5081040"/>
              <a:ext cx="602640" cy="12974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2775600" y="5063400"/>
              <a:ext cx="763200" cy="1307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4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0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 rot="375600">
              <a:off x="11234880" y="2966760"/>
              <a:ext cx="873000" cy="88740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 rot="375600">
              <a:off x="11564280" y="3198240"/>
              <a:ext cx="144000" cy="617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 rot="375600">
              <a:off x="11332800" y="3362040"/>
              <a:ext cx="279360" cy="2991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 rot="375600">
              <a:off x="11352600" y="3727800"/>
              <a:ext cx="244080" cy="838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 rot="375600">
              <a:off x="11677680" y="3493800"/>
              <a:ext cx="342360" cy="230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rot="375600">
              <a:off x="11638440" y="3755880"/>
              <a:ext cx="329760" cy="1044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 rot="375600">
              <a:off x="11446920" y="3856680"/>
              <a:ext cx="165240" cy="21132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8"/>
          <p:cNvSpPr/>
          <p:nvPr/>
        </p:nvSpPr>
        <p:spPr>
          <a:xfrm>
            <a:off x="4041720" y="5351400"/>
            <a:ext cx="349200" cy="223920"/>
          </a:xfrm>
          <a:prstGeom prst="pie">
            <a:avLst/>
          </a:pr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5"/>
          <p:cNvSpPr/>
          <p:nvPr/>
        </p:nvSpPr>
        <p:spPr>
          <a:xfrm>
            <a:off x="-25560" y="3533760"/>
            <a:ext cx="12136680" cy="3030480"/>
          </a:xfrm>
          <a:prstGeom prst="pie">
            <a:avLst/>
          </a:prstGeom>
          <a:noFill/>
          <a:ln w="38160">
            <a:solidFill>
              <a:srgbClr val="f9d43b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5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19" name="Freeform 324"/>
            <p:cNvSpPr/>
            <p:nvPr/>
          </p:nvSpPr>
          <p:spPr>
            <a:xfrm rot="1563600">
              <a:off x="2666880" y="3684240"/>
              <a:ext cx="637200" cy="57204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6"/>
            <p:cNvSpPr/>
            <p:nvPr/>
          </p:nvSpPr>
          <p:spPr>
            <a:xfrm rot="1563600">
              <a:off x="2751480" y="3190680"/>
              <a:ext cx="291960" cy="446400"/>
            </a:xfrm>
            <a:prstGeom prst="pie">
              <a:avLst/>
            </a:pr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prstGeom prst="pie">
              <a:avLst/>
            </a:pr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8"/>
            <p:cNvSpPr/>
            <p:nvPr/>
          </p:nvSpPr>
          <p:spPr>
            <a:xfrm rot="1563600">
              <a:off x="1687320" y="2748600"/>
              <a:ext cx="44640" cy="43776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9"/>
            <p:cNvSpPr/>
            <p:nvPr/>
          </p:nvSpPr>
          <p:spPr>
            <a:xfrm rot="1563600">
              <a:off x="1954080" y="2841480"/>
              <a:ext cx="39240" cy="43452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0"/>
            <p:cNvSpPr/>
            <p:nvPr/>
          </p:nvSpPr>
          <p:spPr>
            <a:xfrm rot="1563600">
              <a:off x="2189520" y="2923200"/>
              <a:ext cx="44640" cy="43776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1"/>
            <p:cNvSpPr/>
            <p:nvPr/>
          </p:nvSpPr>
          <p:spPr>
            <a:xfrm rot="1563600">
              <a:off x="1355400" y="3426480"/>
              <a:ext cx="489600" cy="489600"/>
            </a:xfrm>
            <a:prstGeom prst="pie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2"/>
            <p:cNvSpPr/>
            <p:nvPr/>
          </p:nvSpPr>
          <p:spPr>
            <a:xfrm rot="1563600">
              <a:off x="2453040" y="3900960"/>
              <a:ext cx="491400" cy="494640"/>
            </a:xfrm>
            <a:prstGeom prst="pie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3"/>
            <p:cNvSpPr/>
            <p:nvPr/>
          </p:nvSpPr>
          <p:spPr>
            <a:xfrm rot="1563600">
              <a:off x="1371240" y="3075840"/>
              <a:ext cx="255960" cy="306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4"/>
            <p:cNvSpPr/>
            <p:nvPr/>
          </p:nvSpPr>
          <p:spPr>
            <a:xfrm rot="1563600">
              <a:off x="1635480" y="3173400"/>
              <a:ext cx="261000" cy="324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5"/>
            <p:cNvSpPr/>
            <p:nvPr/>
          </p:nvSpPr>
          <p:spPr>
            <a:xfrm rot="1563600">
              <a:off x="1897560" y="3265920"/>
              <a:ext cx="238680" cy="273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6"/>
            <p:cNvSpPr/>
            <p:nvPr/>
          </p:nvSpPr>
          <p:spPr>
            <a:xfrm rot="1563600">
              <a:off x="2129400" y="3354480"/>
              <a:ext cx="267840" cy="360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7"/>
            <p:cNvSpPr/>
            <p:nvPr/>
          </p:nvSpPr>
          <p:spPr>
            <a:xfrm rot="1563600">
              <a:off x="2440080" y="3044160"/>
              <a:ext cx="2916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8"/>
            <p:cNvSpPr/>
            <p:nvPr/>
          </p:nvSpPr>
          <p:spPr>
            <a:xfrm rot="1563600">
              <a:off x="2179800" y="2940480"/>
              <a:ext cx="3240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9"/>
            <p:cNvSpPr/>
            <p:nvPr/>
          </p:nvSpPr>
          <p:spPr>
            <a:xfrm rot="1563600">
              <a:off x="1943640" y="2851920"/>
              <a:ext cx="3240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0"/>
            <p:cNvSpPr/>
            <p:nvPr/>
          </p:nvSpPr>
          <p:spPr>
            <a:xfrm rot="1563600">
              <a:off x="1677960" y="2757960"/>
              <a:ext cx="3240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1"/>
            <p:cNvSpPr/>
            <p:nvPr/>
          </p:nvSpPr>
          <p:spPr>
            <a:xfrm rot="1563600">
              <a:off x="2697840" y="3616560"/>
              <a:ext cx="274680" cy="360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prstGeom prst="pie">
              <a:avLst/>
            </a:pr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3"/>
            <p:cNvSpPr/>
            <p:nvPr/>
          </p:nvSpPr>
          <p:spPr>
            <a:xfrm rot="1563600">
              <a:off x="2533320" y="3831120"/>
              <a:ext cx="786600" cy="101160"/>
            </a:xfrm>
            <a:prstGeom prst="pie">
              <a:avLst/>
            </a:pr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4"/>
            <p:cNvSpPr/>
            <p:nvPr/>
          </p:nvSpPr>
          <p:spPr>
            <a:xfrm rot="1563600">
              <a:off x="1211040" y="3353760"/>
              <a:ext cx="1209600" cy="7704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5"/>
            <p:cNvSpPr/>
            <p:nvPr/>
          </p:nvSpPr>
          <p:spPr>
            <a:xfrm rot="1563600">
              <a:off x="1293840" y="2648160"/>
              <a:ext cx="725040" cy="87264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6"/>
            <p:cNvSpPr/>
            <p:nvPr/>
          </p:nvSpPr>
          <p:spPr>
            <a:xfrm rot="1563600">
              <a:off x="2535120" y="3866040"/>
              <a:ext cx="774720" cy="3600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7"/>
            <p:cNvSpPr/>
            <p:nvPr/>
          </p:nvSpPr>
          <p:spPr>
            <a:xfrm rot="1563600">
              <a:off x="2373840" y="3073320"/>
              <a:ext cx="283320" cy="9705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8"/>
            <p:cNvSpPr/>
            <p:nvPr/>
          </p:nvSpPr>
          <p:spPr>
            <a:xfrm rot="1563600">
              <a:off x="2891160" y="3755880"/>
              <a:ext cx="438120" cy="45864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9"/>
            <p:cNvSpPr/>
            <p:nvPr/>
          </p:nvSpPr>
          <p:spPr>
            <a:xfrm rot="1563600">
              <a:off x="3175560" y="3826800"/>
              <a:ext cx="154440" cy="145800"/>
            </a:xfrm>
            <a:prstGeom prst="pie">
              <a:avLst/>
            </a:pr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32"/>
            <p:cNvSpPr/>
            <p:nvPr/>
          </p:nvSpPr>
          <p:spPr>
            <a:xfrm rot="1563600">
              <a:off x="2574000" y="4020480"/>
              <a:ext cx="250560" cy="252360"/>
            </a:xfrm>
            <a:prstGeom prst="pi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2"/>
            <p:cNvSpPr/>
            <p:nvPr/>
          </p:nvSpPr>
          <p:spPr>
            <a:xfrm rot="1563600">
              <a:off x="1469160" y="3547440"/>
              <a:ext cx="250560" cy="252360"/>
            </a:xfrm>
            <a:prstGeom prst="pi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4"/>
          <p:cNvGrpSpPr/>
          <p:nvPr/>
        </p:nvGrpSpPr>
        <p:grpSpPr>
          <a:xfrm>
            <a:off x="9169560" y="4138560"/>
            <a:ext cx="3022200" cy="2719080"/>
            <a:chOff x="9169560" y="4138560"/>
            <a:chExt cx="3022200" cy="2719080"/>
          </a:xfrm>
        </p:grpSpPr>
        <p:sp>
          <p:nvSpPr>
            <p:cNvPr id="248" name="Freeform 6"/>
            <p:cNvSpPr/>
            <p:nvPr/>
          </p:nvSpPr>
          <p:spPr>
            <a:xfrm>
              <a:off x="12116880" y="5816160"/>
              <a:ext cx="74880" cy="60120"/>
            </a:xfrm>
            <a:prstGeom prst="pie">
              <a:avLst/>
            </a:pr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9915840" y="4529160"/>
              <a:ext cx="1060560" cy="1319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10417680" y="4656240"/>
              <a:ext cx="434880" cy="315720"/>
            </a:xfrm>
            <a:prstGeom prst="pie">
              <a:avLst/>
            </a:pr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10040040" y="4810320"/>
              <a:ext cx="1071720" cy="93708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10023840" y="4878720"/>
              <a:ext cx="330480" cy="77976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10343160" y="4961160"/>
              <a:ext cx="131760" cy="65916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0692720" y="4138560"/>
              <a:ext cx="1495800" cy="18648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10762560" y="4465440"/>
              <a:ext cx="1425960" cy="155340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10781640" y="4584600"/>
              <a:ext cx="514440" cy="119772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1048400" y="4708800"/>
              <a:ext cx="322200" cy="104328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1783520" y="4716720"/>
              <a:ext cx="209520" cy="10994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11298960" y="4300560"/>
              <a:ext cx="570240" cy="363600"/>
            </a:xfrm>
            <a:prstGeom prst="pie">
              <a:avLst/>
            </a:pr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1427840" y="4300560"/>
              <a:ext cx="482400" cy="404640"/>
            </a:xfrm>
            <a:prstGeom prst="pie">
              <a:avLst/>
            </a:pr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9169560" y="4859640"/>
              <a:ext cx="3018960" cy="19980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9180720" y="5383800"/>
              <a:ext cx="3007800" cy="147384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10279440" y="4942080"/>
              <a:ext cx="1683720" cy="933840"/>
            </a:xfrm>
            <a:prstGeom prst="pie">
              <a:avLst/>
            </a:pr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9318960" y="5650560"/>
              <a:ext cx="803520" cy="12070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11202120" y="4967640"/>
              <a:ext cx="146160" cy="52524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0279440" y="5380560"/>
              <a:ext cx="719280" cy="23652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10365480" y="5920920"/>
              <a:ext cx="409320" cy="9367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10309680" y="5895360"/>
              <a:ext cx="513000" cy="9622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11794680" y="5977800"/>
              <a:ext cx="393840" cy="8798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11742480" y="5950800"/>
              <a:ext cx="446040" cy="90684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10935720" y="5031000"/>
              <a:ext cx="79200" cy="39852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69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27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prstGeom prst="pie">
              <a:avLst/>
            </a:pr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81280" y="958680"/>
            <a:ext cx="93614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mbria"/>
              </a:rPr>
              <a:t>开往秋天的大巴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mbria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starts, attendance 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 and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y hall (W), library book checkout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mbria"/>
              </a:rPr>
              <a:t>This is a typical day in our classroom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respectful and responsib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organized and follow direc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prepa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Add a book lis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92"/>
          <p:cNvSpPr/>
          <p:nvPr/>
        </p:nvSpPr>
        <p:spPr>
          <a:xfrm>
            <a:off x="8643960" y="3889440"/>
            <a:ext cx="212760" cy="1000080"/>
          </a:xfrm>
          <a:prstGeom prst="pie">
            <a:avLst/>
          </a:pr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>
            <a:off x="6780240" y="4191120"/>
            <a:ext cx="5410080" cy="266688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1"/>
          <p:cNvSpPr/>
          <p:nvPr/>
        </p:nvSpPr>
        <p:spPr>
          <a:xfrm>
            <a:off x="0" y="4572000"/>
            <a:ext cx="11415600" cy="2286000"/>
          </a:xfrm>
          <a:prstGeom prst="pie">
            <a:avLst/>
          </a:pr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295" name="Freeform 70"/>
            <p:cNvSpPr/>
            <p:nvPr/>
          </p:nvSpPr>
          <p:spPr>
            <a:xfrm flipH="1">
              <a:off x="10301400" y="1225800"/>
              <a:ext cx="29880" cy="1400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10350000" y="1977840"/>
              <a:ext cx="167400" cy="25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10131480" y="175932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10350000" y="2282760"/>
              <a:ext cx="167400" cy="262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10131480" y="20660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10131480" y="2410560"/>
              <a:ext cx="167400" cy="2617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10350000" y="1633680"/>
              <a:ext cx="167400" cy="263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10131480" y="141732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10350000" y="13046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10325160" y="105840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10131480" y="108828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10965600" y="1218240"/>
              <a:ext cx="21600" cy="1090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11001600" y="1803240"/>
              <a:ext cx="13104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10832040" y="163368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11001600" y="20412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10832040" y="1871640"/>
              <a:ext cx="12780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10832040" y="213984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11001600" y="153792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10832040" y="136836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11001600" y="12798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11001600" y="104184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10832040" y="1113480"/>
              <a:ext cx="127800" cy="200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10792800" y="2543400"/>
              <a:ext cx="274320" cy="129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10130760" y="2147040"/>
              <a:ext cx="393120" cy="1857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10729080" y="3754080"/>
              <a:ext cx="37332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10707120" y="3825000"/>
              <a:ext cx="317160" cy="540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10485720" y="1103040"/>
              <a:ext cx="241200" cy="4615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10498320" y="1115640"/>
              <a:ext cx="122400" cy="385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10447200" y="2540520"/>
              <a:ext cx="26208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10458720" y="254988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10464120" y="3849840"/>
              <a:ext cx="26496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10478520" y="385920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10754280" y="2302200"/>
              <a:ext cx="264960" cy="515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10874160" y="2311560"/>
              <a:ext cx="132120" cy="434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10719360" y="3075840"/>
              <a:ext cx="37044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10350360" y="265068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10380240" y="3274560"/>
              <a:ext cx="370440" cy="58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10380240" y="3933000"/>
              <a:ext cx="3661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10736280" y="2380320"/>
              <a:ext cx="371160" cy="57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10335960" y="1896840"/>
              <a:ext cx="369360" cy="579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10736280" y="164376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10751040" y="958680"/>
              <a:ext cx="3733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10402200" y="1220400"/>
              <a:ext cx="334080" cy="520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10387440" y="2650680"/>
              <a:ext cx="312120" cy="572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10369800" y="1916280"/>
              <a:ext cx="312120" cy="5720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10436400" y="1229040"/>
              <a:ext cx="279720" cy="51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6"/>
            <p:cNvSpPr/>
            <p:nvPr/>
          </p:nvSpPr>
          <p:spPr>
            <a:xfrm flipH="1">
              <a:off x="10754280" y="996840"/>
              <a:ext cx="331920" cy="55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7"/>
            <p:cNvSpPr/>
            <p:nvPr/>
          </p:nvSpPr>
          <p:spPr>
            <a:xfrm flipH="1">
              <a:off x="10739520" y="1665720"/>
              <a:ext cx="331920" cy="54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8"/>
            <p:cNvSpPr/>
            <p:nvPr/>
          </p:nvSpPr>
          <p:spPr>
            <a:xfrm flipH="1">
              <a:off x="10743480" y="2403000"/>
              <a:ext cx="31716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9"/>
            <p:cNvSpPr/>
            <p:nvPr/>
          </p:nvSpPr>
          <p:spPr>
            <a:xfrm flipH="1">
              <a:off x="10736280" y="3081240"/>
              <a:ext cx="32220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0"/>
            <p:cNvSpPr/>
            <p:nvPr/>
          </p:nvSpPr>
          <p:spPr>
            <a:xfrm flipH="1">
              <a:off x="10416600" y="324756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1"/>
            <p:cNvSpPr/>
            <p:nvPr/>
          </p:nvSpPr>
          <p:spPr>
            <a:xfrm flipH="1">
              <a:off x="10416600" y="392580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2"/>
            <p:cNvSpPr/>
            <p:nvPr/>
          </p:nvSpPr>
          <p:spPr>
            <a:xfrm flipH="1">
              <a:off x="10693080" y="1494000"/>
              <a:ext cx="70560" cy="30556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3"/>
            <p:cNvSpPr/>
            <p:nvPr/>
          </p:nvSpPr>
          <p:spPr>
            <a:xfrm flipH="1">
              <a:off x="10055880" y="2044440"/>
              <a:ext cx="201600" cy="399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"/>
            <p:cNvSpPr/>
            <p:nvPr/>
          </p:nvSpPr>
          <p:spPr>
            <a:xfrm flipH="1">
              <a:off x="10144800" y="2057040"/>
              <a:ext cx="105840" cy="330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"/>
            <p:cNvSpPr/>
            <p:nvPr/>
          </p:nvSpPr>
          <p:spPr>
            <a:xfrm flipH="1">
              <a:off x="10050480" y="3296520"/>
              <a:ext cx="228600" cy="4431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6"/>
            <p:cNvSpPr/>
            <p:nvPr/>
          </p:nvSpPr>
          <p:spPr>
            <a:xfrm flipH="1">
              <a:off x="10153440" y="3304800"/>
              <a:ext cx="115560" cy="3733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7"/>
            <p:cNvSpPr/>
            <p:nvPr/>
          </p:nvSpPr>
          <p:spPr>
            <a:xfrm flipH="1">
              <a:off x="10038240" y="4400280"/>
              <a:ext cx="230760" cy="444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8"/>
            <p:cNvSpPr/>
            <p:nvPr/>
          </p:nvSpPr>
          <p:spPr>
            <a:xfrm flipH="1">
              <a:off x="10142280" y="4412520"/>
              <a:ext cx="110160" cy="367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9"/>
            <p:cNvSpPr/>
            <p:nvPr/>
          </p:nvSpPr>
          <p:spPr>
            <a:xfrm flipH="1">
              <a:off x="9814320" y="3126960"/>
              <a:ext cx="226440" cy="4503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0"/>
            <p:cNvSpPr/>
            <p:nvPr/>
          </p:nvSpPr>
          <p:spPr>
            <a:xfrm flipH="1">
              <a:off x="9825120" y="3139560"/>
              <a:ext cx="115200" cy="369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1"/>
            <p:cNvSpPr/>
            <p:nvPr/>
          </p:nvSpPr>
          <p:spPr>
            <a:xfrm flipH="1">
              <a:off x="9741960" y="3786480"/>
              <a:ext cx="316080" cy="50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2"/>
            <p:cNvSpPr/>
            <p:nvPr/>
          </p:nvSpPr>
          <p:spPr>
            <a:xfrm flipH="1">
              <a:off x="10041120" y="3393360"/>
              <a:ext cx="317160" cy="496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3"/>
            <p:cNvSpPr/>
            <p:nvPr/>
          </p:nvSpPr>
          <p:spPr>
            <a:xfrm flipH="1">
              <a:off x="9731160" y="4446720"/>
              <a:ext cx="317160" cy="497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4"/>
            <p:cNvSpPr/>
            <p:nvPr/>
          </p:nvSpPr>
          <p:spPr>
            <a:xfrm flipH="1">
              <a:off x="10034280" y="3960000"/>
              <a:ext cx="31608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5"/>
            <p:cNvSpPr/>
            <p:nvPr/>
          </p:nvSpPr>
          <p:spPr>
            <a:xfrm flipH="1">
              <a:off x="10023480" y="4452120"/>
              <a:ext cx="31716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6"/>
            <p:cNvSpPr/>
            <p:nvPr/>
          </p:nvSpPr>
          <p:spPr>
            <a:xfrm flipH="1">
              <a:off x="9741960" y="3193560"/>
              <a:ext cx="31608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7"/>
            <p:cNvSpPr/>
            <p:nvPr/>
          </p:nvSpPr>
          <p:spPr>
            <a:xfrm flipH="1">
              <a:off x="10055880" y="2737080"/>
              <a:ext cx="317160" cy="503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8"/>
            <p:cNvSpPr/>
            <p:nvPr/>
          </p:nvSpPr>
          <p:spPr>
            <a:xfrm flipH="1">
              <a:off x="9741960" y="2530080"/>
              <a:ext cx="316080" cy="4971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9"/>
            <p:cNvSpPr/>
            <p:nvPr/>
          </p:nvSpPr>
          <p:spPr>
            <a:xfrm flipH="1">
              <a:off x="9743400" y="1972440"/>
              <a:ext cx="31932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0"/>
            <p:cNvSpPr/>
            <p:nvPr/>
          </p:nvSpPr>
          <p:spPr>
            <a:xfrm flipH="1">
              <a:off x="10046520" y="2149200"/>
              <a:ext cx="285120" cy="444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1"/>
            <p:cNvSpPr/>
            <p:nvPr/>
          </p:nvSpPr>
          <p:spPr>
            <a:xfrm flipH="1">
              <a:off x="10057680" y="3393360"/>
              <a:ext cx="270360" cy="492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42"/>
            <p:cNvSpPr/>
            <p:nvPr/>
          </p:nvSpPr>
          <p:spPr>
            <a:xfrm flipH="1">
              <a:off x="10076040" y="2753640"/>
              <a:ext cx="267120" cy="497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3"/>
            <p:cNvSpPr/>
            <p:nvPr/>
          </p:nvSpPr>
          <p:spPr>
            <a:xfrm flipH="1">
              <a:off x="10063080" y="2156760"/>
              <a:ext cx="237960" cy="437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4"/>
            <p:cNvSpPr/>
            <p:nvPr/>
          </p:nvSpPr>
          <p:spPr>
            <a:xfrm flipH="1">
              <a:off x="9775800" y="2002680"/>
              <a:ext cx="286920" cy="465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5"/>
            <p:cNvSpPr/>
            <p:nvPr/>
          </p:nvSpPr>
          <p:spPr>
            <a:xfrm flipH="1">
              <a:off x="9772920" y="2549880"/>
              <a:ext cx="285120" cy="466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6"/>
            <p:cNvSpPr/>
            <p:nvPr/>
          </p:nvSpPr>
          <p:spPr>
            <a:xfrm flipH="1">
              <a:off x="9775800" y="3216600"/>
              <a:ext cx="281880" cy="458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7"/>
            <p:cNvSpPr/>
            <p:nvPr/>
          </p:nvSpPr>
          <p:spPr>
            <a:xfrm flipH="1">
              <a:off x="9940320" y="3466080"/>
              <a:ext cx="1800" cy="2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8"/>
            <p:cNvSpPr/>
            <p:nvPr/>
          </p:nvSpPr>
          <p:spPr>
            <a:xfrm flipH="1">
              <a:off x="9770760" y="3790800"/>
              <a:ext cx="277560" cy="461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9"/>
            <p:cNvSpPr/>
            <p:nvPr/>
          </p:nvSpPr>
          <p:spPr>
            <a:xfrm flipH="1">
              <a:off x="9763200" y="4479120"/>
              <a:ext cx="277560" cy="45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0"/>
            <p:cNvSpPr/>
            <p:nvPr/>
          </p:nvSpPr>
          <p:spPr>
            <a:xfrm flipH="1">
              <a:off x="10048680" y="3936240"/>
              <a:ext cx="270360" cy="4906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1"/>
            <p:cNvSpPr/>
            <p:nvPr/>
          </p:nvSpPr>
          <p:spPr>
            <a:xfrm flipH="1">
              <a:off x="10041120" y="4466520"/>
              <a:ext cx="270360" cy="493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2"/>
            <p:cNvSpPr/>
            <p:nvPr/>
          </p:nvSpPr>
          <p:spPr>
            <a:xfrm flipH="1">
              <a:off x="10023840" y="2383200"/>
              <a:ext cx="61200" cy="257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379" name="Freeform 70"/>
            <p:cNvSpPr/>
            <p:nvPr/>
          </p:nvSpPr>
          <p:spPr>
            <a:xfrm>
              <a:off x="11532960" y="2608560"/>
              <a:ext cx="25200" cy="1171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1"/>
            <p:cNvSpPr/>
            <p:nvPr/>
          </p:nvSpPr>
          <p:spPr>
            <a:xfrm>
              <a:off x="11377440" y="3260880"/>
              <a:ext cx="139680" cy="215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2"/>
            <p:cNvSpPr/>
            <p:nvPr/>
          </p:nvSpPr>
          <p:spPr>
            <a:xfrm>
              <a:off x="11559960" y="307836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3"/>
            <p:cNvSpPr/>
            <p:nvPr/>
          </p:nvSpPr>
          <p:spPr>
            <a:xfrm>
              <a:off x="11377440" y="3515760"/>
              <a:ext cx="139680" cy="219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4"/>
            <p:cNvSpPr/>
            <p:nvPr/>
          </p:nvSpPr>
          <p:spPr>
            <a:xfrm>
              <a:off x="11674800" y="21736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5"/>
            <p:cNvSpPr/>
            <p:nvPr/>
          </p:nvSpPr>
          <p:spPr>
            <a:xfrm>
              <a:off x="11559960" y="3622680"/>
              <a:ext cx="139680" cy="2188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6"/>
            <p:cNvSpPr/>
            <p:nvPr/>
          </p:nvSpPr>
          <p:spPr>
            <a:xfrm>
              <a:off x="11377440" y="2973240"/>
              <a:ext cx="139680" cy="219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7"/>
            <p:cNvSpPr/>
            <p:nvPr/>
          </p:nvSpPr>
          <p:spPr>
            <a:xfrm>
              <a:off x="11559960" y="279216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8"/>
            <p:cNvSpPr/>
            <p:nvPr/>
          </p:nvSpPr>
          <p:spPr>
            <a:xfrm>
              <a:off x="11377440" y="269820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9"/>
            <p:cNvSpPr/>
            <p:nvPr/>
          </p:nvSpPr>
          <p:spPr>
            <a:xfrm>
              <a:off x="11377440" y="244080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0"/>
            <p:cNvSpPr/>
            <p:nvPr/>
          </p:nvSpPr>
          <p:spPr>
            <a:xfrm>
              <a:off x="11559960" y="25174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1"/>
            <p:cNvSpPr/>
            <p:nvPr/>
          </p:nvSpPr>
          <p:spPr>
            <a:xfrm>
              <a:off x="11100240" y="1464840"/>
              <a:ext cx="18000" cy="9122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2"/>
            <p:cNvSpPr/>
            <p:nvPr/>
          </p:nvSpPr>
          <p:spPr>
            <a:xfrm>
              <a:off x="10978200" y="1953720"/>
              <a:ext cx="10944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3"/>
            <p:cNvSpPr/>
            <p:nvPr/>
          </p:nvSpPr>
          <p:spPr>
            <a:xfrm>
              <a:off x="11122560" y="181188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4"/>
            <p:cNvSpPr/>
            <p:nvPr/>
          </p:nvSpPr>
          <p:spPr>
            <a:xfrm>
              <a:off x="10978200" y="21531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5"/>
            <p:cNvSpPr/>
            <p:nvPr/>
          </p:nvSpPr>
          <p:spPr>
            <a:xfrm>
              <a:off x="11122560" y="2011320"/>
              <a:ext cx="10692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6"/>
            <p:cNvSpPr/>
            <p:nvPr/>
          </p:nvSpPr>
          <p:spPr>
            <a:xfrm>
              <a:off x="11122560" y="223560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7"/>
            <p:cNvSpPr/>
            <p:nvPr/>
          </p:nvSpPr>
          <p:spPr>
            <a:xfrm>
              <a:off x="10978200" y="17319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8"/>
            <p:cNvSpPr/>
            <p:nvPr/>
          </p:nvSpPr>
          <p:spPr>
            <a:xfrm>
              <a:off x="11122560" y="159012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9"/>
            <p:cNvSpPr/>
            <p:nvPr/>
          </p:nvSpPr>
          <p:spPr>
            <a:xfrm>
              <a:off x="10978200" y="151632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0"/>
            <p:cNvSpPr/>
            <p:nvPr/>
          </p:nvSpPr>
          <p:spPr>
            <a:xfrm>
              <a:off x="10978200" y="131724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1"/>
            <p:cNvSpPr/>
            <p:nvPr/>
          </p:nvSpPr>
          <p:spPr>
            <a:xfrm>
              <a:off x="11122560" y="1377000"/>
              <a:ext cx="106920" cy="16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2"/>
            <p:cNvSpPr/>
            <p:nvPr/>
          </p:nvSpPr>
          <p:spPr>
            <a:xfrm>
              <a:off x="10895040" y="1965960"/>
              <a:ext cx="229320" cy="10792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11427840" y="2529720"/>
              <a:ext cx="328320" cy="1553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4"/>
            <p:cNvSpPr/>
            <p:nvPr/>
          </p:nvSpPr>
          <p:spPr>
            <a:xfrm>
              <a:off x="11003400" y="3585240"/>
              <a:ext cx="31176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5"/>
            <p:cNvSpPr/>
            <p:nvPr/>
          </p:nvSpPr>
          <p:spPr>
            <a:xfrm>
              <a:off x="11068560" y="3644640"/>
              <a:ext cx="264960" cy="452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6"/>
            <p:cNvSpPr/>
            <p:nvPr/>
          </p:nvSpPr>
          <p:spPr>
            <a:xfrm>
              <a:off x="11317320" y="1368360"/>
              <a:ext cx="201600" cy="3859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7"/>
            <p:cNvSpPr/>
            <p:nvPr/>
          </p:nvSpPr>
          <p:spPr>
            <a:xfrm>
              <a:off x="11405880" y="1378800"/>
              <a:ext cx="102240" cy="322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8"/>
            <p:cNvSpPr/>
            <p:nvPr/>
          </p:nvSpPr>
          <p:spPr>
            <a:xfrm>
              <a:off x="11332080" y="2570400"/>
              <a:ext cx="21888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9"/>
            <p:cNvSpPr/>
            <p:nvPr/>
          </p:nvSpPr>
          <p:spPr>
            <a:xfrm>
              <a:off x="11430360" y="2578320"/>
              <a:ext cx="11124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0"/>
            <p:cNvSpPr/>
            <p:nvPr/>
          </p:nvSpPr>
          <p:spPr>
            <a:xfrm>
              <a:off x="11315520" y="3665520"/>
              <a:ext cx="22176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1"/>
            <p:cNvSpPr/>
            <p:nvPr/>
          </p:nvSpPr>
          <p:spPr>
            <a:xfrm>
              <a:off x="11413800" y="3673080"/>
              <a:ext cx="11088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2"/>
            <p:cNvSpPr/>
            <p:nvPr/>
          </p:nvSpPr>
          <p:spPr>
            <a:xfrm>
              <a:off x="11073240" y="2371320"/>
              <a:ext cx="221400" cy="4312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3"/>
            <p:cNvSpPr/>
            <p:nvPr/>
          </p:nvSpPr>
          <p:spPr>
            <a:xfrm>
              <a:off x="11083680" y="2379240"/>
              <a:ext cx="110160" cy="3632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4"/>
            <p:cNvSpPr/>
            <p:nvPr/>
          </p:nvSpPr>
          <p:spPr>
            <a:xfrm>
              <a:off x="11013840" y="3018240"/>
              <a:ext cx="30924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5"/>
            <p:cNvSpPr/>
            <p:nvPr/>
          </p:nvSpPr>
          <p:spPr>
            <a:xfrm>
              <a:off x="11321640" y="266256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6"/>
            <p:cNvSpPr/>
            <p:nvPr/>
          </p:nvSpPr>
          <p:spPr>
            <a:xfrm>
              <a:off x="11297520" y="3184200"/>
              <a:ext cx="309240" cy="488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7"/>
            <p:cNvSpPr/>
            <p:nvPr/>
          </p:nvSpPr>
          <p:spPr>
            <a:xfrm>
              <a:off x="11300760" y="3735000"/>
              <a:ext cx="30600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8"/>
            <p:cNvSpPr/>
            <p:nvPr/>
          </p:nvSpPr>
          <p:spPr>
            <a:xfrm>
              <a:off x="10999080" y="2436480"/>
              <a:ext cx="309960" cy="4824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9"/>
            <p:cNvSpPr/>
            <p:nvPr/>
          </p:nvSpPr>
          <p:spPr>
            <a:xfrm>
              <a:off x="11335680" y="2032200"/>
              <a:ext cx="308520" cy="48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0"/>
            <p:cNvSpPr/>
            <p:nvPr/>
          </p:nvSpPr>
          <p:spPr>
            <a:xfrm>
              <a:off x="10999080" y="182088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1"/>
            <p:cNvSpPr/>
            <p:nvPr/>
          </p:nvSpPr>
          <p:spPr>
            <a:xfrm>
              <a:off x="10985400" y="1247760"/>
              <a:ext cx="31176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2"/>
            <p:cNvSpPr/>
            <p:nvPr/>
          </p:nvSpPr>
          <p:spPr>
            <a:xfrm>
              <a:off x="11309400" y="1466640"/>
              <a:ext cx="279000" cy="435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3"/>
            <p:cNvSpPr/>
            <p:nvPr/>
          </p:nvSpPr>
          <p:spPr>
            <a:xfrm>
              <a:off x="11340000" y="2662560"/>
              <a:ext cx="260640" cy="478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4"/>
            <p:cNvSpPr/>
            <p:nvPr/>
          </p:nvSpPr>
          <p:spPr>
            <a:xfrm>
              <a:off x="11354760" y="2048400"/>
              <a:ext cx="260640" cy="478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5"/>
            <p:cNvSpPr/>
            <p:nvPr/>
          </p:nvSpPr>
          <p:spPr>
            <a:xfrm>
              <a:off x="11325960" y="1473840"/>
              <a:ext cx="233640" cy="428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6"/>
            <p:cNvSpPr/>
            <p:nvPr/>
          </p:nvSpPr>
          <p:spPr>
            <a:xfrm>
              <a:off x="11017440" y="1279800"/>
              <a:ext cx="276840" cy="460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7"/>
            <p:cNvSpPr/>
            <p:nvPr/>
          </p:nvSpPr>
          <p:spPr>
            <a:xfrm>
              <a:off x="11029680" y="1838880"/>
              <a:ext cx="276840" cy="45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8"/>
            <p:cNvSpPr/>
            <p:nvPr/>
          </p:nvSpPr>
          <p:spPr>
            <a:xfrm>
              <a:off x="11038320" y="2455560"/>
              <a:ext cx="26496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9"/>
            <p:cNvSpPr/>
            <p:nvPr/>
          </p:nvSpPr>
          <p:spPr>
            <a:xfrm>
              <a:off x="11040120" y="3022560"/>
              <a:ext cx="26928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0"/>
            <p:cNvSpPr/>
            <p:nvPr/>
          </p:nvSpPr>
          <p:spPr>
            <a:xfrm>
              <a:off x="11315520" y="3161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1"/>
            <p:cNvSpPr/>
            <p:nvPr/>
          </p:nvSpPr>
          <p:spPr>
            <a:xfrm>
              <a:off x="11315520" y="3728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2"/>
            <p:cNvSpPr/>
            <p:nvPr/>
          </p:nvSpPr>
          <p:spPr>
            <a:xfrm>
              <a:off x="11287080" y="1695600"/>
              <a:ext cx="59040" cy="255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3"/>
            <p:cNvSpPr/>
            <p:nvPr/>
          </p:nvSpPr>
          <p:spPr>
            <a:xfrm>
              <a:off x="11709360" y="2155680"/>
              <a:ext cx="168480" cy="334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4"/>
            <p:cNvSpPr/>
            <p:nvPr/>
          </p:nvSpPr>
          <p:spPr>
            <a:xfrm>
              <a:off x="11715480" y="2166120"/>
              <a:ext cx="88560" cy="276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5"/>
            <p:cNvSpPr/>
            <p:nvPr/>
          </p:nvSpPr>
          <p:spPr>
            <a:xfrm>
              <a:off x="11691000" y="3202560"/>
              <a:ext cx="191160" cy="370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6"/>
            <p:cNvSpPr/>
            <p:nvPr/>
          </p:nvSpPr>
          <p:spPr>
            <a:xfrm>
              <a:off x="11699640" y="3209760"/>
              <a:ext cx="96480" cy="31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7"/>
            <p:cNvSpPr/>
            <p:nvPr/>
          </p:nvSpPr>
          <p:spPr>
            <a:xfrm>
              <a:off x="11699640" y="4125600"/>
              <a:ext cx="192960" cy="371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8"/>
            <p:cNvSpPr/>
            <p:nvPr/>
          </p:nvSpPr>
          <p:spPr>
            <a:xfrm>
              <a:off x="11713680" y="4136040"/>
              <a:ext cx="91800" cy="3078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9"/>
            <p:cNvSpPr/>
            <p:nvPr/>
          </p:nvSpPr>
          <p:spPr>
            <a:xfrm>
              <a:off x="11890080" y="3060720"/>
              <a:ext cx="189360" cy="376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0"/>
            <p:cNvSpPr/>
            <p:nvPr/>
          </p:nvSpPr>
          <p:spPr>
            <a:xfrm>
              <a:off x="11974680" y="3071160"/>
              <a:ext cx="96120" cy="308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1"/>
            <p:cNvSpPr/>
            <p:nvPr/>
          </p:nvSpPr>
          <p:spPr>
            <a:xfrm>
              <a:off x="11876400" y="3612240"/>
              <a:ext cx="263880" cy="417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2"/>
            <p:cNvSpPr/>
            <p:nvPr/>
          </p:nvSpPr>
          <p:spPr>
            <a:xfrm>
              <a:off x="11625120" y="3283560"/>
              <a:ext cx="264960" cy="414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3"/>
            <p:cNvSpPr/>
            <p:nvPr/>
          </p:nvSpPr>
          <p:spPr>
            <a:xfrm>
              <a:off x="11883960" y="4164480"/>
              <a:ext cx="264960" cy="416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4"/>
            <p:cNvSpPr/>
            <p:nvPr/>
          </p:nvSpPr>
          <p:spPr>
            <a:xfrm>
              <a:off x="11631960" y="3757320"/>
              <a:ext cx="26424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5"/>
            <p:cNvSpPr/>
            <p:nvPr/>
          </p:nvSpPr>
          <p:spPr>
            <a:xfrm>
              <a:off x="11639880" y="4168800"/>
              <a:ext cx="26496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6"/>
            <p:cNvSpPr/>
            <p:nvPr/>
          </p:nvSpPr>
          <p:spPr>
            <a:xfrm>
              <a:off x="11876400" y="3116520"/>
              <a:ext cx="26388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11612880" y="2734920"/>
              <a:ext cx="264960" cy="420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8"/>
            <p:cNvSpPr/>
            <p:nvPr/>
          </p:nvSpPr>
          <p:spPr>
            <a:xfrm>
              <a:off x="11876400" y="2561760"/>
              <a:ext cx="263880" cy="4154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9"/>
            <p:cNvSpPr/>
            <p:nvPr/>
          </p:nvSpPr>
          <p:spPr>
            <a:xfrm>
              <a:off x="11872080" y="2095560"/>
              <a:ext cx="26640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0"/>
            <p:cNvSpPr/>
            <p:nvPr/>
          </p:nvSpPr>
          <p:spPr>
            <a:xfrm>
              <a:off x="11647800" y="2243520"/>
              <a:ext cx="237960" cy="371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1"/>
            <p:cNvSpPr/>
            <p:nvPr/>
          </p:nvSpPr>
          <p:spPr>
            <a:xfrm>
              <a:off x="11650320" y="3283560"/>
              <a:ext cx="226080" cy="4122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2"/>
            <p:cNvSpPr/>
            <p:nvPr/>
          </p:nvSpPr>
          <p:spPr>
            <a:xfrm>
              <a:off x="11638080" y="2748600"/>
              <a:ext cx="223200" cy="415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3"/>
            <p:cNvSpPr/>
            <p:nvPr/>
          </p:nvSpPr>
          <p:spPr>
            <a:xfrm>
              <a:off x="11673000" y="2249640"/>
              <a:ext cx="199080" cy="365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4"/>
            <p:cNvSpPr/>
            <p:nvPr/>
          </p:nvSpPr>
          <p:spPr>
            <a:xfrm>
              <a:off x="11872080" y="2120760"/>
              <a:ext cx="239760" cy="389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5"/>
            <p:cNvSpPr/>
            <p:nvPr/>
          </p:nvSpPr>
          <p:spPr>
            <a:xfrm>
              <a:off x="11876400" y="2578320"/>
              <a:ext cx="237960" cy="390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6"/>
            <p:cNvSpPr/>
            <p:nvPr/>
          </p:nvSpPr>
          <p:spPr>
            <a:xfrm>
              <a:off x="11876400" y="3135960"/>
              <a:ext cx="23544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7"/>
            <p:cNvSpPr/>
            <p:nvPr/>
          </p:nvSpPr>
          <p:spPr>
            <a:xfrm>
              <a:off x="11972880" y="3344400"/>
              <a:ext cx="1440" cy="2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8"/>
            <p:cNvSpPr/>
            <p:nvPr/>
          </p:nvSpPr>
          <p:spPr>
            <a:xfrm>
              <a:off x="11883960" y="3615840"/>
              <a:ext cx="232200" cy="385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9"/>
            <p:cNvSpPr/>
            <p:nvPr/>
          </p:nvSpPr>
          <p:spPr>
            <a:xfrm>
              <a:off x="11890080" y="4191480"/>
              <a:ext cx="23220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0"/>
            <p:cNvSpPr/>
            <p:nvPr/>
          </p:nvSpPr>
          <p:spPr>
            <a:xfrm>
              <a:off x="11658240" y="3737520"/>
              <a:ext cx="225720" cy="410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1"/>
            <p:cNvSpPr/>
            <p:nvPr/>
          </p:nvSpPr>
          <p:spPr>
            <a:xfrm>
              <a:off x="11664360" y="4181040"/>
              <a:ext cx="225720" cy="412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2"/>
            <p:cNvSpPr/>
            <p:nvPr/>
          </p:nvSpPr>
          <p:spPr>
            <a:xfrm>
              <a:off x="11853720" y="2439000"/>
              <a:ext cx="51120" cy="2148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463" name="Freeform 70"/>
            <p:cNvSpPr/>
            <p:nvPr/>
          </p:nvSpPr>
          <p:spPr>
            <a:xfrm>
              <a:off x="9630720" y="2898000"/>
              <a:ext cx="18000" cy="8456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1"/>
            <p:cNvSpPr/>
            <p:nvPr/>
          </p:nvSpPr>
          <p:spPr>
            <a:xfrm>
              <a:off x="9518040" y="3351960"/>
              <a:ext cx="101160" cy="155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2"/>
            <p:cNvSpPr/>
            <p:nvPr/>
          </p:nvSpPr>
          <p:spPr>
            <a:xfrm>
              <a:off x="9650160" y="3219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3"/>
            <p:cNvSpPr/>
            <p:nvPr/>
          </p:nvSpPr>
          <p:spPr>
            <a:xfrm>
              <a:off x="9518040" y="353592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4"/>
            <p:cNvSpPr/>
            <p:nvPr/>
          </p:nvSpPr>
          <p:spPr>
            <a:xfrm>
              <a:off x="9650160" y="34052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5"/>
            <p:cNvSpPr/>
            <p:nvPr/>
          </p:nvSpPr>
          <p:spPr>
            <a:xfrm>
              <a:off x="9650160" y="3613320"/>
              <a:ext cx="100800" cy="1580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9518040" y="314424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7"/>
            <p:cNvSpPr/>
            <p:nvPr/>
          </p:nvSpPr>
          <p:spPr>
            <a:xfrm>
              <a:off x="9650160" y="3013560"/>
              <a:ext cx="10080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8"/>
            <p:cNvSpPr/>
            <p:nvPr/>
          </p:nvSpPr>
          <p:spPr>
            <a:xfrm>
              <a:off x="9518040" y="2945520"/>
              <a:ext cx="10116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9"/>
            <p:cNvSpPr/>
            <p:nvPr/>
          </p:nvSpPr>
          <p:spPr>
            <a:xfrm>
              <a:off x="9518040" y="2759760"/>
              <a:ext cx="10116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0"/>
            <p:cNvSpPr/>
            <p:nvPr/>
          </p:nvSpPr>
          <p:spPr>
            <a:xfrm>
              <a:off x="9650160" y="2814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1"/>
            <p:cNvSpPr/>
            <p:nvPr/>
          </p:nvSpPr>
          <p:spPr>
            <a:xfrm>
              <a:off x="9235080" y="2893320"/>
              <a:ext cx="12960" cy="658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9146880" y="3246480"/>
              <a:ext cx="7920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3"/>
            <p:cNvSpPr/>
            <p:nvPr/>
          </p:nvSpPr>
          <p:spPr>
            <a:xfrm>
              <a:off x="9251280" y="3144240"/>
              <a:ext cx="7704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9146880" y="339048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9251280" y="3287880"/>
              <a:ext cx="7704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6"/>
            <p:cNvSpPr/>
            <p:nvPr/>
          </p:nvSpPr>
          <p:spPr>
            <a:xfrm>
              <a:off x="9251280" y="344988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7"/>
            <p:cNvSpPr/>
            <p:nvPr/>
          </p:nvSpPr>
          <p:spPr>
            <a:xfrm>
              <a:off x="9146880" y="3086280"/>
              <a:ext cx="7920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8"/>
            <p:cNvSpPr/>
            <p:nvPr/>
          </p:nvSpPr>
          <p:spPr>
            <a:xfrm>
              <a:off x="9251280" y="298404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9"/>
            <p:cNvSpPr/>
            <p:nvPr/>
          </p:nvSpPr>
          <p:spPr>
            <a:xfrm>
              <a:off x="9146880" y="2930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0"/>
            <p:cNvSpPr/>
            <p:nvPr/>
          </p:nvSpPr>
          <p:spPr>
            <a:xfrm>
              <a:off x="9146880" y="2786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9251280" y="2829960"/>
              <a:ext cx="77040" cy="120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9086760" y="3255120"/>
              <a:ext cx="165600" cy="7794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9165240" y="4424400"/>
              <a:ext cx="2253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9212400" y="4467240"/>
              <a:ext cx="191520" cy="326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9392040" y="2823840"/>
              <a:ext cx="145440" cy="2786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9456120" y="2831400"/>
              <a:ext cx="73800" cy="232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9402480" y="3691800"/>
              <a:ext cx="15804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9473760" y="369720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390600" y="4482360"/>
              <a:ext cx="16020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61880" y="448812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215280" y="3547800"/>
              <a:ext cx="159840" cy="3114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222840" y="3553560"/>
              <a:ext cx="79560" cy="262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9172800" y="4015080"/>
              <a:ext cx="2235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9394920" y="375840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9377640" y="4134960"/>
              <a:ext cx="2235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9379800" y="4532760"/>
              <a:ext cx="22104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9162000" y="3594960"/>
              <a:ext cx="224280" cy="348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9405360" y="3303000"/>
              <a:ext cx="222840" cy="350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9162000" y="315036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9151920" y="2736720"/>
              <a:ext cx="2253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9386280" y="2894760"/>
              <a:ext cx="201600" cy="31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9408240" y="3758400"/>
              <a:ext cx="188280" cy="3456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9419040" y="3314880"/>
              <a:ext cx="188280" cy="345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9398160" y="2899800"/>
              <a:ext cx="168840" cy="309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9175320" y="2759760"/>
              <a:ext cx="200160" cy="33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9183960" y="3163680"/>
              <a:ext cx="200160" cy="331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9190440" y="3608640"/>
              <a:ext cx="19152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9191520" y="4018320"/>
              <a:ext cx="19476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0"/>
            <p:cNvSpPr/>
            <p:nvPr/>
          </p:nvSpPr>
          <p:spPr>
            <a:xfrm>
              <a:off x="9390600" y="411876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1"/>
            <p:cNvSpPr/>
            <p:nvPr/>
          </p:nvSpPr>
          <p:spPr>
            <a:xfrm>
              <a:off x="9390600" y="452808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2"/>
            <p:cNvSpPr/>
            <p:nvPr/>
          </p:nvSpPr>
          <p:spPr>
            <a:xfrm>
              <a:off x="9370080" y="3060000"/>
              <a:ext cx="42480" cy="18450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3"/>
            <p:cNvSpPr/>
            <p:nvPr/>
          </p:nvSpPr>
          <p:spPr>
            <a:xfrm>
              <a:off x="9675360" y="3392280"/>
              <a:ext cx="121680" cy="241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4"/>
            <p:cNvSpPr/>
            <p:nvPr/>
          </p:nvSpPr>
          <p:spPr>
            <a:xfrm>
              <a:off x="9679680" y="3399840"/>
              <a:ext cx="64080" cy="199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5"/>
            <p:cNvSpPr/>
            <p:nvPr/>
          </p:nvSpPr>
          <p:spPr>
            <a:xfrm>
              <a:off x="9662040" y="4148280"/>
              <a:ext cx="137880" cy="267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6"/>
            <p:cNvSpPr/>
            <p:nvPr/>
          </p:nvSpPr>
          <p:spPr>
            <a:xfrm>
              <a:off x="9668520" y="4153320"/>
              <a:ext cx="69480" cy="225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7"/>
            <p:cNvSpPr/>
            <p:nvPr/>
          </p:nvSpPr>
          <p:spPr>
            <a:xfrm>
              <a:off x="9668520" y="4814640"/>
              <a:ext cx="139320" cy="268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8"/>
            <p:cNvSpPr/>
            <p:nvPr/>
          </p:nvSpPr>
          <p:spPr>
            <a:xfrm>
              <a:off x="9678600" y="4822200"/>
              <a:ext cx="66240" cy="22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9"/>
            <p:cNvSpPr/>
            <p:nvPr/>
          </p:nvSpPr>
          <p:spPr>
            <a:xfrm>
              <a:off x="9806040" y="4045680"/>
              <a:ext cx="136800" cy="2718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0"/>
            <p:cNvSpPr/>
            <p:nvPr/>
          </p:nvSpPr>
          <p:spPr>
            <a:xfrm>
              <a:off x="9866880" y="4053240"/>
              <a:ext cx="69480" cy="2228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1"/>
            <p:cNvSpPr/>
            <p:nvPr/>
          </p:nvSpPr>
          <p:spPr>
            <a:xfrm>
              <a:off x="9795960" y="4444200"/>
              <a:ext cx="190800" cy="302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2"/>
            <p:cNvSpPr/>
            <p:nvPr/>
          </p:nvSpPr>
          <p:spPr>
            <a:xfrm>
              <a:off x="9614520" y="4206600"/>
              <a:ext cx="191520" cy="299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3"/>
            <p:cNvSpPr/>
            <p:nvPr/>
          </p:nvSpPr>
          <p:spPr>
            <a:xfrm>
              <a:off x="9801720" y="4842720"/>
              <a:ext cx="191520" cy="300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4"/>
            <p:cNvSpPr/>
            <p:nvPr/>
          </p:nvSpPr>
          <p:spPr>
            <a:xfrm>
              <a:off x="9619200" y="4548960"/>
              <a:ext cx="1908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5"/>
            <p:cNvSpPr/>
            <p:nvPr/>
          </p:nvSpPr>
          <p:spPr>
            <a:xfrm>
              <a:off x="9624960" y="4845960"/>
              <a:ext cx="19152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6"/>
            <p:cNvSpPr/>
            <p:nvPr/>
          </p:nvSpPr>
          <p:spPr>
            <a:xfrm>
              <a:off x="9795960" y="4086000"/>
              <a:ext cx="19080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7"/>
            <p:cNvSpPr/>
            <p:nvPr/>
          </p:nvSpPr>
          <p:spPr>
            <a:xfrm>
              <a:off x="9605520" y="3810600"/>
              <a:ext cx="191520" cy="303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8"/>
            <p:cNvSpPr/>
            <p:nvPr/>
          </p:nvSpPr>
          <p:spPr>
            <a:xfrm>
              <a:off x="9795960" y="3685320"/>
              <a:ext cx="190800" cy="299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9"/>
            <p:cNvSpPr/>
            <p:nvPr/>
          </p:nvSpPr>
          <p:spPr>
            <a:xfrm>
              <a:off x="9793080" y="3348720"/>
              <a:ext cx="1926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0"/>
            <p:cNvSpPr/>
            <p:nvPr/>
          </p:nvSpPr>
          <p:spPr>
            <a:xfrm>
              <a:off x="9630720" y="3455640"/>
              <a:ext cx="172080" cy="2685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1"/>
            <p:cNvSpPr/>
            <p:nvPr/>
          </p:nvSpPr>
          <p:spPr>
            <a:xfrm>
              <a:off x="9632520" y="4206600"/>
              <a:ext cx="163440" cy="297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2"/>
            <p:cNvSpPr/>
            <p:nvPr/>
          </p:nvSpPr>
          <p:spPr>
            <a:xfrm>
              <a:off x="9623880" y="3820320"/>
              <a:ext cx="161280" cy="299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3"/>
            <p:cNvSpPr/>
            <p:nvPr/>
          </p:nvSpPr>
          <p:spPr>
            <a:xfrm>
              <a:off x="9649080" y="3459960"/>
              <a:ext cx="143640" cy="264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4"/>
            <p:cNvSpPr/>
            <p:nvPr/>
          </p:nvSpPr>
          <p:spPr>
            <a:xfrm>
              <a:off x="9793080" y="3367080"/>
              <a:ext cx="173160" cy="28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5"/>
            <p:cNvSpPr/>
            <p:nvPr/>
          </p:nvSpPr>
          <p:spPr>
            <a:xfrm>
              <a:off x="9795960" y="3697200"/>
              <a:ext cx="172080" cy="281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6"/>
            <p:cNvSpPr/>
            <p:nvPr/>
          </p:nvSpPr>
          <p:spPr>
            <a:xfrm>
              <a:off x="9795960" y="4100040"/>
              <a:ext cx="17028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7"/>
            <p:cNvSpPr/>
            <p:nvPr/>
          </p:nvSpPr>
          <p:spPr>
            <a:xfrm>
              <a:off x="9865800" y="4250520"/>
              <a:ext cx="1080" cy="1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8"/>
            <p:cNvSpPr/>
            <p:nvPr/>
          </p:nvSpPr>
          <p:spPr>
            <a:xfrm>
              <a:off x="9801720" y="4446720"/>
              <a:ext cx="167760" cy="27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9806040" y="4862160"/>
              <a:ext cx="16776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0"/>
            <p:cNvSpPr/>
            <p:nvPr/>
          </p:nvSpPr>
          <p:spPr>
            <a:xfrm>
              <a:off x="9638280" y="4534560"/>
              <a:ext cx="163080" cy="296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1"/>
            <p:cNvSpPr/>
            <p:nvPr/>
          </p:nvSpPr>
          <p:spPr>
            <a:xfrm>
              <a:off x="9642600" y="4854600"/>
              <a:ext cx="163080" cy="2980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2"/>
            <p:cNvSpPr/>
            <p:nvPr/>
          </p:nvSpPr>
          <p:spPr>
            <a:xfrm>
              <a:off x="9779760" y="3596760"/>
              <a:ext cx="36720" cy="1551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546" name="Freeform 51"/>
            <p:cNvSpPr/>
            <p:nvPr/>
          </p:nvSpPr>
          <p:spPr>
            <a:xfrm>
              <a:off x="10782720" y="2980080"/>
              <a:ext cx="302760" cy="3344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2"/>
            <p:cNvSpPr/>
            <p:nvPr/>
          </p:nvSpPr>
          <p:spPr>
            <a:xfrm>
              <a:off x="10883520" y="3009600"/>
              <a:ext cx="26640" cy="252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3"/>
            <p:cNvSpPr/>
            <p:nvPr/>
          </p:nvSpPr>
          <p:spPr>
            <a:xfrm>
              <a:off x="10935360" y="2953080"/>
              <a:ext cx="41040" cy="4860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4"/>
            <p:cNvSpPr/>
            <p:nvPr/>
          </p:nvSpPr>
          <p:spPr>
            <a:xfrm>
              <a:off x="10913760" y="2953080"/>
              <a:ext cx="43920" cy="56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5"/>
            <p:cNvSpPr/>
            <p:nvPr/>
          </p:nvSpPr>
          <p:spPr>
            <a:xfrm>
              <a:off x="11606760" y="2994120"/>
              <a:ext cx="301320" cy="33156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11767680" y="3426840"/>
              <a:ext cx="29880" cy="298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7"/>
            <p:cNvSpPr/>
            <p:nvPr/>
          </p:nvSpPr>
          <p:spPr>
            <a:xfrm>
              <a:off x="11719080" y="2968920"/>
              <a:ext cx="40680" cy="518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8"/>
            <p:cNvSpPr/>
            <p:nvPr/>
          </p:nvSpPr>
          <p:spPr>
            <a:xfrm>
              <a:off x="11737800" y="2963880"/>
              <a:ext cx="40680" cy="5688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9"/>
            <p:cNvSpPr/>
            <p:nvPr/>
          </p:nvSpPr>
          <p:spPr>
            <a:xfrm>
              <a:off x="10514160" y="3267360"/>
              <a:ext cx="220680" cy="148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0"/>
            <p:cNvSpPr/>
            <p:nvPr/>
          </p:nvSpPr>
          <p:spPr>
            <a:xfrm>
              <a:off x="11782080" y="3289320"/>
              <a:ext cx="216000" cy="1479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1"/>
            <p:cNvSpPr/>
            <p:nvPr/>
          </p:nvSpPr>
          <p:spPr>
            <a:xfrm>
              <a:off x="11218320" y="3782520"/>
              <a:ext cx="100800" cy="85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"/>
            <p:cNvSpPr/>
            <p:nvPr/>
          </p:nvSpPr>
          <p:spPr>
            <a:xfrm>
              <a:off x="11003400" y="3741120"/>
              <a:ext cx="479880" cy="2415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3"/>
            <p:cNvSpPr/>
            <p:nvPr/>
          </p:nvSpPr>
          <p:spPr>
            <a:xfrm>
              <a:off x="10652760" y="3243600"/>
              <a:ext cx="1229760" cy="56376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4"/>
            <p:cNvSpPr/>
            <p:nvPr/>
          </p:nvSpPr>
          <p:spPr>
            <a:xfrm>
              <a:off x="11039760" y="2856960"/>
              <a:ext cx="473400" cy="479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5"/>
            <p:cNvSpPr/>
            <p:nvPr/>
          </p:nvSpPr>
          <p:spPr>
            <a:xfrm>
              <a:off x="11003400" y="3196440"/>
              <a:ext cx="490680" cy="1814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6"/>
            <p:cNvSpPr/>
            <p:nvPr/>
          </p:nvSpPr>
          <p:spPr>
            <a:xfrm>
              <a:off x="10981440" y="3722040"/>
              <a:ext cx="513000" cy="17820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7"/>
            <p:cNvSpPr/>
            <p:nvPr/>
          </p:nvSpPr>
          <p:spPr>
            <a:xfrm>
              <a:off x="10957680" y="2438280"/>
              <a:ext cx="630000" cy="58248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8"/>
            <p:cNvSpPr/>
            <p:nvPr/>
          </p:nvSpPr>
          <p:spPr>
            <a:xfrm>
              <a:off x="11293920" y="3002040"/>
              <a:ext cx="10404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"/>
            <p:cNvSpPr/>
            <p:nvPr/>
          </p:nvSpPr>
          <p:spPr>
            <a:xfrm>
              <a:off x="11162880" y="3002040"/>
              <a:ext cx="9792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0"/>
            <p:cNvSpPr/>
            <p:nvPr/>
          </p:nvSpPr>
          <p:spPr>
            <a:xfrm>
              <a:off x="11050920" y="3046320"/>
              <a:ext cx="459720" cy="20520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1"/>
            <p:cNvSpPr/>
            <p:nvPr/>
          </p:nvSpPr>
          <p:spPr>
            <a:xfrm>
              <a:off x="11107800" y="3098160"/>
              <a:ext cx="309240" cy="4572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2"/>
            <p:cNvSpPr/>
            <p:nvPr/>
          </p:nvSpPr>
          <p:spPr>
            <a:xfrm>
              <a:off x="11069640" y="3038400"/>
              <a:ext cx="92880" cy="8640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3"/>
            <p:cNvSpPr/>
            <p:nvPr/>
          </p:nvSpPr>
          <p:spPr>
            <a:xfrm>
              <a:off x="11371320" y="3065400"/>
              <a:ext cx="78840" cy="817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"/>
            <p:cNvSpPr/>
            <p:nvPr/>
          </p:nvSpPr>
          <p:spPr>
            <a:xfrm>
              <a:off x="11074320" y="3423960"/>
              <a:ext cx="162720" cy="1828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5"/>
            <p:cNvSpPr/>
            <p:nvPr/>
          </p:nvSpPr>
          <p:spPr>
            <a:xfrm>
              <a:off x="11143800" y="2739600"/>
              <a:ext cx="257400" cy="13896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6"/>
            <p:cNvSpPr/>
            <p:nvPr/>
          </p:nvSpPr>
          <p:spPr>
            <a:xfrm>
              <a:off x="11066400" y="3771360"/>
              <a:ext cx="383760" cy="550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7"/>
            <p:cNvSpPr/>
            <p:nvPr/>
          </p:nvSpPr>
          <p:spPr>
            <a:xfrm>
              <a:off x="11250000" y="3311640"/>
              <a:ext cx="21960" cy="44820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8"/>
            <p:cNvSpPr/>
            <p:nvPr/>
          </p:nvSpPr>
          <p:spPr>
            <a:xfrm>
              <a:off x="11778840" y="3035160"/>
              <a:ext cx="29880" cy="266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575" name="Freeform 6"/>
            <p:cNvSpPr/>
            <p:nvPr/>
          </p:nvSpPr>
          <p:spPr>
            <a:xfrm>
              <a:off x="8093880" y="3478320"/>
              <a:ext cx="727920" cy="911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9158760" y="4930200"/>
              <a:ext cx="120960" cy="1133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8856720" y="4965120"/>
              <a:ext cx="777240" cy="4017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8207640" y="4158720"/>
              <a:ext cx="1991160" cy="1072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10075320" y="4197600"/>
              <a:ext cx="35280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988400" y="4197600"/>
              <a:ext cx="34848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804880" y="3534480"/>
              <a:ext cx="770040" cy="7826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836920" y="4088160"/>
              <a:ext cx="797040" cy="292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685360" y="2989440"/>
              <a:ext cx="1062360" cy="83052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8997120" y="3773520"/>
              <a:ext cx="1584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9212400" y="3773520"/>
              <a:ext cx="1656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8807760" y="3846600"/>
              <a:ext cx="750240" cy="32472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8963640" y="3922560"/>
              <a:ext cx="501840" cy="7560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9378000" y="3836520"/>
              <a:ext cx="146160" cy="1321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8914320" y="3866400"/>
              <a:ext cx="119160" cy="14148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>
              <a:off x="9253080" y="4460760"/>
              <a:ext cx="268200" cy="29196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>
              <a:off x="8980200" y="3308400"/>
              <a:ext cx="421560" cy="2628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>
              <a:off x="9195480" y="4271040"/>
              <a:ext cx="40680" cy="7236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>
              <a:off x="8930160" y="5004720"/>
              <a:ext cx="621000" cy="8568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52"/>
          <p:cNvSpPr/>
          <p:nvPr/>
        </p:nvSpPr>
        <p:spPr>
          <a:xfrm>
            <a:off x="0" y="5181480"/>
            <a:ext cx="11163240" cy="167652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597" name="Freeform 30"/>
            <p:cNvSpPr/>
            <p:nvPr/>
          </p:nvSpPr>
          <p:spPr>
            <a:xfrm flipH="1">
              <a:off x="10433160" y="5100840"/>
              <a:ext cx="820080" cy="102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 flipH="1">
              <a:off x="10820520" y="5199480"/>
              <a:ext cx="336600" cy="243360"/>
            </a:xfrm>
            <a:prstGeom prst="pie">
              <a:avLst/>
            </a:pr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 flipH="1">
              <a:off x="10530720" y="5319000"/>
              <a:ext cx="826560" cy="72468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 flipH="1">
              <a:off x="11033280" y="4800600"/>
              <a:ext cx="1156680" cy="14403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 flipH="1">
              <a:off x="11087280" y="5054760"/>
              <a:ext cx="1102680" cy="1198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 flipH="1">
              <a:off x="11103120" y="5144760"/>
              <a:ext cx="396720" cy="924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 flipH="1">
              <a:off x="11309760" y="5241240"/>
              <a:ext cx="248760" cy="8042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 flipH="1">
              <a:off x="11880000" y="5245560"/>
              <a:ext cx="163080" cy="852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 flipH="1">
              <a:off x="11504880" y="4924080"/>
              <a:ext cx="439560" cy="280440"/>
            </a:xfrm>
            <a:prstGeom prst="pie">
              <a:avLst/>
            </a:pr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 flipH="1">
              <a:off x="11606040" y="4924080"/>
              <a:ext cx="372600" cy="313200"/>
            </a:xfrm>
            <a:prstGeom prst="pie">
              <a:avLst/>
            </a:pr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 flipH="1">
              <a:off x="9191880" y="5751000"/>
              <a:ext cx="1245600" cy="11160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1"/>
            <p:cNvSpPr/>
            <p:nvPr/>
          </p:nvSpPr>
          <p:spPr>
            <a:xfrm flipH="1">
              <a:off x="9199080" y="5948280"/>
              <a:ext cx="1087560" cy="918360"/>
            </a:xfrm>
            <a:prstGeom prst="pie">
              <a:avLst/>
            </a:pr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"/>
            <p:cNvSpPr/>
            <p:nvPr/>
          </p:nvSpPr>
          <p:spPr>
            <a:xfrm flipH="1">
              <a:off x="9896400" y="6116040"/>
              <a:ext cx="110520" cy="6836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 flipH="1">
              <a:off x="9459000" y="6300360"/>
              <a:ext cx="144360" cy="5072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 flipH="1">
              <a:off x="9511200" y="5802480"/>
              <a:ext cx="447120" cy="300600"/>
            </a:xfrm>
            <a:prstGeom prst="pie">
              <a:avLst/>
            </a:pr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 flipH="1">
              <a:off x="9228240" y="6144480"/>
              <a:ext cx="256320" cy="71028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 flipH="1">
              <a:off x="10026360" y="6043680"/>
              <a:ext cx="302400" cy="81540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 flipH="1">
              <a:off x="10518480" y="5372640"/>
              <a:ext cx="255600" cy="6004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 flipH="1">
              <a:off x="10764000" y="5433120"/>
              <a:ext cx="100800" cy="51192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 flipH="1">
              <a:off x="9854640" y="5321160"/>
              <a:ext cx="2335320" cy="15454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 flipH="1">
              <a:off x="9868320" y="5730120"/>
              <a:ext cx="2322000" cy="113688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 flipH="1">
              <a:off x="10716840" y="5421960"/>
              <a:ext cx="1300320" cy="720360"/>
            </a:xfrm>
            <a:prstGeom prst="pie">
              <a:avLst/>
            </a:pr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 flipH="1">
              <a:off x="9971640" y="5935320"/>
              <a:ext cx="621360" cy="9316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3"/>
            <p:cNvSpPr/>
            <p:nvPr/>
          </p:nvSpPr>
          <p:spPr>
            <a:xfrm flipH="1">
              <a:off x="11429640" y="5437440"/>
              <a:ext cx="111600" cy="40968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4"/>
            <p:cNvSpPr/>
            <p:nvPr/>
          </p:nvSpPr>
          <p:spPr>
            <a:xfrm flipH="1">
              <a:off x="10779480" y="6144480"/>
              <a:ext cx="318960" cy="722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 flipH="1">
              <a:off x="10737720" y="6121800"/>
              <a:ext cx="398880" cy="74520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 flipH="1">
              <a:off x="11887920" y="6186240"/>
              <a:ext cx="302400" cy="680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 flipH="1">
              <a:off x="11846160" y="6165360"/>
              <a:ext cx="344160" cy="70164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 flipH="1">
              <a:off x="11222280" y="5490000"/>
              <a:ext cx="62640" cy="30780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 flipH="1">
              <a:off x="9632520" y="6251040"/>
              <a:ext cx="1040400" cy="6159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 flipH="1">
              <a:off x="9883440" y="6391440"/>
              <a:ext cx="509400" cy="13140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 flipH="1">
              <a:off x="9640440" y="6380280"/>
              <a:ext cx="973440" cy="502920"/>
            </a:xfrm>
            <a:prstGeom prst="pie">
              <a:avLst/>
            </a:pr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 flipH="1">
              <a:off x="9676800" y="6414480"/>
              <a:ext cx="952560" cy="4636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 flipH="1">
              <a:off x="10022760" y="6310080"/>
              <a:ext cx="238680" cy="23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 flipH="1">
              <a:off x="10002960" y="6323400"/>
              <a:ext cx="255240" cy="233280"/>
            </a:xfrm>
            <a:prstGeom prst="pie">
              <a:avLst/>
            </a:pr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"/>
            <p:cNvSpPr/>
            <p:nvPr/>
          </p:nvSpPr>
          <p:spPr>
            <a:xfrm flipH="1">
              <a:off x="10725480" y="5769720"/>
              <a:ext cx="555480" cy="18324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634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635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prstGeom prst="pie">
                <a:avLst/>
              </a:pr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prstGeom prst="pie">
                <a:avLst/>
              </a:pr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prstGeom prst="pie">
                <a:avLst/>
              </a:pr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683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693" name="Freeform 343"/>
              <p:cNvSpPr/>
              <p:nvPr/>
            </p:nvSpPr>
            <p:spPr>
              <a:xfrm>
                <a:off x="0" y="4979160"/>
                <a:ext cx="1904760" cy="190440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44"/>
              <p:cNvSpPr/>
              <p:nvPr/>
            </p:nvSpPr>
            <p:spPr>
              <a:xfrm>
                <a:off x="0" y="5360400"/>
                <a:ext cx="1783800" cy="15231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prstGeom prst="pie">
                <a:avLst/>
              </a:pr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prstGeom prst="pie">
                <a:avLst/>
              </a:pr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701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prstGeom prst="pie">
                <a:avLst/>
              </a:pr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prstGeom prst="pie">
                <a:avLst/>
              </a:pr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prstGeom prst="pie">
                <a:avLst/>
              </a:pr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08" name="Freeform 53"/>
            <p:cNvSpPr/>
            <p:nvPr/>
          </p:nvSpPr>
          <p:spPr>
            <a:xfrm rot="19947600">
              <a:off x="350640" y="510480"/>
              <a:ext cx="893880" cy="946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4"/>
            <p:cNvSpPr/>
            <p:nvPr/>
          </p:nvSpPr>
          <p:spPr>
            <a:xfrm rot="19947600">
              <a:off x="411120" y="567720"/>
              <a:ext cx="757800" cy="76752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5"/>
            <p:cNvSpPr/>
            <p:nvPr/>
          </p:nvSpPr>
          <p:spPr>
            <a:xfrm rot="19947600">
              <a:off x="748800" y="770400"/>
              <a:ext cx="124920" cy="5331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6"/>
            <p:cNvSpPr/>
            <p:nvPr/>
          </p:nvSpPr>
          <p:spPr>
            <a:xfrm rot="19947600">
              <a:off x="574200" y="990000"/>
              <a:ext cx="243360" cy="2588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7"/>
            <p:cNvSpPr/>
            <p:nvPr/>
          </p:nvSpPr>
          <p:spPr>
            <a:xfrm rot="19947600">
              <a:off x="715680" y="1268640"/>
              <a:ext cx="212400" cy="727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8"/>
            <p:cNvSpPr/>
            <p:nvPr/>
          </p:nvSpPr>
          <p:spPr>
            <a:xfrm rot="19947600">
              <a:off x="865800" y="909000"/>
              <a:ext cx="297000" cy="199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"/>
            <p:cNvSpPr/>
            <p:nvPr/>
          </p:nvSpPr>
          <p:spPr>
            <a:xfrm rot="19947600">
              <a:off x="933840" y="1128240"/>
              <a:ext cx="286200" cy="903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"/>
            <p:cNvSpPr/>
            <p:nvPr/>
          </p:nvSpPr>
          <p:spPr>
            <a:xfrm rot="19947600">
              <a:off x="881640" y="1324800"/>
              <a:ext cx="143640" cy="182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717" name="Freeform 53"/>
            <p:cNvSpPr/>
            <p:nvPr/>
          </p:nvSpPr>
          <p:spPr>
            <a:xfrm rot="5825400">
              <a:off x="11651760" y="412920"/>
              <a:ext cx="408240" cy="433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"/>
            <p:cNvSpPr/>
            <p:nvPr/>
          </p:nvSpPr>
          <p:spPr>
            <a:xfrm rot="5825400">
              <a:off x="11696760" y="459720"/>
              <a:ext cx="346320" cy="35136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5"/>
            <p:cNvSpPr/>
            <p:nvPr/>
          </p:nvSpPr>
          <p:spPr>
            <a:xfrm rot="5825400">
              <a:off x="11803320" y="498600"/>
              <a:ext cx="56880" cy="244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6"/>
            <p:cNvSpPr/>
            <p:nvPr/>
          </p:nvSpPr>
          <p:spPr>
            <a:xfrm rot="5825400">
              <a:off x="11775600" y="496800"/>
              <a:ext cx="111240" cy="1184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7"/>
            <p:cNvSpPr/>
            <p:nvPr/>
          </p:nvSpPr>
          <p:spPr>
            <a:xfrm rot="5825400">
              <a:off x="11680560" y="538560"/>
              <a:ext cx="96840" cy="33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8"/>
            <p:cNvSpPr/>
            <p:nvPr/>
          </p:nvSpPr>
          <p:spPr>
            <a:xfrm rot="5825400">
              <a:off x="11722320" y="658800"/>
              <a:ext cx="135720" cy="91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9"/>
            <p:cNvSpPr/>
            <p:nvPr/>
          </p:nvSpPr>
          <p:spPr>
            <a:xfrm rot="5825400">
              <a:off x="11646720" y="664920"/>
              <a:ext cx="130680" cy="4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"/>
            <p:cNvSpPr/>
            <p:nvPr/>
          </p:nvSpPr>
          <p:spPr>
            <a:xfrm rot="5825400">
              <a:off x="11619720" y="533880"/>
              <a:ext cx="65520" cy="8352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726" name="Freeform 67"/>
            <p:cNvSpPr/>
            <p:nvPr/>
          </p:nvSpPr>
          <p:spPr>
            <a:xfrm>
              <a:off x="338040" y="3060720"/>
              <a:ext cx="73080" cy="10224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23760" y="3049560"/>
              <a:ext cx="387360" cy="3636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1200" y="3049560"/>
              <a:ext cx="341640" cy="34380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150120" y="3158280"/>
              <a:ext cx="194040" cy="10836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276120" y="3202920"/>
              <a:ext cx="55080" cy="1414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349200" y="3182400"/>
              <a:ext cx="35640" cy="8424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280800" y="3087720"/>
              <a:ext cx="50400" cy="730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172080" y="3114000"/>
              <a:ext cx="131040" cy="648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92"/>
          <p:cNvSpPr/>
          <p:nvPr/>
        </p:nvSpPr>
        <p:spPr>
          <a:xfrm>
            <a:off x="8643960" y="3889440"/>
            <a:ext cx="212760" cy="1000080"/>
          </a:xfrm>
          <a:prstGeom prst="pie">
            <a:avLst/>
          </a:pr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50"/>
          <p:cNvSpPr/>
          <p:nvPr/>
        </p:nvSpPr>
        <p:spPr>
          <a:xfrm>
            <a:off x="6780240" y="4191120"/>
            <a:ext cx="5410080" cy="266688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1"/>
          <p:cNvSpPr/>
          <p:nvPr/>
        </p:nvSpPr>
        <p:spPr>
          <a:xfrm>
            <a:off x="0" y="4572000"/>
            <a:ext cx="11415600" cy="2286000"/>
          </a:xfrm>
          <a:prstGeom prst="pie">
            <a:avLst/>
          </a:pr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739" name="Freeform 70"/>
            <p:cNvSpPr/>
            <p:nvPr/>
          </p:nvSpPr>
          <p:spPr>
            <a:xfrm flipH="1">
              <a:off x="10301400" y="1225800"/>
              <a:ext cx="29880" cy="1400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1"/>
            <p:cNvSpPr/>
            <p:nvPr/>
          </p:nvSpPr>
          <p:spPr>
            <a:xfrm flipH="1">
              <a:off x="10350000" y="1977840"/>
              <a:ext cx="167400" cy="25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2"/>
            <p:cNvSpPr/>
            <p:nvPr/>
          </p:nvSpPr>
          <p:spPr>
            <a:xfrm flipH="1">
              <a:off x="10131480" y="175932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3"/>
            <p:cNvSpPr/>
            <p:nvPr/>
          </p:nvSpPr>
          <p:spPr>
            <a:xfrm flipH="1">
              <a:off x="10350000" y="2282760"/>
              <a:ext cx="167400" cy="262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4"/>
            <p:cNvSpPr/>
            <p:nvPr/>
          </p:nvSpPr>
          <p:spPr>
            <a:xfrm flipH="1">
              <a:off x="10131480" y="20660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5"/>
            <p:cNvSpPr/>
            <p:nvPr/>
          </p:nvSpPr>
          <p:spPr>
            <a:xfrm flipH="1">
              <a:off x="10131480" y="2410560"/>
              <a:ext cx="167400" cy="2617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6"/>
            <p:cNvSpPr/>
            <p:nvPr/>
          </p:nvSpPr>
          <p:spPr>
            <a:xfrm flipH="1">
              <a:off x="10350000" y="1633680"/>
              <a:ext cx="167400" cy="263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7"/>
            <p:cNvSpPr/>
            <p:nvPr/>
          </p:nvSpPr>
          <p:spPr>
            <a:xfrm flipH="1">
              <a:off x="10131480" y="141732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8"/>
            <p:cNvSpPr/>
            <p:nvPr/>
          </p:nvSpPr>
          <p:spPr>
            <a:xfrm flipH="1">
              <a:off x="10350000" y="13046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9"/>
            <p:cNvSpPr/>
            <p:nvPr/>
          </p:nvSpPr>
          <p:spPr>
            <a:xfrm flipH="1">
              <a:off x="10325160" y="105840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0"/>
            <p:cNvSpPr/>
            <p:nvPr/>
          </p:nvSpPr>
          <p:spPr>
            <a:xfrm flipH="1">
              <a:off x="10131480" y="108828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1"/>
            <p:cNvSpPr/>
            <p:nvPr/>
          </p:nvSpPr>
          <p:spPr>
            <a:xfrm flipH="1">
              <a:off x="10965600" y="1218240"/>
              <a:ext cx="21600" cy="1090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2"/>
            <p:cNvSpPr/>
            <p:nvPr/>
          </p:nvSpPr>
          <p:spPr>
            <a:xfrm flipH="1">
              <a:off x="11001600" y="1803240"/>
              <a:ext cx="13104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3"/>
            <p:cNvSpPr/>
            <p:nvPr/>
          </p:nvSpPr>
          <p:spPr>
            <a:xfrm flipH="1">
              <a:off x="10832040" y="163368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4"/>
            <p:cNvSpPr/>
            <p:nvPr/>
          </p:nvSpPr>
          <p:spPr>
            <a:xfrm flipH="1">
              <a:off x="11001600" y="20412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5"/>
            <p:cNvSpPr/>
            <p:nvPr/>
          </p:nvSpPr>
          <p:spPr>
            <a:xfrm flipH="1">
              <a:off x="10832040" y="1871640"/>
              <a:ext cx="12780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6"/>
            <p:cNvSpPr/>
            <p:nvPr/>
          </p:nvSpPr>
          <p:spPr>
            <a:xfrm flipH="1">
              <a:off x="10832040" y="213984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7"/>
            <p:cNvSpPr/>
            <p:nvPr/>
          </p:nvSpPr>
          <p:spPr>
            <a:xfrm flipH="1">
              <a:off x="11001600" y="153792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8"/>
            <p:cNvSpPr/>
            <p:nvPr/>
          </p:nvSpPr>
          <p:spPr>
            <a:xfrm flipH="1">
              <a:off x="10832040" y="136836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89"/>
            <p:cNvSpPr/>
            <p:nvPr/>
          </p:nvSpPr>
          <p:spPr>
            <a:xfrm flipH="1">
              <a:off x="11001600" y="12798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0"/>
            <p:cNvSpPr/>
            <p:nvPr/>
          </p:nvSpPr>
          <p:spPr>
            <a:xfrm flipH="1">
              <a:off x="11001600" y="104184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1"/>
            <p:cNvSpPr/>
            <p:nvPr/>
          </p:nvSpPr>
          <p:spPr>
            <a:xfrm flipH="1">
              <a:off x="10832040" y="1113480"/>
              <a:ext cx="127800" cy="200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2"/>
            <p:cNvSpPr/>
            <p:nvPr/>
          </p:nvSpPr>
          <p:spPr>
            <a:xfrm flipH="1">
              <a:off x="10792800" y="2543400"/>
              <a:ext cx="274320" cy="129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3"/>
            <p:cNvSpPr/>
            <p:nvPr/>
          </p:nvSpPr>
          <p:spPr>
            <a:xfrm flipH="1">
              <a:off x="10130760" y="2147040"/>
              <a:ext cx="393120" cy="1857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4"/>
            <p:cNvSpPr/>
            <p:nvPr/>
          </p:nvSpPr>
          <p:spPr>
            <a:xfrm flipH="1">
              <a:off x="10729080" y="3754080"/>
              <a:ext cx="37332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5"/>
            <p:cNvSpPr/>
            <p:nvPr/>
          </p:nvSpPr>
          <p:spPr>
            <a:xfrm flipH="1">
              <a:off x="10707120" y="3825000"/>
              <a:ext cx="317160" cy="540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"/>
            <p:cNvSpPr/>
            <p:nvPr/>
          </p:nvSpPr>
          <p:spPr>
            <a:xfrm flipH="1">
              <a:off x="10485720" y="1103040"/>
              <a:ext cx="241200" cy="4615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 flipH="1">
              <a:off x="10498320" y="1115640"/>
              <a:ext cx="122400" cy="385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8"/>
            <p:cNvSpPr/>
            <p:nvPr/>
          </p:nvSpPr>
          <p:spPr>
            <a:xfrm flipH="1">
              <a:off x="10447200" y="2540520"/>
              <a:ext cx="26208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9"/>
            <p:cNvSpPr/>
            <p:nvPr/>
          </p:nvSpPr>
          <p:spPr>
            <a:xfrm flipH="1">
              <a:off x="10458720" y="254988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0"/>
            <p:cNvSpPr/>
            <p:nvPr/>
          </p:nvSpPr>
          <p:spPr>
            <a:xfrm flipH="1">
              <a:off x="10464120" y="3849840"/>
              <a:ext cx="26496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1"/>
            <p:cNvSpPr/>
            <p:nvPr/>
          </p:nvSpPr>
          <p:spPr>
            <a:xfrm flipH="1">
              <a:off x="10478520" y="385920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2"/>
            <p:cNvSpPr/>
            <p:nvPr/>
          </p:nvSpPr>
          <p:spPr>
            <a:xfrm flipH="1">
              <a:off x="10754280" y="2302200"/>
              <a:ext cx="264960" cy="515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3"/>
            <p:cNvSpPr/>
            <p:nvPr/>
          </p:nvSpPr>
          <p:spPr>
            <a:xfrm flipH="1">
              <a:off x="10874160" y="2311560"/>
              <a:ext cx="132120" cy="434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4"/>
            <p:cNvSpPr/>
            <p:nvPr/>
          </p:nvSpPr>
          <p:spPr>
            <a:xfrm flipH="1">
              <a:off x="10719360" y="3075840"/>
              <a:ext cx="37044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5"/>
            <p:cNvSpPr/>
            <p:nvPr/>
          </p:nvSpPr>
          <p:spPr>
            <a:xfrm flipH="1">
              <a:off x="10350360" y="265068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6"/>
            <p:cNvSpPr/>
            <p:nvPr/>
          </p:nvSpPr>
          <p:spPr>
            <a:xfrm flipH="1">
              <a:off x="10380240" y="3274560"/>
              <a:ext cx="370440" cy="58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7"/>
            <p:cNvSpPr/>
            <p:nvPr/>
          </p:nvSpPr>
          <p:spPr>
            <a:xfrm flipH="1">
              <a:off x="10380240" y="3933000"/>
              <a:ext cx="3661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8"/>
            <p:cNvSpPr/>
            <p:nvPr/>
          </p:nvSpPr>
          <p:spPr>
            <a:xfrm flipH="1">
              <a:off x="10736280" y="2380320"/>
              <a:ext cx="371160" cy="57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9"/>
            <p:cNvSpPr/>
            <p:nvPr/>
          </p:nvSpPr>
          <p:spPr>
            <a:xfrm flipH="1">
              <a:off x="10335960" y="1896840"/>
              <a:ext cx="369360" cy="579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0"/>
            <p:cNvSpPr/>
            <p:nvPr/>
          </p:nvSpPr>
          <p:spPr>
            <a:xfrm flipH="1">
              <a:off x="10736280" y="164376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1"/>
            <p:cNvSpPr/>
            <p:nvPr/>
          </p:nvSpPr>
          <p:spPr>
            <a:xfrm flipH="1">
              <a:off x="10751040" y="958680"/>
              <a:ext cx="3733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2"/>
            <p:cNvSpPr/>
            <p:nvPr/>
          </p:nvSpPr>
          <p:spPr>
            <a:xfrm flipH="1">
              <a:off x="10402200" y="1220400"/>
              <a:ext cx="334080" cy="520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"/>
            <p:cNvSpPr/>
            <p:nvPr/>
          </p:nvSpPr>
          <p:spPr>
            <a:xfrm flipH="1">
              <a:off x="10387440" y="2650680"/>
              <a:ext cx="312120" cy="572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4"/>
            <p:cNvSpPr/>
            <p:nvPr/>
          </p:nvSpPr>
          <p:spPr>
            <a:xfrm flipH="1">
              <a:off x="10369800" y="1916280"/>
              <a:ext cx="312120" cy="5720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5"/>
            <p:cNvSpPr/>
            <p:nvPr/>
          </p:nvSpPr>
          <p:spPr>
            <a:xfrm flipH="1">
              <a:off x="10436400" y="1229040"/>
              <a:ext cx="279720" cy="51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6"/>
            <p:cNvSpPr/>
            <p:nvPr/>
          </p:nvSpPr>
          <p:spPr>
            <a:xfrm flipH="1">
              <a:off x="10754280" y="996840"/>
              <a:ext cx="331920" cy="55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7"/>
            <p:cNvSpPr/>
            <p:nvPr/>
          </p:nvSpPr>
          <p:spPr>
            <a:xfrm flipH="1">
              <a:off x="10739520" y="1665720"/>
              <a:ext cx="331920" cy="54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18"/>
            <p:cNvSpPr/>
            <p:nvPr/>
          </p:nvSpPr>
          <p:spPr>
            <a:xfrm flipH="1">
              <a:off x="10743480" y="2403000"/>
              <a:ext cx="31716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9"/>
            <p:cNvSpPr/>
            <p:nvPr/>
          </p:nvSpPr>
          <p:spPr>
            <a:xfrm flipH="1">
              <a:off x="10736280" y="3081240"/>
              <a:ext cx="32220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0"/>
            <p:cNvSpPr/>
            <p:nvPr/>
          </p:nvSpPr>
          <p:spPr>
            <a:xfrm flipH="1">
              <a:off x="10416600" y="324756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1"/>
            <p:cNvSpPr/>
            <p:nvPr/>
          </p:nvSpPr>
          <p:spPr>
            <a:xfrm flipH="1">
              <a:off x="10416600" y="392580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2"/>
            <p:cNvSpPr/>
            <p:nvPr/>
          </p:nvSpPr>
          <p:spPr>
            <a:xfrm flipH="1">
              <a:off x="10693080" y="1494000"/>
              <a:ext cx="70560" cy="30556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3"/>
            <p:cNvSpPr/>
            <p:nvPr/>
          </p:nvSpPr>
          <p:spPr>
            <a:xfrm flipH="1">
              <a:off x="10055880" y="2044440"/>
              <a:ext cx="201600" cy="399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4"/>
            <p:cNvSpPr/>
            <p:nvPr/>
          </p:nvSpPr>
          <p:spPr>
            <a:xfrm flipH="1">
              <a:off x="10144800" y="2057040"/>
              <a:ext cx="105840" cy="330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"/>
            <p:cNvSpPr/>
            <p:nvPr/>
          </p:nvSpPr>
          <p:spPr>
            <a:xfrm flipH="1">
              <a:off x="10050480" y="3296520"/>
              <a:ext cx="228600" cy="4431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6"/>
            <p:cNvSpPr/>
            <p:nvPr/>
          </p:nvSpPr>
          <p:spPr>
            <a:xfrm flipH="1">
              <a:off x="10153440" y="3304800"/>
              <a:ext cx="115560" cy="3733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7"/>
            <p:cNvSpPr/>
            <p:nvPr/>
          </p:nvSpPr>
          <p:spPr>
            <a:xfrm flipH="1">
              <a:off x="10038240" y="4400280"/>
              <a:ext cx="230760" cy="444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8"/>
            <p:cNvSpPr/>
            <p:nvPr/>
          </p:nvSpPr>
          <p:spPr>
            <a:xfrm flipH="1">
              <a:off x="10142280" y="4412520"/>
              <a:ext cx="110160" cy="367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9"/>
            <p:cNvSpPr/>
            <p:nvPr/>
          </p:nvSpPr>
          <p:spPr>
            <a:xfrm flipH="1">
              <a:off x="9814320" y="3126960"/>
              <a:ext cx="226440" cy="4503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0"/>
            <p:cNvSpPr/>
            <p:nvPr/>
          </p:nvSpPr>
          <p:spPr>
            <a:xfrm flipH="1">
              <a:off x="9825120" y="3139560"/>
              <a:ext cx="115200" cy="369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1"/>
            <p:cNvSpPr/>
            <p:nvPr/>
          </p:nvSpPr>
          <p:spPr>
            <a:xfrm flipH="1">
              <a:off x="9741960" y="3786480"/>
              <a:ext cx="316080" cy="50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2"/>
            <p:cNvSpPr/>
            <p:nvPr/>
          </p:nvSpPr>
          <p:spPr>
            <a:xfrm flipH="1">
              <a:off x="10041120" y="3393360"/>
              <a:ext cx="317160" cy="496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3"/>
            <p:cNvSpPr/>
            <p:nvPr/>
          </p:nvSpPr>
          <p:spPr>
            <a:xfrm flipH="1">
              <a:off x="9731160" y="4446720"/>
              <a:ext cx="317160" cy="497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4"/>
            <p:cNvSpPr/>
            <p:nvPr/>
          </p:nvSpPr>
          <p:spPr>
            <a:xfrm flipH="1">
              <a:off x="10034280" y="3960000"/>
              <a:ext cx="31608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5"/>
            <p:cNvSpPr/>
            <p:nvPr/>
          </p:nvSpPr>
          <p:spPr>
            <a:xfrm flipH="1">
              <a:off x="10023480" y="4452120"/>
              <a:ext cx="31716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6"/>
            <p:cNvSpPr/>
            <p:nvPr/>
          </p:nvSpPr>
          <p:spPr>
            <a:xfrm flipH="1">
              <a:off x="9741960" y="3193560"/>
              <a:ext cx="31608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7"/>
            <p:cNvSpPr/>
            <p:nvPr/>
          </p:nvSpPr>
          <p:spPr>
            <a:xfrm flipH="1">
              <a:off x="10055880" y="2737080"/>
              <a:ext cx="317160" cy="503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8"/>
            <p:cNvSpPr/>
            <p:nvPr/>
          </p:nvSpPr>
          <p:spPr>
            <a:xfrm flipH="1">
              <a:off x="9741960" y="2530080"/>
              <a:ext cx="316080" cy="4971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9"/>
            <p:cNvSpPr/>
            <p:nvPr/>
          </p:nvSpPr>
          <p:spPr>
            <a:xfrm flipH="1">
              <a:off x="9743400" y="1972440"/>
              <a:ext cx="31932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0"/>
            <p:cNvSpPr/>
            <p:nvPr/>
          </p:nvSpPr>
          <p:spPr>
            <a:xfrm flipH="1">
              <a:off x="10046520" y="2149200"/>
              <a:ext cx="285120" cy="444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1"/>
            <p:cNvSpPr/>
            <p:nvPr/>
          </p:nvSpPr>
          <p:spPr>
            <a:xfrm flipH="1">
              <a:off x="10057680" y="3393360"/>
              <a:ext cx="270360" cy="492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2"/>
            <p:cNvSpPr/>
            <p:nvPr/>
          </p:nvSpPr>
          <p:spPr>
            <a:xfrm flipH="1">
              <a:off x="10076040" y="2753640"/>
              <a:ext cx="267120" cy="497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3"/>
            <p:cNvSpPr/>
            <p:nvPr/>
          </p:nvSpPr>
          <p:spPr>
            <a:xfrm flipH="1">
              <a:off x="10063080" y="2156760"/>
              <a:ext cx="237960" cy="437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4"/>
            <p:cNvSpPr/>
            <p:nvPr/>
          </p:nvSpPr>
          <p:spPr>
            <a:xfrm flipH="1">
              <a:off x="9775800" y="2002680"/>
              <a:ext cx="286920" cy="465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5"/>
            <p:cNvSpPr/>
            <p:nvPr/>
          </p:nvSpPr>
          <p:spPr>
            <a:xfrm flipH="1">
              <a:off x="9772920" y="2549880"/>
              <a:ext cx="285120" cy="466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6"/>
            <p:cNvSpPr/>
            <p:nvPr/>
          </p:nvSpPr>
          <p:spPr>
            <a:xfrm flipH="1">
              <a:off x="9775800" y="3216600"/>
              <a:ext cx="281880" cy="458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7"/>
            <p:cNvSpPr/>
            <p:nvPr/>
          </p:nvSpPr>
          <p:spPr>
            <a:xfrm flipH="1">
              <a:off x="9940320" y="3466080"/>
              <a:ext cx="1800" cy="2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8"/>
            <p:cNvSpPr/>
            <p:nvPr/>
          </p:nvSpPr>
          <p:spPr>
            <a:xfrm flipH="1">
              <a:off x="9770760" y="3790800"/>
              <a:ext cx="277560" cy="461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9"/>
            <p:cNvSpPr/>
            <p:nvPr/>
          </p:nvSpPr>
          <p:spPr>
            <a:xfrm flipH="1">
              <a:off x="9763200" y="4479120"/>
              <a:ext cx="277560" cy="45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0"/>
            <p:cNvSpPr/>
            <p:nvPr/>
          </p:nvSpPr>
          <p:spPr>
            <a:xfrm flipH="1">
              <a:off x="10048680" y="3936240"/>
              <a:ext cx="270360" cy="4906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1"/>
            <p:cNvSpPr/>
            <p:nvPr/>
          </p:nvSpPr>
          <p:spPr>
            <a:xfrm flipH="1">
              <a:off x="10041120" y="4466520"/>
              <a:ext cx="270360" cy="493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2"/>
            <p:cNvSpPr/>
            <p:nvPr/>
          </p:nvSpPr>
          <p:spPr>
            <a:xfrm flipH="1">
              <a:off x="10023840" y="2383200"/>
              <a:ext cx="61200" cy="257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823" name="Freeform 70"/>
            <p:cNvSpPr/>
            <p:nvPr/>
          </p:nvSpPr>
          <p:spPr>
            <a:xfrm>
              <a:off x="11532960" y="2608560"/>
              <a:ext cx="25200" cy="1171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1"/>
            <p:cNvSpPr/>
            <p:nvPr/>
          </p:nvSpPr>
          <p:spPr>
            <a:xfrm>
              <a:off x="11377440" y="3260880"/>
              <a:ext cx="139680" cy="215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2"/>
            <p:cNvSpPr/>
            <p:nvPr/>
          </p:nvSpPr>
          <p:spPr>
            <a:xfrm>
              <a:off x="11559960" y="307836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3"/>
            <p:cNvSpPr/>
            <p:nvPr/>
          </p:nvSpPr>
          <p:spPr>
            <a:xfrm>
              <a:off x="11377440" y="3515760"/>
              <a:ext cx="139680" cy="219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4"/>
            <p:cNvSpPr/>
            <p:nvPr/>
          </p:nvSpPr>
          <p:spPr>
            <a:xfrm>
              <a:off x="11674800" y="21736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5"/>
            <p:cNvSpPr/>
            <p:nvPr/>
          </p:nvSpPr>
          <p:spPr>
            <a:xfrm>
              <a:off x="11559960" y="3622680"/>
              <a:ext cx="139680" cy="2188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6"/>
            <p:cNvSpPr/>
            <p:nvPr/>
          </p:nvSpPr>
          <p:spPr>
            <a:xfrm>
              <a:off x="11377440" y="2973240"/>
              <a:ext cx="139680" cy="219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7"/>
            <p:cNvSpPr/>
            <p:nvPr/>
          </p:nvSpPr>
          <p:spPr>
            <a:xfrm>
              <a:off x="11559960" y="279216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8"/>
            <p:cNvSpPr/>
            <p:nvPr/>
          </p:nvSpPr>
          <p:spPr>
            <a:xfrm>
              <a:off x="11377440" y="269820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9"/>
            <p:cNvSpPr/>
            <p:nvPr/>
          </p:nvSpPr>
          <p:spPr>
            <a:xfrm>
              <a:off x="11377440" y="244080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0"/>
            <p:cNvSpPr/>
            <p:nvPr/>
          </p:nvSpPr>
          <p:spPr>
            <a:xfrm>
              <a:off x="11559960" y="25174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1"/>
            <p:cNvSpPr/>
            <p:nvPr/>
          </p:nvSpPr>
          <p:spPr>
            <a:xfrm>
              <a:off x="11100240" y="1464840"/>
              <a:ext cx="18000" cy="9122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2"/>
            <p:cNvSpPr/>
            <p:nvPr/>
          </p:nvSpPr>
          <p:spPr>
            <a:xfrm>
              <a:off x="10978200" y="1953720"/>
              <a:ext cx="10944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3"/>
            <p:cNvSpPr/>
            <p:nvPr/>
          </p:nvSpPr>
          <p:spPr>
            <a:xfrm>
              <a:off x="11122560" y="181188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4"/>
            <p:cNvSpPr/>
            <p:nvPr/>
          </p:nvSpPr>
          <p:spPr>
            <a:xfrm>
              <a:off x="10978200" y="21531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5"/>
            <p:cNvSpPr/>
            <p:nvPr/>
          </p:nvSpPr>
          <p:spPr>
            <a:xfrm>
              <a:off x="11122560" y="2011320"/>
              <a:ext cx="10692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6"/>
            <p:cNvSpPr/>
            <p:nvPr/>
          </p:nvSpPr>
          <p:spPr>
            <a:xfrm>
              <a:off x="11122560" y="223560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7"/>
            <p:cNvSpPr/>
            <p:nvPr/>
          </p:nvSpPr>
          <p:spPr>
            <a:xfrm>
              <a:off x="10978200" y="17319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8"/>
            <p:cNvSpPr/>
            <p:nvPr/>
          </p:nvSpPr>
          <p:spPr>
            <a:xfrm>
              <a:off x="11122560" y="159012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9"/>
            <p:cNvSpPr/>
            <p:nvPr/>
          </p:nvSpPr>
          <p:spPr>
            <a:xfrm>
              <a:off x="10978200" y="151632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0"/>
            <p:cNvSpPr/>
            <p:nvPr/>
          </p:nvSpPr>
          <p:spPr>
            <a:xfrm>
              <a:off x="10978200" y="131724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1"/>
            <p:cNvSpPr/>
            <p:nvPr/>
          </p:nvSpPr>
          <p:spPr>
            <a:xfrm>
              <a:off x="11122560" y="1377000"/>
              <a:ext cx="106920" cy="16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2"/>
            <p:cNvSpPr/>
            <p:nvPr/>
          </p:nvSpPr>
          <p:spPr>
            <a:xfrm>
              <a:off x="10895040" y="1965960"/>
              <a:ext cx="229320" cy="10792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3"/>
            <p:cNvSpPr/>
            <p:nvPr/>
          </p:nvSpPr>
          <p:spPr>
            <a:xfrm>
              <a:off x="11427840" y="2529720"/>
              <a:ext cx="328320" cy="1553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4"/>
            <p:cNvSpPr/>
            <p:nvPr/>
          </p:nvSpPr>
          <p:spPr>
            <a:xfrm>
              <a:off x="11003400" y="3585240"/>
              <a:ext cx="31176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11068560" y="3644640"/>
              <a:ext cx="264960" cy="452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6"/>
            <p:cNvSpPr/>
            <p:nvPr/>
          </p:nvSpPr>
          <p:spPr>
            <a:xfrm>
              <a:off x="11317320" y="1368360"/>
              <a:ext cx="201600" cy="3859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7"/>
            <p:cNvSpPr/>
            <p:nvPr/>
          </p:nvSpPr>
          <p:spPr>
            <a:xfrm>
              <a:off x="11405880" y="1378800"/>
              <a:ext cx="102240" cy="322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8"/>
            <p:cNvSpPr/>
            <p:nvPr/>
          </p:nvSpPr>
          <p:spPr>
            <a:xfrm>
              <a:off x="11332080" y="2570400"/>
              <a:ext cx="21888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9"/>
            <p:cNvSpPr/>
            <p:nvPr/>
          </p:nvSpPr>
          <p:spPr>
            <a:xfrm>
              <a:off x="11430360" y="2578320"/>
              <a:ext cx="11124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0"/>
            <p:cNvSpPr/>
            <p:nvPr/>
          </p:nvSpPr>
          <p:spPr>
            <a:xfrm>
              <a:off x="11315520" y="3665520"/>
              <a:ext cx="22176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1"/>
            <p:cNvSpPr/>
            <p:nvPr/>
          </p:nvSpPr>
          <p:spPr>
            <a:xfrm>
              <a:off x="11413800" y="3673080"/>
              <a:ext cx="11088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2"/>
            <p:cNvSpPr/>
            <p:nvPr/>
          </p:nvSpPr>
          <p:spPr>
            <a:xfrm>
              <a:off x="11073240" y="2371320"/>
              <a:ext cx="221400" cy="4312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3"/>
            <p:cNvSpPr/>
            <p:nvPr/>
          </p:nvSpPr>
          <p:spPr>
            <a:xfrm>
              <a:off x="11083680" y="2379240"/>
              <a:ext cx="110160" cy="3632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4"/>
            <p:cNvSpPr/>
            <p:nvPr/>
          </p:nvSpPr>
          <p:spPr>
            <a:xfrm>
              <a:off x="11013840" y="3018240"/>
              <a:ext cx="30924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5"/>
            <p:cNvSpPr/>
            <p:nvPr/>
          </p:nvSpPr>
          <p:spPr>
            <a:xfrm>
              <a:off x="11321640" y="266256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6"/>
            <p:cNvSpPr/>
            <p:nvPr/>
          </p:nvSpPr>
          <p:spPr>
            <a:xfrm>
              <a:off x="11297520" y="3184200"/>
              <a:ext cx="309240" cy="488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7"/>
            <p:cNvSpPr/>
            <p:nvPr/>
          </p:nvSpPr>
          <p:spPr>
            <a:xfrm>
              <a:off x="11300760" y="3735000"/>
              <a:ext cx="30600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8"/>
            <p:cNvSpPr/>
            <p:nvPr/>
          </p:nvSpPr>
          <p:spPr>
            <a:xfrm>
              <a:off x="10999080" y="2436480"/>
              <a:ext cx="309960" cy="4824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9"/>
            <p:cNvSpPr/>
            <p:nvPr/>
          </p:nvSpPr>
          <p:spPr>
            <a:xfrm>
              <a:off x="11335680" y="2032200"/>
              <a:ext cx="308520" cy="48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0"/>
            <p:cNvSpPr/>
            <p:nvPr/>
          </p:nvSpPr>
          <p:spPr>
            <a:xfrm>
              <a:off x="10999080" y="182088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1"/>
            <p:cNvSpPr/>
            <p:nvPr/>
          </p:nvSpPr>
          <p:spPr>
            <a:xfrm>
              <a:off x="10985400" y="1247760"/>
              <a:ext cx="31176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2"/>
            <p:cNvSpPr/>
            <p:nvPr/>
          </p:nvSpPr>
          <p:spPr>
            <a:xfrm>
              <a:off x="11309400" y="1466640"/>
              <a:ext cx="279000" cy="435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3"/>
            <p:cNvSpPr/>
            <p:nvPr/>
          </p:nvSpPr>
          <p:spPr>
            <a:xfrm>
              <a:off x="11340000" y="2662560"/>
              <a:ext cx="260640" cy="478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4"/>
            <p:cNvSpPr/>
            <p:nvPr/>
          </p:nvSpPr>
          <p:spPr>
            <a:xfrm>
              <a:off x="11354760" y="2048400"/>
              <a:ext cx="260640" cy="478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5"/>
            <p:cNvSpPr/>
            <p:nvPr/>
          </p:nvSpPr>
          <p:spPr>
            <a:xfrm>
              <a:off x="11325960" y="1473840"/>
              <a:ext cx="233640" cy="428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6"/>
            <p:cNvSpPr/>
            <p:nvPr/>
          </p:nvSpPr>
          <p:spPr>
            <a:xfrm>
              <a:off x="11017440" y="1279800"/>
              <a:ext cx="276840" cy="460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7"/>
            <p:cNvSpPr/>
            <p:nvPr/>
          </p:nvSpPr>
          <p:spPr>
            <a:xfrm>
              <a:off x="11029680" y="1838880"/>
              <a:ext cx="276840" cy="45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8"/>
            <p:cNvSpPr/>
            <p:nvPr/>
          </p:nvSpPr>
          <p:spPr>
            <a:xfrm>
              <a:off x="11038320" y="2455560"/>
              <a:ext cx="26496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9"/>
            <p:cNvSpPr/>
            <p:nvPr/>
          </p:nvSpPr>
          <p:spPr>
            <a:xfrm>
              <a:off x="11040120" y="3022560"/>
              <a:ext cx="26928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0"/>
            <p:cNvSpPr/>
            <p:nvPr/>
          </p:nvSpPr>
          <p:spPr>
            <a:xfrm>
              <a:off x="11315520" y="3161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1"/>
            <p:cNvSpPr/>
            <p:nvPr/>
          </p:nvSpPr>
          <p:spPr>
            <a:xfrm>
              <a:off x="11315520" y="3728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22"/>
            <p:cNvSpPr/>
            <p:nvPr/>
          </p:nvSpPr>
          <p:spPr>
            <a:xfrm>
              <a:off x="11287080" y="1695600"/>
              <a:ext cx="59040" cy="255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23"/>
            <p:cNvSpPr/>
            <p:nvPr/>
          </p:nvSpPr>
          <p:spPr>
            <a:xfrm>
              <a:off x="11709360" y="2155680"/>
              <a:ext cx="168480" cy="334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4"/>
            <p:cNvSpPr/>
            <p:nvPr/>
          </p:nvSpPr>
          <p:spPr>
            <a:xfrm>
              <a:off x="11715480" y="2166120"/>
              <a:ext cx="88560" cy="276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5"/>
            <p:cNvSpPr/>
            <p:nvPr/>
          </p:nvSpPr>
          <p:spPr>
            <a:xfrm>
              <a:off x="11691000" y="3202560"/>
              <a:ext cx="191160" cy="370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6"/>
            <p:cNvSpPr/>
            <p:nvPr/>
          </p:nvSpPr>
          <p:spPr>
            <a:xfrm>
              <a:off x="11699640" y="3209760"/>
              <a:ext cx="96480" cy="31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7"/>
            <p:cNvSpPr/>
            <p:nvPr/>
          </p:nvSpPr>
          <p:spPr>
            <a:xfrm>
              <a:off x="11699640" y="4125600"/>
              <a:ext cx="192960" cy="371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8"/>
            <p:cNvSpPr/>
            <p:nvPr/>
          </p:nvSpPr>
          <p:spPr>
            <a:xfrm>
              <a:off x="11713680" y="4136040"/>
              <a:ext cx="91800" cy="3078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9"/>
            <p:cNvSpPr/>
            <p:nvPr/>
          </p:nvSpPr>
          <p:spPr>
            <a:xfrm>
              <a:off x="11890080" y="3060720"/>
              <a:ext cx="189360" cy="376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30"/>
            <p:cNvSpPr/>
            <p:nvPr/>
          </p:nvSpPr>
          <p:spPr>
            <a:xfrm>
              <a:off x="11974680" y="3071160"/>
              <a:ext cx="96120" cy="308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1"/>
            <p:cNvSpPr/>
            <p:nvPr/>
          </p:nvSpPr>
          <p:spPr>
            <a:xfrm>
              <a:off x="11876400" y="3612240"/>
              <a:ext cx="263880" cy="417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32"/>
            <p:cNvSpPr/>
            <p:nvPr/>
          </p:nvSpPr>
          <p:spPr>
            <a:xfrm>
              <a:off x="11625120" y="3283560"/>
              <a:ext cx="264960" cy="414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3"/>
            <p:cNvSpPr/>
            <p:nvPr/>
          </p:nvSpPr>
          <p:spPr>
            <a:xfrm>
              <a:off x="11883960" y="4164480"/>
              <a:ext cx="264960" cy="416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4"/>
            <p:cNvSpPr/>
            <p:nvPr/>
          </p:nvSpPr>
          <p:spPr>
            <a:xfrm>
              <a:off x="11631960" y="3757320"/>
              <a:ext cx="26424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5"/>
            <p:cNvSpPr/>
            <p:nvPr/>
          </p:nvSpPr>
          <p:spPr>
            <a:xfrm>
              <a:off x="11639880" y="4168800"/>
              <a:ext cx="26496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6"/>
            <p:cNvSpPr/>
            <p:nvPr/>
          </p:nvSpPr>
          <p:spPr>
            <a:xfrm>
              <a:off x="11876400" y="3116520"/>
              <a:ext cx="26388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7"/>
            <p:cNvSpPr/>
            <p:nvPr/>
          </p:nvSpPr>
          <p:spPr>
            <a:xfrm>
              <a:off x="11612880" y="2734920"/>
              <a:ext cx="264960" cy="420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8"/>
            <p:cNvSpPr/>
            <p:nvPr/>
          </p:nvSpPr>
          <p:spPr>
            <a:xfrm>
              <a:off x="11876400" y="2561760"/>
              <a:ext cx="263880" cy="4154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9"/>
            <p:cNvSpPr/>
            <p:nvPr/>
          </p:nvSpPr>
          <p:spPr>
            <a:xfrm>
              <a:off x="11872080" y="2095560"/>
              <a:ext cx="26640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0"/>
            <p:cNvSpPr/>
            <p:nvPr/>
          </p:nvSpPr>
          <p:spPr>
            <a:xfrm>
              <a:off x="11647800" y="2243520"/>
              <a:ext cx="237960" cy="371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41"/>
            <p:cNvSpPr/>
            <p:nvPr/>
          </p:nvSpPr>
          <p:spPr>
            <a:xfrm>
              <a:off x="11650320" y="3283560"/>
              <a:ext cx="226080" cy="4122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42"/>
            <p:cNvSpPr/>
            <p:nvPr/>
          </p:nvSpPr>
          <p:spPr>
            <a:xfrm>
              <a:off x="11638080" y="2748600"/>
              <a:ext cx="223200" cy="415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3"/>
            <p:cNvSpPr/>
            <p:nvPr/>
          </p:nvSpPr>
          <p:spPr>
            <a:xfrm>
              <a:off x="11673000" y="2249640"/>
              <a:ext cx="199080" cy="365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4"/>
            <p:cNvSpPr/>
            <p:nvPr/>
          </p:nvSpPr>
          <p:spPr>
            <a:xfrm>
              <a:off x="11872080" y="2120760"/>
              <a:ext cx="239760" cy="389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5"/>
            <p:cNvSpPr/>
            <p:nvPr/>
          </p:nvSpPr>
          <p:spPr>
            <a:xfrm>
              <a:off x="11876400" y="2578320"/>
              <a:ext cx="237960" cy="390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6"/>
            <p:cNvSpPr/>
            <p:nvPr/>
          </p:nvSpPr>
          <p:spPr>
            <a:xfrm>
              <a:off x="11876400" y="3135960"/>
              <a:ext cx="23544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7"/>
            <p:cNvSpPr/>
            <p:nvPr/>
          </p:nvSpPr>
          <p:spPr>
            <a:xfrm>
              <a:off x="11972880" y="3344400"/>
              <a:ext cx="1440" cy="2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8"/>
            <p:cNvSpPr/>
            <p:nvPr/>
          </p:nvSpPr>
          <p:spPr>
            <a:xfrm>
              <a:off x="11883960" y="3615840"/>
              <a:ext cx="232200" cy="385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9"/>
            <p:cNvSpPr/>
            <p:nvPr/>
          </p:nvSpPr>
          <p:spPr>
            <a:xfrm>
              <a:off x="11890080" y="4191480"/>
              <a:ext cx="23220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0"/>
            <p:cNvSpPr/>
            <p:nvPr/>
          </p:nvSpPr>
          <p:spPr>
            <a:xfrm>
              <a:off x="11658240" y="3737520"/>
              <a:ext cx="225720" cy="410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1"/>
            <p:cNvSpPr/>
            <p:nvPr/>
          </p:nvSpPr>
          <p:spPr>
            <a:xfrm>
              <a:off x="11664360" y="4181040"/>
              <a:ext cx="225720" cy="412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52"/>
            <p:cNvSpPr/>
            <p:nvPr/>
          </p:nvSpPr>
          <p:spPr>
            <a:xfrm>
              <a:off x="11853720" y="2439000"/>
              <a:ext cx="51120" cy="2148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907" name="Freeform 70"/>
            <p:cNvSpPr/>
            <p:nvPr/>
          </p:nvSpPr>
          <p:spPr>
            <a:xfrm>
              <a:off x="9630720" y="2898000"/>
              <a:ext cx="18000" cy="8456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1"/>
            <p:cNvSpPr/>
            <p:nvPr/>
          </p:nvSpPr>
          <p:spPr>
            <a:xfrm>
              <a:off x="9518040" y="3351960"/>
              <a:ext cx="101160" cy="155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"/>
            <p:cNvSpPr/>
            <p:nvPr/>
          </p:nvSpPr>
          <p:spPr>
            <a:xfrm>
              <a:off x="9650160" y="3219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"/>
            <p:cNvSpPr/>
            <p:nvPr/>
          </p:nvSpPr>
          <p:spPr>
            <a:xfrm>
              <a:off x="9518040" y="353592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"/>
            <p:cNvSpPr/>
            <p:nvPr/>
          </p:nvSpPr>
          <p:spPr>
            <a:xfrm>
              <a:off x="9650160" y="34052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5"/>
            <p:cNvSpPr/>
            <p:nvPr/>
          </p:nvSpPr>
          <p:spPr>
            <a:xfrm>
              <a:off x="9650160" y="3613320"/>
              <a:ext cx="100800" cy="1580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6"/>
            <p:cNvSpPr/>
            <p:nvPr/>
          </p:nvSpPr>
          <p:spPr>
            <a:xfrm>
              <a:off x="9518040" y="314424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7"/>
            <p:cNvSpPr/>
            <p:nvPr/>
          </p:nvSpPr>
          <p:spPr>
            <a:xfrm>
              <a:off x="9650160" y="3013560"/>
              <a:ext cx="10080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8"/>
            <p:cNvSpPr/>
            <p:nvPr/>
          </p:nvSpPr>
          <p:spPr>
            <a:xfrm>
              <a:off x="9518040" y="2945520"/>
              <a:ext cx="10116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"/>
            <p:cNvSpPr/>
            <p:nvPr/>
          </p:nvSpPr>
          <p:spPr>
            <a:xfrm>
              <a:off x="9518040" y="2759760"/>
              <a:ext cx="10116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0"/>
            <p:cNvSpPr/>
            <p:nvPr/>
          </p:nvSpPr>
          <p:spPr>
            <a:xfrm>
              <a:off x="9650160" y="2814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1"/>
            <p:cNvSpPr/>
            <p:nvPr/>
          </p:nvSpPr>
          <p:spPr>
            <a:xfrm>
              <a:off x="9235080" y="2893320"/>
              <a:ext cx="12960" cy="658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2"/>
            <p:cNvSpPr/>
            <p:nvPr/>
          </p:nvSpPr>
          <p:spPr>
            <a:xfrm>
              <a:off x="9146880" y="3246480"/>
              <a:ext cx="7920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3"/>
            <p:cNvSpPr/>
            <p:nvPr/>
          </p:nvSpPr>
          <p:spPr>
            <a:xfrm>
              <a:off x="9251280" y="3144240"/>
              <a:ext cx="7704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4"/>
            <p:cNvSpPr/>
            <p:nvPr/>
          </p:nvSpPr>
          <p:spPr>
            <a:xfrm>
              <a:off x="9146880" y="339048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5"/>
            <p:cNvSpPr/>
            <p:nvPr/>
          </p:nvSpPr>
          <p:spPr>
            <a:xfrm>
              <a:off x="9251280" y="3287880"/>
              <a:ext cx="7704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6"/>
            <p:cNvSpPr/>
            <p:nvPr/>
          </p:nvSpPr>
          <p:spPr>
            <a:xfrm>
              <a:off x="9251280" y="344988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7"/>
            <p:cNvSpPr/>
            <p:nvPr/>
          </p:nvSpPr>
          <p:spPr>
            <a:xfrm>
              <a:off x="9146880" y="3086280"/>
              <a:ext cx="7920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8"/>
            <p:cNvSpPr/>
            <p:nvPr/>
          </p:nvSpPr>
          <p:spPr>
            <a:xfrm>
              <a:off x="9251280" y="298404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9"/>
            <p:cNvSpPr/>
            <p:nvPr/>
          </p:nvSpPr>
          <p:spPr>
            <a:xfrm>
              <a:off x="9146880" y="2930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90"/>
            <p:cNvSpPr/>
            <p:nvPr/>
          </p:nvSpPr>
          <p:spPr>
            <a:xfrm>
              <a:off x="9146880" y="2786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1"/>
            <p:cNvSpPr/>
            <p:nvPr/>
          </p:nvSpPr>
          <p:spPr>
            <a:xfrm>
              <a:off x="9251280" y="2829960"/>
              <a:ext cx="77040" cy="120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"/>
            <p:cNvSpPr/>
            <p:nvPr/>
          </p:nvSpPr>
          <p:spPr>
            <a:xfrm>
              <a:off x="9086760" y="3255120"/>
              <a:ext cx="165600" cy="7794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4"/>
            <p:cNvSpPr/>
            <p:nvPr/>
          </p:nvSpPr>
          <p:spPr>
            <a:xfrm>
              <a:off x="9165240" y="4424400"/>
              <a:ext cx="2253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5"/>
            <p:cNvSpPr/>
            <p:nvPr/>
          </p:nvSpPr>
          <p:spPr>
            <a:xfrm>
              <a:off x="9212400" y="4467240"/>
              <a:ext cx="191520" cy="326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6"/>
            <p:cNvSpPr/>
            <p:nvPr/>
          </p:nvSpPr>
          <p:spPr>
            <a:xfrm>
              <a:off x="9392040" y="2823840"/>
              <a:ext cx="145440" cy="2786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7"/>
            <p:cNvSpPr/>
            <p:nvPr/>
          </p:nvSpPr>
          <p:spPr>
            <a:xfrm>
              <a:off x="9456120" y="2831400"/>
              <a:ext cx="73800" cy="232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8"/>
            <p:cNvSpPr/>
            <p:nvPr/>
          </p:nvSpPr>
          <p:spPr>
            <a:xfrm>
              <a:off x="9402480" y="3691800"/>
              <a:ext cx="15804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9"/>
            <p:cNvSpPr/>
            <p:nvPr/>
          </p:nvSpPr>
          <p:spPr>
            <a:xfrm>
              <a:off x="9473760" y="369720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0"/>
            <p:cNvSpPr/>
            <p:nvPr/>
          </p:nvSpPr>
          <p:spPr>
            <a:xfrm>
              <a:off x="9390600" y="4482360"/>
              <a:ext cx="16020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1"/>
            <p:cNvSpPr/>
            <p:nvPr/>
          </p:nvSpPr>
          <p:spPr>
            <a:xfrm>
              <a:off x="9461880" y="448812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2"/>
            <p:cNvSpPr/>
            <p:nvPr/>
          </p:nvSpPr>
          <p:spPr>
            <a:xfrm>
              <a:off x="9215280" y="3547800"/>
              <a:ext cx="159840" cy="3114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3"/>
            <p:cNvSpPr/>
            <p:nvPr/>
          </p:nvSpPr>
          <p:spPr>
            <a:xfrm>
              <a:off x="9222840" y="3553560"/>
              <a:ext cx="79560" cy="262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4"/>
            <p:cNvSpPr/>
            <p:nvPr/>
          </p:nvSpPr>
          <p:spPr>
            <a:xfrm>
              <a:off x="9172800" y="4015080"/>
              <a:ext cx="2235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5"/>
            <p:cNvSpPr/>
            <p:nvPr/>
          </p:nvSpPr>
          <p:spPr>
            <a:xfrm>
              <a:off x="9394920" y="375840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6"/>
            <p:cNvSpPr/>
            <p:nvPr/>
          </p:nvSpPr>
          <p:spPr>
            <a:xfrm>
              <a:off x="9377640" y="4134960"/>
              <a:ext cx="2235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7"/>
            <p:cNvSpPr/>
            <p:nvPr/>
          </p:nvSpPr>
          <p:spPr>
            <a:xfrm>
              <a:off x="9379800" y="4532760"/>
              <a:ext cx="22104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8"/>
            <p:cNvSpPr/>
            <p:nvPr/>
          </p:nvSpPr>
          <p:spPr>
            <a:xfrm>
              <a:off x="9162000" y="3594960"/>
              <a:ext cx="224280" cy="348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9"/>
            <p:cNvSpPr/>
            <p:nvPr/>
          </p:nvSpPr>
          <p:spPr>
            <a:xfrm>
              <a:off x="9405360" y="3303000"/>
              <a:ext cx="222840" cy="350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0"/>
            <p:cNvSpPr/>
            <p:nvPr/>
          </p:nvSpPr>
          <p:spPr>
            <a:xfrm>
              <a:off x="9162000" y="315036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1"/>
            <p:cNvSpPr/>
            <p:nvPr/>
          </p:nvSpPr>
          <p:spPr>
            <a:xfrm>
              <a:off x="9151920" y="2736720"/>
              <a:ext cx="2253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2"/>
            <p:cNvSpPr/>
            <p:nvPr/>
          </p:nvSpPr>
          <p:spPr>
            <a:xfrm>
              <a:off x="9386280" y="2894760"/>
              <a:ext cx="201600" cy="31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3"/>
            <p:cNvSpPr/>
            <p:nvPr/>
          </p:nvSpPr>
          <p:spPr>
            <a:xfrm>
              <a:off x="9408240" y="3758400"/>
              <a:ext cx="188280" cy="3456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4"/>
            <p:cNvSpPr/>
            <p:nvPr/>
          </p:nvSpPr>
          <p:spPr>
            <a:xfrm>
              <a:off x="9419040" y="3314880"/>
              <a:ext cx="188280" cy="345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5"/>
            <p:cNvSpPr/>
            <p:nvPr/>
          </p:nvSpPr>
          <p:spPr>
            <a:xfrm>
              <a:off x="9398160" y="2899800"/>
              <a:ext cx="168840" cy="309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6"/>
            <p:cNvSpPr/>
            <p:nvPr/>
          </p:nvSpPr>
          <p:spPr>
            <a:xfrm>
              <a:off x="9175320" y="2759760"/>
              <a:ext cx="200160" cy="33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7"/>
            <p:cNvSpPr/>
            <p:nvPr/>
          </p:nvSpPr>
          <p:spPr>
            <a:xfrm>
              <a:off x="9183960" y="3163680"/>
              <a:ext cx="200160" cy="331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8"/>
            <p:cNvSpPr/>
            <p:nvPr/>
          </p:nvSpPr>
          <p:spPr>
            <a:xfrm>
              <a:off x="9190440" y="3608640"/>
              <a:ext cx="19152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9"/>
            <p:cNvSpPr/>
            <p:nvPr/>
          </p:nvSpPr>
          <p:spPr>
            <a:xfrm>
              <a:off x="9191520" y="4018320"/>
              <a:ext cx="19476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0"/>
            <p:cNvSpPr/>
            <p:nvPr/>
          </p:nvSpPr>
          <p:spPr>
            <a:xfrm>
              <a:off x="9390600" y="411876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1"/>
            <p:cNvSpPr/>
            <p:nvPr/>
          </p:nvSpPr>
          <p:spPr>
            <a:xfrm>
              <a:off x="9390600" y="452808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2"/>
            <p:cNvSpPr/>
            <p:nvPr/>
          </p:nvSpPr>
          <p:spPr>
            <a:xfrm>
              <a:off x="9370080" y="3060000"/>
              <a:ext cx="42480" cy="18450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3"/>
            <p:cNvSpPr/>
            <p:nvPr/>
          </p:nvSpPr>
          <p:spPr>
            <a:xfrm>
              <a:off x="9675360" y="3392280"/>
              <a:ext cx="121680" cy="241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4"/>
            <p:cNvSpPr/>
            <p:nvPr/>
          </p:nvSpPr>
          <p:spPr>
            <a:xfrm>
              <a:off x="9679680" y="3399840"/>
              <a:ext cx="64080" cy="199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5"/>
            <p:cNvSpPr/>
            <p:nvPr/>
          </p:nvSpPr>
          <p:spPr>
            <a:xfrm>
              <a:off x="9662040" y="4148280"/>
              <a:ext cx="137880" cy="267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6"/>
            <p:cNvSpPr/>
            <p:nvPr/>
          </p:nvSpPr>
          <p:spPr>
            <a:xfrm>
              <a:off x="9668520" y="4153320"/>
              <a:ext cx="69480" cy="225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7"/>
            <p:cNvSpPr/>
            <p:nvPr/>
          </p:nvSpPr>
          <p:spPr>
            <a:xfrm>
              <a:off x="9668520" y="4814640"/>
              <a:ext cx="139320" cy="268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8"/>
            <p:cNvSpPr/>
            <p:nvPr/>
          </p:nvSpPr>
          <p:spPr>
            <a:xfrm>
              <a:off x="9678600" y="4822200"/>
              <a:ext cx="66240" cy="22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9"/>
            <p:cNvSpPr/>
            <p:nvPr/>
          </p:nvSpPr>
          <p:spPr>
            <a:xfrm>
              <a:off x="9806040" y="4045680"/>
              <a:ext cx="136800" cy="2718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0"/>
            <p:cNvSpPr/>
            <p:nvPr/>
          </p:nvSpPr>
          <p:spPr>
            <a:xfrm>
              <a:off x="9866880" y="4053240"/>
              <a:ext cx="69480" cy="2228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1"/>
            <p:cNvSpPr/>
            <p:nvPr/>
          </p:nvSpPr>
          <p:spPr>
            <a:xfrm>
              <a:off x="9795960" y="4444200"/>
              <a:ext cx="190800" cy="302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2"/>
            <p:cNvSpPr/>
            <p:nvPr/>
          </p:nvSpPr>
          <p:spPr>
            <a:xfrm>
              <a:off x="9614520" y="4206600"/>
              <a:ext cx="191520" cy="299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3"/>
            <p:cNvSpPr/>
            <p:nvPr/>
          </p:nvSpPr>
          <p:spPr>
            <a:xfrm>
              <a:off x="9801720" y="4842720"/>
              <a:ext cx="191520" cy="300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4"/>
            <p:cNvSpPr/>
            <p:nvPr/>
          </p:nvSpPr>
          <p:spPr>
            <a:xfrm>
              <a:off x="9619200" y="4548960"/>
              <a:ext cx="1908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5"/>
            <p:cNvSpPr/>
            <p:nvPr/>
          </p:nvSpPr>
          <p:spPr>
            <a:xfrm>
              <a:off x="9624960" y="4845960"/>
              <a:ext cx="19152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6"/>
            <p:cNvSpPr/>
            <p:nvPr/>
          </p:nvSpPr>
          <p:spPr>
            <a:xfrm>
              <a:off x="9795960" y="4086000"/>
              <a:ext cx="19080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7"/>
            <p:cNvSpPr/>
            <p:nvPr/>
          </p:nvSpPr>
          <p:spPr>
            <a:xfrm>
              <a:off x="9605520" y="3810600"/>
              <a:ext cx="191520" cy="303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8"/>
            <p:cNvSpPr/>
            <p:nvPr/>
          </p:nvSpPr>
          <p:spPr>
            <a:xfrm>
              <a:off x="9795960" y="3685320"/>
              <a:ext cx="190800" cy="299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9"/>
            <p:cNvSpPr/>
            <p:nvPr/>
          </p:nvSpPr>
          <p:spPr>
            <a:xfrm>
              <a:off x="9793080" y="3348720"/>
              <a:ext cx="1926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0"/>
            <p:cNvSpPr/>
            <p:nvPr/>
          </p:nvSpPr>
          <p:spPr>
            <a:xfrm>
              <a:off x="9630720" y="3455640"/>
              <a:ext cx="172080" cy="2685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41"/>
            <p:cNvSpPr/>
            <p:nvPr/>
          </p:nvSpPr>
          <p:spPr>
            <a:xfrm>
              <a:off x="9632520" y="4206600"/>
              <a:ext cx="163440" cy="297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42"/>
            <p:cNvSpPr/>
            <p:nvPr/>
          </p:nvSpPr>
          <p:spPr>
            <a:xfrm>
              <a:off x="9623880" y="3820320"/>
              <a:ext cx="161280" cy="299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43"/>
            <p:cNvSpPr/>
            <p:nvPr/>
          </p:nvSpPr>
          <p:spPr>
            <a:xfrm>
              <a:off x="9649080" y="3459960"/>
              <a:ext cx="143640" cy="264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4"/>
            <p:cNvSpPr/>
            <p:nvPr/>
          </p:nvSpPr>
          <p:spPr>
            <a:xfrm>
              <a:off x="9793080" y="3367080"/>
              <a:ext cx="173160" cy="28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5"/>
            <p:cNvSpPr/>
            <p:nvPr/>
          </p:nvSpPr>
          <p:spPr>
            <a:xfrm>
              <a:off x="9795960" y="3697200"/>
              <a:ext cx="172080" cy="281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6"/>
            <p:cNvSpPr/>
            <p:nvPr/>
          </p:nvSpPr>
          <p:spPr>
            <a:xfrm>
              <a:off x="9795960" y="4100040"/>
              <a:ext cx="17028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7"/>
            <p:cNvSpPr/>
            <p:nvPr/>
          </p:nvSpPr>
          <p:spPr>
            <a:xfrm>
              <a:off x="9865800" y="4250520"/>
              <a:ext cx="1080" cy="1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8"/>
            <p:cNvSpPr/>
            <p:nvPr/>
          </p:nvSpPr>
          <p:spPr>
            <a:xfrm>
              <a:off x="9801720" y="4446720"/>
              <a:ext cx="167760" cy="27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9"/>
            <p:cNvSpPr/>
            <p:nvPr/>
          </p:nvSpPr>
          <p:spPr>
            <a:xfrm>
              <a:off x="9806040" y="4862160"/>
              <a:ext cx="16776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0"/>
            <p:cNvSpPr/>
            <p:nvPr/>
          </p:nvSpPr>
          <p:spPr>
            <a:xfrm>
              <a:off x="9638280" y="4534560"/>
              <a:ext cx="163080" cy="296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1"/>
            <p:cNvSpPr/>
            <p:nvPr/>
          </p:nvSpPr>
          <p:spPr>
            <a:xfrm>
              <a:off x="9642600" y="4854600"/>
              <a:ext cx="163080" cy="2980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2"/>
            <p:cNvSpPr/>
            <p:nvPr/>
          </p:nvSpPr>
          <p:spPr>
            <a:xfrm>
              <a:off x="9779760" y="3596760"/>
              <a:ext cx="36720" cy="1551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990" name="Freeform 51"/>
            <p:cNvSpPr/>
            <p:nvPr/>
          </p:nvSpPr>
          <p:spPr>
            <a:xfrm>
              <a:off x="10782720" y="2980080"/>
              <a:ext cx="302760" cy="3344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10883520" y="3009600"/>
              <a:ext cx="26640" cy="252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10935360" y="2953080"/>
              <a:ext cx="41040" cy="4860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10913760" y="2953080"/>
              <a:ext cx="43920" cy="56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11606760" y="2994120"/>
              <a:ext cx="301320" cy="33156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11767680" y="3426840"/>
              <a:ext cx="29880" cy="298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1719080" y="2968920"/>
              <a:ext cx="40680" cy="518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11737800" y="2963880"/>
              <a:ext cx="40680" cy="5688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10514160" y="3267360"/>
              <a:ext cx="220680" cy="148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11782080" y="3289320"/>
              <a:ext cx="216000" cy="1479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11218320" y="3782520"/>
              <a:ext cx="100800" cy="85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11003400" y="3741120"/>
              <a:ext cx="479880" cy="2415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10652760" y="3243600"/>
              <a:ext cx="1229760" cy="56376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11039760" y="2856960"/>
              <a:ext cx="473400" cy="479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11003400" y="3196440"/>
              <a:ext cx="490680" cy="1814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10981440" y="3722040"/>
              <a:ext cx="513000" cy="17820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10957680" y="2438280"/>
              <a:ext cx="630000" cy="58248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11293920" y="3002040"/>
              <a:ext cx="10404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11162880" y="3002040"/>
              <a:ext cx="9792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11050920" y="3046320"/>
              <a:ext cx="459720" cy="20520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1107800" y="3098160"/>
              <a:ext cx="309240" cy="4572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069640" y="3038400"/>
              <a:ext cx="92880" cy="8640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1371320" y="3065400"/>
              <a:ext cx="78840" cy="817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1074320" y="3423960"/>
              <a:ext cx="162720" cy="1828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1143800" y="2739600"/>
              <a:ext cx="257400" cy="13896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1066400" y="3771360"/>
              <a:ext cx="383760" cy="550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1250000" y="3311640"/>
              <a:ext cx="21960" cy="44820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1778840" y="3035160"/>
              <a:ext cx="29880" cy="266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019" name="Freeform 6"/>
            <p:cNvSpPr/>
            <p:nvPr/>
          </p:nvSpPr>
          <p:spPr>
            <a:xfrm>
              <a:off x="8093880" y="3478320"/>
              <a:ext cx="727920" cy="911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"/>
            <p:cNvSpPr/>
            <p:nvPr/>
          </p:nvSpPr>
          <p:spPr>
            <a:xfrm>
              <a:off x="9158760" y="4930200"/>
              <a:ext cx="120960" cy="1133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"/>
            <p:cNvSpPr/>
            <p:nvPr/>
          </p:nvSpPr>
          <p:spPr>
            <a:xfrm>
              <a:off x="8856720" y="4965120"/>
              <a:ext cx="777240" cy="4017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0"/>
            <p:cNvSpPr/>
            <p:nvPr/>
          </p:nvSpPr>
          <p:spPr>
            <a:xfrm>
              <a:off x="8207640" y="4158720"/>
              <a:ext cx="1991160" cy="1072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"/>
            <p:cNvSpPr/>
            <p:nvPr/>
          </p:nvSpPr>
          <p:spPr>
            <a:xfrm>
              <a:off x="10075320" y="4197600"/>
              <a:ext cx="35280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"/>
            <p:cNvSpPr/>
            <p:nvPr/>
          </p:nvSpPr>
          <p:spPr>
            <a:xfrm>
              <a:off x="7988400" y="4197600"/>
              <a:ext cx="34848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"/>
            <p:cNvSpPr/>
            <p:nvPr/>
          </p:nvSpPr>
          <p:spPr>
            <a:xfrm>
              <a:off x="8804880" y="3534480"/>
              <a:ext cx="770040" cy="7826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4"/>
            <p:cNvSpPr/>
            <p:nvPr/>
          </p:nvSpPr>
          <p:spPr>
            <a:xfrm>
              <a:off x="8836920" y="4088160"/>
              <a:ext cx="797040" cy="292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"/>
            <p:cNvSpPr/>
            <p:nvPr/>
          </p:nvSpPr>
          <p:spPr>
            <a:xfrm>
              <a:off x="8685360" y="2989440"/>
              <a:ext cx="1062360" cy="83052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6"/>
            <p:cNvSpPr/>
            <p:nvPr/>
          </p:nvSpPr>
          <p:spPr>
            <a:xfrm>
              <a:off x="8997120" y="3773520"/>
              <a:ext cx="1584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"/>
            <p:cNvSpPr/>
            <p:nvPr/>
          </p:nvSpPr>
          <p:spPr>
            <a:xfrm>
              <a:off x="9212400" y="3773520"/>
              <a:ext cx="1656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"/>
            <p:cNvSpPr/>
            <p:nvPr/>
          </p:nvSpPr>
          <p:spPr>
            <a:xfrm>
              <a:off x="8807760" y="3846600"/>
              <a:ext cx="750240" cy="32472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8963640" y="3922560"/>
              <a:ext cx="501840" cy="7560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9378000" y="3836520"/>
              <a:ext cx="146160" cy="1321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1"/>
            <p:cNvSpPr/>
            <p:nvPr/>
          </p:nvSpPr>
          <p:spPr>
            <a:xfrm>
              <a:off x="8914320" y="3866400"/>
              <a:ext cx="119160" cy="14148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2"/>
            <p:cNvSpPr/>
            <p:nvPr/>
          </p:nvSpPr>
          <p:spPr>
            <a:xfrm>
              <a:off x="9253080" y="4460760"/>
              <a:ext cx="268200" cy="29196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3"/>
            <p:cNvSpPr/>
            <p:nvPr/>
          </p:nvSpPr>
          <p:spPr>
            <a:xfrm>
              <a:off x="8980200" y="3308400"/>
              <a:ext cx="421560" cy="2628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4"/>
            <p:cNvSpPr/>
            <p:nvPr/>
          </p:nvSpPr>
          <p:spPr>
            <a:xfrm>
              <a:off x="9195480" y="4271040"/>
              <a:ext cx="40680" cy="7236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5"/>
            <p:cNvSpPr/>
            <p:nvPr/>
          </p:nvSpPr>
          <p:spPr>
            <a:xfrm>
              <a:off x="8930160" y="5004720"/>
              <a:ext cx="621000" cy="8568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Freeform 52"/>
          <p:cNvSpPr/>
          <p:nvPr/>
        </p:nvSpPr>
        <p:spPr>
          <a:xfrm>
            <a:off x="0" y="5181480"/>
            <a:ext cx="11163240" cy="167652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041" name="Freeform 30"/>
            <p:cNvSpPr/>
            <p:nvPr/>
          </p:nvSpPr>
          <p:spPr>
            <a:xfrm flipH="1">
              <a:off x="10433160" y="5100840"/>
              <a:ext cx="820080" cy="102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1"/>
            <p:cNvSpPr/>
            <p:nvPr/>
          </p:nvSpPr>
          <p:spPr>
            <a:xfrm flipH="1">
              <a:off x="10820520" y="5199480"/>
              <a:ext cx="336600" cy="243360"/>
            </a:xfrm>
            <a:prstGeom prst="pie">
              <a:avLst/>
            </a:pr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flipH="1">
              <a:off x="10530720" y="5319000"/>
              <a:ext cx="826560" cy="72468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flipH="1">
              <a:off x="11033280" y="4800600"/>
              <a:ext cx="1156680" cy="14403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 flipH="1">
              <a:off x="11087280" y="5054760"/>
              <a:ext cx="1102680" cy="1198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 flipH="1">
              <a:off x="11103120" y="5144760"/>
              <a:ext cx="396720" cy="924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 flipH="1">
              <a:off x="11309760" y="5241240"/>
              <a:ext cx="248760" cy="8042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 flipH="1">
              <a:off x="11880000" y="5245560"/>
              <a:ext cx="163080" cy="852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flipH="1">
              <a:off x="11504880" y="4924080"/>
              <a:ext cx="439560" cy="280440"/>
            </a:xfrm>
            <a:prstGeom prst="pie">
              <a:avLst/>
            </a:pr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flipH="1">
              <a:off x="11606040" y="4924080"/>
              <a:ext cx="372600" cy="313200"/>
            </a:xfrm>
            <a:prstGeom prst="pie">
              <a:avLst/>
            </a:pr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flipH="1">
              <a:off x="9191880" y="5751000"/>
              <a:ext cx="1245600" cy="11160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flipH="1">
              <a:off x="9199080" y="5948280"/>
              <a:ext cx="1087560" cy="918360"/>
            </a:xfrm>
            <a:prstGeom prst="pie">
              <a:avLst/>
            </a:pr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flipH="1">
              <a:off x="9896400" y="6116040"/>
              <a:ext cx="110520" cy="6836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 flipH="1">
              <a:off x="9459000" y="6300360"/>
              <a:ext cx="144360" cy="5072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flipH="1">
              <a:off x="9511200" y="5802480"/>
              <a:ext cx="447120" cy="300600"/>
            </a:xfrm>
            <a:prstGeom prst="pie">
              <a:avLst/>
            </a:pr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5"/>
            <p:cNvSpPr/>
            <p:nvPr/>
          </p:nvSpPr>
          <p:spPr>
            <a:xfrm flipH="1">
              <a:off x="9228240" y="6144480"/>
              <a:ext cx="256320" cy="71028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6"/>
            <p:cNvSpPr/>
            <p:nvPr/>
          </p:nvSpPr>
          <p:spPr>
            <a:xfrm flipH="1">
              <a:off x="10026360" y="6043680"/>
              <a:ext cx="302400" cy="81540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7"/>
            <p:cNvSpPr/>
            <p:nvPr/>
          </p:nvSpPr>
          <p:spPr>
            <a:xfrm flipH="1">
              <a:off x="10518480" y="5372640"/>
              <a:ext cx="255600" cy="6004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8"/>
            <p:cNvSpPr/>
            <p:nvPr/>
          </p:nvSpPr>
          <p:spPr>
            <a:xfrm flipH="1">
              <a:off x="10764000" y="5433120"/>
              <a:ext cx="100800" cy="51192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9"/>
            <p:cNvSpPr/>
            <p:nvPr/>
          </p:nvSpPr>
          <p:spPr>
            <a:xfrm flipH="1">
              <a:off x="9854640" y="5321160"/>
              <a:ext cx="2335320" cy="15454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50"/>
            <p:cNvSpPr/>
            <p:nvPr/>
          </p:nvSpPr>
          <p:spPr>
            <a:xfrm flipH="1">
              <a:off x="9868320" y="5730120"/>
              <a:ext cx="2322000" cy="113688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1"/>
            <p:cNvSpPr/>
            <p:nvPr/>
          </p:nvSpPr>
          <p:spPr>
            <a:xfrm flipH="1">
              <a:off x="10716840" y="5421960"/>
              <a:ext cx="1300320" cy="720360"/>
            </a:xfrm>
            <a:prstGeom prst="pie">
              <a:avLst/>
            </a:pr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2"/>
            <p:cNvSpPr/>
            <p:nvPr/>
          </p:nvSpPr>
          <p:spPr>
            <a:xfrm flipH="1">
              <a:off x="9971640" y="5935320"/>
              <a:ext cx="621360" cy="9316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3"/>
            <p:cNvSpPr/>
            <p:nvPr/>
          </p:nvSpPr>
          <p:spPr>
            <a:xfrm flipH="1">
              <a:off x="11429640" y="5437440"/>
              <a:ext cx="111600" cy="40968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4"/>
            <p:cNvSpPr/>
            <p:nvPr/>
          </p:nvSpPr>
          <p:spPr>
            <a:xfrm flipH="1">
              <a:off x="10779480" y="6144480"/>
              <a:ext cx="318960" cy="722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5"/>
            <p:cNvSpPr/>
            <p:nvPr/>
          </p:nvSpPr>
          <p:spPr>
            <a:xfrm flipH="1">
              <a:off x="10737720" y="6121800"/>
              <a:ext cx="398880" cy="74520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56"/>
            <p:cNvSpPr/>
            <p:nvPr/>
          </p:nvSpPr>
          <p:spPr>
            <a:xfrm flipH="1">
              <a:off x="11887920" y="6186240"/>
              <a:ext cx="302400" cy="680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7"/>
            <p:cNvSpPr/>
            <p:nvPr/>
          </p:nvSpPr>
          <p:spPr>
            <a:xfrm flipH="1">
              <a:off x="11846160" y="6165360"/>
              <a:ext cx="344160" cy="70164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8"/>
            <p:cNvSpPr/>
            <p:nvPr/>
          </p:nvSpPr>
          <p:spPr>
            <a:xfrm flipH="1">
              <a:off x="11222280" y="5490000"/>
              <a:ext cx="62640" cy="30780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9"/>
            <p:cNvSpPr/>
            <p:nvPr/>
          </p:nvSpPr>
          <p:spPr>
            <a:xfrm flipH="1">
              <a:off x="9632520" y="6251040"/>
              <a:ext cx="1040400" cy="6159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0"/>
            <p:cNvSpPr/>
            <p:nvPr/>
          </p:nvSpPr>
          <p:spPr>
            <a:xfrm flipH="1">
              <a:off x="9883440" y="6391440"/>
              <a:ext cx="509400" cy="13140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1"/>
            <p:cNvSpPr/>
            <p:nvPr/>
          </p:nvSpPr>
          <p:spPr>
            <a:xfrm flipH="1">
              <a:off x="9640440" y="6380280"/>
              <a:ext cx="973440" cy="502920"/>
            </a:xfrm>
            <a:prstGeom prst="pie">
              <a:avLst/>
            </a:pr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2"/>
            <p:cNvSpPr/>
            <p:nvPr/>
          </p:nvSpPr>
          <p:spPr>
            <a:xfrm flipH="1">
              <a:off x="9676800" y="6414480"/>
              <a:ext cx="952560" cy="4636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3"/>
            <p:cNvSpPr/>
            <p:nvPr/>
          </p:nvSpPr>
          <p:spPr>
            <a:xfrm flipH="1">
              <a:off x="10022760" y="6310080"/>
              <a:ext cx="238680" cy="23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"/>
            <p:cNvSpPr/>
            <p:nvPr/>
          </p:nvSpPr>
          <p:spPr>
            <a:xfrm flipH="1">
              <a:off x="10002960" y="6323400"/>
              <a:ext cx="255240" cy="233280"/>
            </a:xfrm>
            <a:prstGeom prst="pie">
              <a:avLst/>
            </a:pr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"/>
            <p:cNvSpPr/>
            <p:nvPr/>
          </p:nvSpPr>
          <p:spPr>
            <a:xfrm flipH="1">
              <a:off x="10725480" y="5769720"/>
              <a:ext cx="555480" cy="18324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1078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1079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prstGeom prst="pie">
                <a:avLst/>
              </a:pr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prstGeom prst="pie">
                <a:avLst/>
              </a:pr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prstGeom prst="pie">
                <a:avLst/>
              </a:pr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1127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1137" name="Freeform 343"/>
              <p:cNvSpPr/>
              <p:nvPr/>
            </p:nvSpPr>
            <p:spPr>
              <a:xfrm>
                <a:off x="0" y="4979160"/>
                <a:ext cx="1904760" cy="190440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344"/>
              <p:cNvSpPr/>
              <p:nvPr/>
            </p:nvSpPr>
            <p:spPr>
              <a:xfrm>
                <a:off x="0" y="5360400"/>
                <a:ext cx="1783800" cy="15231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prstGeom prst="pie">
                <a:avLst/>
              </a:pr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prstGeom prst="pie">
                <a:avLst/>
              </a:pr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1145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prstGeom prst="pie">
                <a:avLst/>
              </a:pr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prstGeom prst="pie">
                <a:avLst/>
              </a:pr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prstGeom prst="pie">
                <a:avLst/>
              </a:pr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152" name="Freeform 53"/>
            <p:cNvSpPr/>
            <p:nvPr/>
          </p:nvSpPr>
          <p:spPr>
            <a:xfrm rot="19947600">
              <a:off x="350640" y="510480"/>
              <a:ext cx="893880" cy="946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4"/>
            <p:cNvSpPr/>
            <p:nvPr/>
          </p:nvSpPr>
          <p:spPr>
            <a:xfrm rot="19947600">
              <a:off x="411120" y="567720"/>
              <a:ext cx="757800" cy="76752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5"/>
            <p:cNvSpPr/>
            <p:nvPr/>
          </p:nvSpPr>
          <p:spPr>
            <a:xfrm rot="19947600">
              <a:off x="748800" y="770400"/>
              <a:ext cx="124920" cy="5331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6"/>
            <p:cNvSpPr/>
            <p:nvPr/>
          </p:nvSpPr>
          <p:spPr>
            <a:xfrm rot="19947600">
              <a:off x="574200" y="990000"/>
              <a:ext cx="243360" cy="2588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7"/>
            <p:cNvSpPr/>
            <p:nvPr/>
          </p:nvSpPr>
          <p:spPr>
            <a:xfrm rot="19947600">
              <a:off x="715680" y="1268640"/>
              <a:ext cx="212400" cy="727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8"/>
            <p:cNvSpPr/>
            <p:nvPr/>
          </p:nvSpPr>
          <p:spPr>
            <a:xfrm rot="19947600">
              <a:off x="865800" y="909000"/>
              <a:ext cx="297000" cy="199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9"/>
            <p:cNvSpPr/>
            <p:nvPr/>
          </p:nvSpPr>
          <p:spPr>
            <a:xfrm rot="19947600">
              <a:off x="933840" y="1128240"/>
              <a:ext cx="286200" cy="903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 rot="19947600">
              <a:off x="881640" y="1324800"/>
              <a:ext cx="143640" cy="182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1161" name="Freeform 53"/>
            <p:cNvSpPr/>
            <p:nvPr/>
          </p:nvSpPr>
          <p:spPr>
            <a:xfrm rot="5825400">
              <a:off x="11651760" y="412920"/>
              <a:ext cx="408240" cy="433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4"/>
            <p:cNvSpPr/>
            <p:nvPr/>
          </p:nvSpPr>
          <p:spPr>
            <a:xfrm rot="5825400">
              <a:off x="11696760" y="459720"/>
              <a:ext cx="346320" cy="35136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5"/>
            <p:cNvSpPr/>
            <p:nvPr/>
          </p:nvSpPr>
          <p:spPr>
            <a:xfrm rot="5825400">
              <a:off x="11803320" y="498600"/>
              <a:ext cx="56880" cy="244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6"/>
            <p:cNvSpPr/>
            <p:nvPr/>
          </p:nvSpPr>
          <p:spPr>
            <a:xfrm rot="5825400">
              <a:off x="11775600" y="496800"/>
              <a:ext cx="111240" cy="1184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7"/>
            <p:cNvSpPr/>
            <p:nvPr/>
          </p:nvSpPr>
          <p:spPr>
            <a:xfrm rot="5825400">
              <a:off x="11680560" y="538560"/>
              <a:ext cx="96840" cy="33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8"/>
            <p:cNvSpPr/>
            <p:nvPr/>
          </p:nvSpPr>
          <p:spPr>
            <a:xfrm rot="5825400">
              <a:off x="11722320" y="658800"/>
              <a:ext cx="135720" cy="91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9"/>
            <p:cNvSpPr/>
            <p:nvPr/>
          </p:nvSpPr>
          <p:spPr>
            <a:xfrm rot="5825400">
              <a:off x="11646720" y="664920"/>
              <a:ext cx="130680" cy="4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0"/>
            <p:cNvSpPr/>
            <p:nvPr/>
          </p:nvSpPr>
          <p:spPr>
            <a:xfrm rot="5825400">
              <a:off x="11619720" y="533880"/>
              <a:ext cx="65520" cy="8352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170" name="Freeform 67"/>
            <p:cNvSpPr/>
            <p:nvPr/>
          </p:nvSpPr>
          <p:spPr>
            <a:xfrm>
              <a:off x="338040" y="3060720"/>
              <a:ext cx="73080" cy="10224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8"/>
            <p:cNvSpPr/>
            <p:nvPr/>
          </p:nvSpPr>
          <p:spPr>
            <a:xfrm>
              <a:off x="23760" y="3049560"/>
              <a:ext cx="387360" cy="3636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9"/>
            <p:cNvSpPr/>
            <p:nvPr/>
          </p:nvSpPr>
          <p:spPr>
            <a:xfrm>
              <a:off x="61200" y="3049560"/>
              <a:ext cx="341640" cy="34380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0"/>
            <p:cNvSpPr/>
            <p:nvPr/>
          </p:nvSpPr>
          <p:spPr>
            <a:xfrm>
              <a:off x="150120" y="3158280"/>
              <a:ext cx="194040" cy="10836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276120" y="3202920"/>
              <a:ext cx="55080" cy="1414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349200" y="3182400"/>
              <a:ext cx="35640" cy="8424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3"/>
            <p:cNvSpPr/>
            <p:nvPr/>
          </p:nvSpPr>
          <p:spPr>
            <a:xfrm>
              <a:off x="280800" y="3087720"/>
              <a:ext cx="50400" cy="730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4"/>
            <p:cNvSpPr/>
            <p:nvPr/>
          </p:nvSpPr>
          <p:spPr>
            <a:xfrm>
              <a:off x="172080" y="3114000"/>
              <a:ext cx="131040" cy="648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22:36:00Z</dcterms:created>
  <dc:creator>Administrator</dc:creator>
  <dc:description/>
  <dc:language>en-US</dc:language>
  <cp:lastModifiedBy>nana</cp:lastModifiedBy>
  <dcterms:modified xsi:type="dcterms:W3CDTF">2016-02-01T08:33:51Z</dcterms:modified>
  <cp:revision>7</cp:revision>
  <dc:subject/>
  <dc:title>开往秋天的大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  <property fmtid="{D5CDD505-2E9C-101B-9397-08002B2CF9AE}" pid="3" name="_TemplateID">
    <vt:lpwstr>TC028952709991</vt:lpwstr>
  </property>
</Properties>
</file>