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282F-E9AD-4FFB-AF34-890538DF0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DD5B-4161-4CE0-BF8C-36897923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958FC-84B5-471F-AC91-D3D2D46A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874D5-6529-4C92-9674-D3A247DA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4EDBD-36D8-447F-A160-D6C5C068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E9E30-5A91-431B-9C3E-25347EB2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89BDB-E437-4CAA-BB65-4BD84008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63074-87AD-4907-A163-3665DF78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B7310-628E-44FA-BCE7-4A497A87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76CB1-1043-4AD6-B743-42F98C304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1BA3A-F231-4D40-AE3E-A50CAF6FF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54E404-85E1-499D-ABCE-2FF8268C4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389D-A1C3-4F60-BCB0-799D60540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F02088-44CB-40DE-AC6E-9AAA5C53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83F098-A606-4364-A7C1-E46FF776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84FCBA-BD15-4671-83E7-5E890D83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B1786B-049F-4366-B28F-1C57478B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D111D5-0AB7-4FCE-9D25-3F9DC18C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CD74AC-5FEE-43CA-8A12-A4C5A79F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7FFB25-37E7-4EE3-B8CC-C7A177BC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E0329-2EC2-45BF-B0DE-4CA8BEC2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8C46F8-DB2E-477E-8DCA-3F807124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92A7C1-E785-4103-99AE-00969A155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5896-458A-4707-B930-73D60CE61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1B24CF-7071-43E1-9ACE-864380672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D6AC2E-9707-4A51-9CBA-1B0C8BDC6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58D56E-E8D8-45E0-B33E-208857AE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F5389-430F-40EE-B2A4-31986A3C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9B7DE9-6CB0-454A-A21F-5076A6E5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BA5A3E-0B18-42C2-8DC1-8EAC4378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57F7E5-8C4F-42BC-ACFB-94CF720D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3FB709-2169-489D-BD72-3CCB246A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9370C2-1F7D-4BED-93BA-98FAA00B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74BAFB-E30A-4EC7-8C23-D56056AE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89E9-FFC0-47F0-A05F-E7E9004BF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8E3BFA-9799-4490-B5A5-2BF7602E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920525-C373-4AEC-ADD3-464A4F19F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19A36F-36C1-499A-8147-F32D78E9D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AB3397-0DB1-4F80-9D66-3DB562D94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91517-B992-4629-91B6-23535729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0600C4-84E7-42CC-A7B1-E3D7DDCC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41AF9B-0084-4282-A686-55A6C23C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66108F-E087-4262-AF89-1B62872D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9B2D82-7A82-4798-915F-AC1EFD7A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684D1-EBB0-4343-B19F-4489A451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48CAC-7E92-468C-86E1-3F3F54C5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6CD4F-DDB6-4A8B-9A22-793BA736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931CD9-30E9-4097-B588-DABAE582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A71B80-9AD2-4851-ADF1-6D14000C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67FA80-209E-4EE2-AFCA-366EA2DD0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46CEBD-AB9A-40F8-AFA6-066F7C99B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69B427-FFDA-4269-AF6D-DC093F7D1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5BF30B-206D-430F-BB72-884D5921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784FE4-9272-43C1-B4E2-E375F89A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AC73AA-AA7B-48F0-8F78-643169B9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E23FF9-6887-48F3-B9F5-77A64F2B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73F71-EA4C-410E-B526-0334C8E4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9F2D8C-3785-480A-B830-E9C0208C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1E5074-0DFA-4386-A853-14BBA9E9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5DC37D-D984-425A-A21B-5DC63ED2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12029C-9944-489C-8BFB-46ECEFC9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5BD958-B3D3-47E1-BD3C-7FF3F320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B58C88-4926-47A3-970C-6B3D1E3D9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906F6C-600D-45A9-88A3-38EF6274B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86542E-CC4B-403F-B210-7A6F099A6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A4C6B9-95BD-4F4F-8C47-24B7DB93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F75939-518A-4108-9623-6CA0DEE8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A71F-BFC4-4EB5-827A-F50613A1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D51CFF-830A-4D40-9D16-5A389628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40F95E-7575-435C-A946-2384E0B0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8F0BA1-DC41-4F0E-A1FA-37528576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1C2BE6-0C40-4B23-9D47-DFC457B5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25C160-06AC-4BD6-A28C-F735CB8F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4C132D-3720-497E-89E6-5E4CF951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DD922D-598C-475F-9035-50AEAD86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03EFFD-D8F4-405D-B035-823116DAE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AB9D87-1BAD-460E-AC23-CD005FF71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7375-5B8A-47B6-9831-F58B4D2A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E62AC-40AE-4A1C-B1C1-608C2248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E47C-A72C-4502-97B3-58E6664C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C55D-A739-446B-932E-41FFE8CC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E769-5DE2-422A-8581-05A6E46C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0529-80E8-4DD8-BDA5-1D1C68E8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BDB3-048A-4D6A-9DF1-FD838893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2C46E-CA94-402F-93D2-328391D36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E51D-8958-4DCC-96E7-E408EF347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DC45-7172-45B1-91B1-1E012DA6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ECFA0-7181-4442-BED9-F90A5A2AA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84F94-2373-4B79-843D-C6003254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6B967-9B3E-466D-8111-C0C63DE1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A908-6C5A-4859-8A72-7D968819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352E5-2AFE-4928-A96E-D48B5D6F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2E9E0-A08A-4216-90DD-FD15CCA6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EC900-D959-43C8-99AB-939B3998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4C00B-A394-400C-A3C6-A41411D0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698BC-BAD7-4767-A4B9-448B2999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26311-63C2-41EA-B532-C72C7D2B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C176D-A2E0-4BF3-A365-9DF43977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24B93-DB8C-4D26-B319-1D5CE5E5E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16026-21D7-4C9E-B4F3-F941A520F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6107D-A2AF-499A-8C6F-E7C1FC319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01A1-D011-4CF4-8CA6-C01E8F60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568BA-76DF-47BA-8FF0-19867A0B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8E4CB-1B3B-40B8-9D67-CE74593A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46991-6AFF-48D2-B477-038CF24B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FE157-9CA5-4D62-894B-400AB3E7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4A900-7A18-426F-A0E2-0A470801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CFBFA-93F7-4F15-B569-34239978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722A8-8C5B-4A63-944C-2A6660B2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55449-9C26-4EDD-9098-71360918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7D2E1-DCB5-4486-8891-6E8E5FB0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45B4B-5243-4BC2-AC5D-57A8BA0AE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25A8-0DAE-40F3-ACFE-FA863CD1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771C8-106D-4C25-9D95-DB4F44B05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3DAC7-BDB9-4CBB-A3D7-DEFB9E24E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867FA-7B04-464C-B8DF-6C5E8612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935BF-8BBA-451C-A958-211F0DA3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5CF0B-E323-43FA-BE09-864469CF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AA95E-B591-4FB3-AD1B-457361A4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5C582-9EF3-49A2-8989-FEC49526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ACCD0-38E9-48DB-886D-B1ABA5F3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38D9C-78B2-43BC-8D12-C74A9CAD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E172A-9F35-43AB-8516-5CAF5ED3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92C6-BCA5-4532-B3B8-FD64F11E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06283-B3F6-49EB-A822-C7C4336E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A0CCC-9606-4C1B-9E60-759A928A6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B96CA-1A8F-443A-8153-C1EF5303C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127BB-339D-4163-AE21-34FC0CCC6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48521-9A96-45B1-9C1B-FCCED9C7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10443-4FAD-491D-B657-A065512E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3EC93-8FEF-4C47-BFA3-2C8D36AB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73910-083F-47CA-9BB2-808FECE7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4BB91-9340-4823-AAE8-B2F63163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6BAF5-B3AD-4789-8B3B-7DFA12E9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377A-F73F-4048-817D-E86C261B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D418F-AF32-4F6B-91C3-A8FD3EB7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51138-A245-491A-A4C7-1D83CEA2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5753A-0EA6-4415-976B-B7F48F63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B92B3-CCE7-47C8-AADA-CA1A496C9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012A7-C599-4457-907F-54B48C3DF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36B47-60C7-42B4-9903-E50AEF382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F76C7-98B1-479E-A736-6530602F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14907-0AC4-4BEF-89ED-2CDF98B2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F0C58-5075-42CE-9937-3C98FF66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F5320-37AB-45BF-B6F7-DA9159EE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4EB1-45B0-4331-9E07-6CB50E63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BB21B-A133-4018-BB51-BD96D26F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680BA-671E-4B01-B163-BD967E4B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77648-AC74-43BC-94E5-6ADFBBEC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8CC61-1E6F-4258-868F-16C1D6F6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DFDFC-F0E8-43EF-85FE-3FA89FBA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25DFD-98DA-4436-9CC1-38CDFDEAF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E5730-08EA-4D56-85DC-B489C496A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2FFD0-F464-4392-A446-764071294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1AE88-AF55-4FB0-8687-7029873A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913AA-50E6-4F96-A678-9B992FC4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8DBB-5734-48F4-B1EA-8B52149FD54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F1CC-4860-4D66-AA41-35C41C81F3E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FCC7-D127-423A-8D13-AB28DA1D167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EB3F-4585-4FEE-902E-97A897DD404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6F75-E177-4869-925B-11CD70051D5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DF36-6821-4FBB-B2FC-82FD3D713CB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4194-8F2F-4B8D-A481-8579F8E56D3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8B80-227C-4F15-9E4B-6D0219192DA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E76A-191A-4272-AE60-23023653F32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3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E179-25F8-43AE-AB17-E90D6C2F8A8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3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3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8DDE-C72E-4368-B3D9-A0B22774870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8AD4-1753-4BF8-9D47-19848127E48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C583-D436-4C25-8E58-1FEC6135566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2094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矩形 7"/>
          <p:cNvSpPr/>
          <p:nvPr/>
        </p:nvSpPr>
        <p:spPr>
          <a:xfrm>
            <a:off x="0" y="6340320"/>
            <a:ext cx="12192120" cy="517680"/>
          </a:xfrm>
          <a:prstGeom prst="rect">
            <a:avLst/>
          </a:prstGeom>
          <a:gradFill rotWithShape="0">
            <a:gsLst>
              <a:gs pos="0">
                <a:srgbClr val="f7fafd"/>
              </a:gs>
              <a:gs pos="100000">
                <a:srgbClr val="595959"/>
              </a:gs>
            </a:gsLst>
            <a:lin ang="0"/>
          </a:gradFill>
          <a:ln w="12600">
            <a:solidFill>
              <a:srgbClr val="ffffff"/>
            </a:solidFill>
            <a:miter/>
          </a:ln>
          <a:effectLst>
            <a:outerShdw dist="38160" dir="162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0" y="6392880"/>
            <a:ext cx="12192120" cy="465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D200-6649-44FB-B0A9-8A5D5AAA95D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35FF-A13B-46DF-8CA7-15375CE4678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12A3-B62F-4EC1-AB76-137C113D9A0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61B3-E54C-4181-A15E-8AE5930EA2B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D082-E2D1-4733-BFAD-54588EA4622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75B5-9425-4999-87A3-8C37D536A80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80F0-E1DA-4582-8472-0D55F6E58FE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6629-F54B-4692-8EA0-A1BAE93C635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B458-D1B8-40B2-A7BC-B57FD67CD01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7CFE-E042-4166-978C-D83E25C16DD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6EBB-37EB-49C9-8B36-6EFB846B580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C430-0A46-4643-8F2D-86E3BA1D2B4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209400" cy="685800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22364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76" name="矩形 5"/>
          <p:cNvGrpSpPr/>
          <p:nvPr/>
        </p:nvGrpSpPr>
        <p:grpSpPr>
          <a:xfrm>
            <a:off x="-152280" y="4780080"/>
            <a:ext cx="12515760" cy="461880"/>
            <a:chOff x="-152280" y="4780080"/>
            <a:chExt cx="12515760" cy="461880"/>
          </a:xfrm>
        </p:grpSpPr>
        <p:pic>
          <p:nvPicPr>
            <p:cNvPr id="577" name="矩形 5" descr=""/>
            <p:cNvPicPr/>
            <p:nvPr/>
          </p:nvPicPr>
          <p:blipFill>
            <a:blip r:embed="rId3"/>
            <a:stretch/>
          </p:blipFill>
          <p:spPr>
            <a:xfrm>
              <a:off x="-152280" y="4780080"/>
              <a:ext cx="12515760" cy="4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 Box 6"/>
            <p:cNvSpPr/>
            <p:nvPr/>
          </p:nvSpPr>
          <p:spPr>
            <a:xfrm>
              <a:off x="-25200" y="4905360"/>
              <a:ext cx="1226160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79" name="Picture 4" descr=""/>
          <p:cNvPicPr/>
          <p:nvPr/>
        </p:nvPicPr>
        <p:blipFill>
          <a:blip r:embed="rId4"/>
          <a:stretch/>
        </p:blipFill>
        <p:spPr>
          <a:xfrm>
            <a:off x="-25560" y="5065560"/>
            <a:ext cx="12261960" cy="1792440"/>
          </a:xfrm>
          <a:prstGeom prst="rect">
            <a:avLst/>
          </a:prstGeom>
          <a:ln w="0">
            <a:noFill/>
          </a:ln>
          <a:effectLst>
            <a:outerShdw dist="63360" dir="1620000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580" name="图片 7" descr=""/>
          <p:cNvPicPr/>
          <p:nvPr/>
        </p:nvPicPr>
        <p:blipFill>
          <a:blip r:embed="rId5"/>
          <a:srcRect l="21035" t="16039" r="21917" b="41463"/>
          <a:stretch/>
        </p:blipFill>
        <p:spPr>
          <a:xfrm>
            <a:off x="5024520" y="779400"/>
            <a:ext cx="6837120" cy="3348000"/>
          </a:xfrm>
          <a:prstGeom prst="rect">
            <a:avLst/>
          </a:prstGeom>
          <a:ln w="0">
            <a:noFill/>
          </a:ln>
        </p:spPr>
      </p:pic>
      <p:pic>
        <p:nvPicPr>
          <p:cNvPr id="581" name="图片 8" descr=""/>
          <p:cNvPicPr/>
          <p:nvPr/>
        </p:nvPicPr>
        <p:blipFill>
          <a:blip r:embed="rId6"/>
          <a:stretch/>
        </p:blipFill>
        <p:spPr>
          <a:xfrm>
            <a:off x="895320" y="1133640"/>
            <a:ext cx="4114800" cy="7765920"/>
          </a:xfrm>
          <a:prstGeom prst="rect">
            <a:avLst/>
          </a:prstGeom>
          <a:ln w="0">
            <a:noFill/>
          </a:ln>
        </p:spPr>
      </p:pic>
      <p:pic>
        <p:nvPicPr>
          <p:cNvPr id="582" name="文本框 10" descr=""/>
          <p:cNvPicPr/>
          <p:nvPr/>
        </p:nvPicPr>
        <p:blipFill>
          <a:blip r:embed="rId7"/>
          <a:stretch/>
        </p:blipFill>
        <p:spPr>
          <a:xfrm>
            <a:off x="5502240" y="2779560"/>
            <a:ext cx="5797440" cy="1920960"/>
          </a:xfrm>
          <a:prstGeom prst="rect">
            <a:avLst/>
          </a:prstGeom>
          <a:ln w="0">
            <a:noFill/>
          </a:ln>
        </p:spPr>
      </p:pic>
      <p:sp>
        <p:nvSpPr>
          <p:cNvPr id="583" name="文本框 1"/>
          <p:cNvSpPr/>
          <p:nvPr/>
        </p:nvSpPr>
        <p:spPr>
          <a:xfrm>
            <a:off x="6610320" y="40212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优秀作品请在小小精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平行四边形 5"/>
          <p:cNvSpPr/>
          <p:nvPr/>
        </p:nvSpPr>
        <p:spPr>
          <a:xfrm>
            <a:off x="1515960" y="1982880"/>
            <a:ext cx="9104400" cy="2881080"/>
          </a:xfrm>
          <a:prstGeom prst="parallelogram">
            <a:avLst>
              <a:gd name="adj" fmla="val -8714"/>
            </a:avLst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文本框 6"/>
          <p:cNvSpPr/>
          <p:nvPr/>
        </p:nvSpPr>
        <p:spPr>
          <a:xfrm>
            <a:off x="4797360" y="3038400"/>
            <a:ext cx="5192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文本框 7"/>
          <p:cNvSpPr/>
          <p:nvPr/>
        </p:nvSpPr>
        <p:spPr>
          <a:xfrm>
            <a:off x="4797360" y="23194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文本框 8"/>
          <p:cNvSpPr/>
          <p:nvPr/>
        </p:nvSpPr>
        <p:spPr>
          <a:xfrm>
            <a:off x="4797360" y="2660760"/>
            <a:ext cx="195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子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椭圆 9"/>
          <p:cNvSpPr/>
          <p:nvPr/>
        </p:nvSpPr>
        <p:spPr>
          <a:xfrm>
            <a:off x="5005440" y="4183200"/>
            <a:ext cx="488880" cy="490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椭圆 14"/>
          <p:cNvSpPr/>
          <p:nvPr/>
        </p:nvSpPr>
        <p:spPr>
          <a:xfrm>
            <a:off x="7578720" y="4181400"/>
            <a:ext cx="490680" cy="490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TextBox 1"/>
          <p:cNvSpPr/>
          <p:nvPr/>
        </p:nvSpPr>
        <p:spPr>
          <a:xfrm>
            <a:off x="5494320" y="4137120"/>
            <a:ext cx="1608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想要的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想要的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想要的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Box 1"/>
          <p:cNvSpPr/>
          <p:nvPr/>
        </p:nvSpPr>
        <p:spPr>
          <a:xfrm>
            <a:off x="8177040" y="4137120"/>
            <a:ext cx="1608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想要的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想要的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想要的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4" name="图片 17" descr=""/>
          <p:cNvPicPr/>
          <p:nvPr/>
        </p:nvPicPr>
        <p:blipFill>
          <a:blip r:embed="rId1"/>
          <a:stretch/>
        </p:blipFill>
        <p:spPr>
          <a:xfrm>
            <a:off x="1792440" y="2316240"/>
            <a:ext cx="279216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任意多边形 38"/>
          <p:cNvSpPr/>
          <p:nvPr/>
        </p:nvSpPr>
        <p:spPr>
          <a:xfrm rot="1788000">
            <a:off x="3671640" y="2327040"/>
            <a:ext cx="5216400" cy="4495680"/>
          </a:xfrm>
          <a:custGeom>
            <a:avLst/>
            <a:gdLst/>
            <a:ahLst/>
            <a:rect l="l" t="t" r="r" b="b"/>
            <a:pathLst>
              <a:path w="5215319" h="4495963">
                <a:moveTo>
                  <a:pt x="1259814" y="0"/>
                </a:moveTo>
                <a:lnTo>
                  <a:pt x="3955505" y="0"/>
                </a:lnTo>
                <a:lnTo>
                  <a:pt x="5215319" y="2247982"/>
                </a:lnTo>
                <a:lnTo>
                  <a:pt x="4732595" y="3109343"/>
                </a:lnTo>
                <a:lnTo>
                  <a:pt x="2311512" y="4495963"/>
                </a:lnTo>
                <a:lnTo>
                  <a:pt x="1259814" y="4495963"/>
                </a:lnTo>
                <a:lnTo>
                  <a:pt x="0" y="2247982"/>
                </a:lnTo>
                <a:lnTo>
                  <a:pt x="1259814" y="0"/>
                </a:ln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六边形 24"/>
          <p:cNvSpPr/>
          <p:nvPr/>
        </p:nvSpPr>
        <p:spPr>
          <a:xfrm rot="1788000">
            <a:off x="4565160" y="2172960"/>
            <a:ext cx="1105200" cy="952560"/>
          </a:xfrm>
          <a:prstGeom prst="hexagon">
            <a:avLst>
              <a:gd name="adj" fmla="val 28028"/>
              <a:gd name="vf" fmla="val 115470"/>
            </a:avLst>
          </a:prstGeom>
          <a:solidFill>
            <a:srgbClr val="ff0101"/>
          </a:solidFill>
          <a:ln w="60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六边形 25"/>
          <p:cNvSpPr/>
          <p:nvPr/>
        </p:nvSpPr>
        <p:spPr>
          <a:xfrm rot="1788000">
            <a:off x="8029080" y="4098600"/>
            <a:ext cx="1105200" cy="952560"/>
          </a:xfrm>
          <a:prstGeom prst="hexagon">
            <a:avLst>
              <a:gd name="adj" fmla="val 28028"/>
              <a:gd name="vf" fmla="val 115470"/>
            </a:avLst>
          </a:prstGeom>
          <a:solidFill>
            <a:srgbClr val="ff0101"/>
          </a:solidFill>
          <a:ln w="60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六边形 26"/>
          <p:cNvSpPr/>
          <p:nvPr/>
        </p:nvSpPr>
        <p:spPr>
          <a:xfrm rot="1788000">
            <a:off x="6854760" y="2172960"/>
            <a:ext cx="1106640" cy="952560"/>
          </a:xfrm>
          <a:prstGeom prst="hexagon">
            <a:avLst>
              <a:gd name="adj" fmla="val 28065"/>
              <a:gd name="vf" fmla="val 115470"/>
            </a:avLst>
          </a:prstGeom>
          <a:solidFill>
            <a:srgbClr val="404040"/>
          </a:solidFill>
          <a:ln w="60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六边形 27"/>
          <p:cNvSpPr/>
          <p:nvPr/>
        </p:nvSpPr>
        <p:spPr>
          <a:xfrm rot="1788000">
            <a:off x="3436560" y="4098960"/>
            <a:ext cx="1104840" cy="952560"/>
          </a:xfrm>
          <a:prstGeom prst="hexagon">
            <a:avLst>
              <a:gd name="adj" fmla="val 28019"/>
              <a:gd name="vf" fmla="val 115470"/>
            </a:avLst>
          </a:prstGeom>
          <a:solidFill>
            <a:srgbClr val="404040"/>
          </a:solidFill>
          <a:ln w="60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4" name="图片 28" descr=""/>
          <p:cNvPicPr/>
          <p:nvPr/>
        </p:nvPicPr>
        <p:blipFill>
          <a:blip r:embed="rId1"/>
          <a:stretch/>
        </p:blipFill>
        <p:spPr>
          <a:xfrm>
            <a:off x="3684600" y="4348080"/>
            <a:ext cx="492120" cy="490680"/>
          </a:xfrm>
          <a:prstGeom prst="rect">
            <a:avLst/>
          </a:prstGeom>
          <a:ln w="0">
            <a:noFill/>
          </a:ln>
        </p:spPr>
      </p:pic>
      <p:pic>
        <p:nvPicPr>
          <p:cNvPr id="805" name="图片 29" descr=""/>
          <p:cNvPicPr/>
          <p:nvPr/>
        </p:nvPicPr>
        <p:blipFill>
          <a:blip r:embed="rId2"/>
          <a:stretch/>
        </p:blipFill>
        <p:spPr>
          <a:xfrm>
            <a:off x="8348760" y="4387680"/>
            <a:ext cx="492120" cy="490680"/>
          </a:xfrm>
          <a:prstGeom prst="rect">
            <a:avLst/>
          </a:prstGeom>
          <a:ln w="0">
            <a:noFill/>
          </a:ln>
        </p:spPr>
      </p:pic>
      <p:pic>
        <p:nvPicPr>
          <p:cNvPr id="806" name="图片 30" descr=""/>
          <p:cNvPicPr/>
          <p:nvPr/>
        </p:nvPicPr>
        <p:blipFill>
          <a:blip r:embed="rId3"/>
          <a:stretch/>
        </p:blipFill>
        <p:spPr>
          <a:xfrm>
            <a:off x="7137360" y="23446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807" name="图片 31" descr=""/>
          <p:cNvPicPr/>
          <p:nvPr/>
        </p:nvPicPr>
        <p:blipFill>
          <a:blip r:embed="rId4"/>
          <a:stretch/>
        </p:blipFill>
        <p:spPr>
          <a:xfrm>
            <a:off x="4813200" y="233028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808" name="文本框 78"/>
          <p:cNvSpPr/>
          <p:nvPr/>
        </p:nvSpPr>
        <p:spPr>
          <a:xfrm>
            <a:off x="5021280" y="4094280"/>
            <a:ext cx="284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流程图: 可选过程 33"/>
          <p:cNvSpPr/>
          <p:nvPr/>
        </p:nvSpPr>
        <p:spPr>
          <a:xfrm>
            <a:off x="5021280" y="3683160"/>
            <a:ext cx="2081160" cy="4111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您的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流程图: 可选过程 34"/>
          <p:cNvSpPr/>
          <p:nvPr/>
        </p:nvSpPr>
        <p:spPr>
          <a:xfrm>
            <a:off x="8024760" y="2324160"/>
            <a:ext cx="2081160" cy="4111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您的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流程图: 可选过程 35"/>
          <p:cNvSpPr/>
          <p:nvPr/>
        </p:nvSpPr>
        <p:spPr>
          <a:xfrm>
            <a:off x="9102600" y="4348080"/>
            <a:ext cx="2081160" cy="4096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您的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流程图: 可选过程 36"/>
          <p:cNvSpPr/>
          <p:nvPr/>
        </p:nvSpPr>
        <p:spPr>
          <a:xfrm>
            <a:off x="2454120" y="2444760"/>
            <a:ext cx="2081520" cy="4096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您的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流程图: 可选过程 37"/>
          <p:cNvSpPr/>
          <p:nvPr/>
        </p:nvSpPr>
        <p:spPr>
          <a:xfrm>
            <a:off x="1413000" y="4370400"/>
            <a:ext cx="2081160" cy="4096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您的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8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9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十字星 5"/>
          <p:cNvSpPr/>
          <p:nvPr/>
        </p:nvSpPr>
        <p:spPr>
          <a:xfrm>
            <a:off x="4362480" y="2000160"/>
            <a:ext cx="3465360" cy="3465720"/>
          </a:xfrm>
          <a:custGeom>
            <a:avLst/>
            <a:gdLst>
              <a:gd name="textAreaLeft" fmla="*/ 1192320 w 3465360"/>
              <a:gd name="textAreaRight" fmla="*/ 2273040 w 3465360"/>
              <a:gd name="textAreaTop" fmla="*/ 1192320 h 3465720"/>
              <a:gd name="textAreaBottom" fmla="*/ 2273400 h 3465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431" y="7431"/>
                </a:lnTo>
                <a:lnTo>
                  <a:pt x="10800" y="0"/>
                </a:lnTo>
                <a:lnTo>
                  <a:pt x="14169" y="7431"/>
                </a:lnTo>
                <a:lnTo>
                  <a:pt x="21600" y="10800"/>
                </a:lnTo>
                <a:lnTo>
                  <a:pt x="14169" y="14169"/>
                </a:lnTo>
                <a:lnTo>
                  <a:pt x="10800" y="21600"/>
                </a:lnTo>
                <a:lnTo>
                  <a:pt x="7431" y="14169"/>
                </a:lnTo>
                <a:lnTo>
                  <a:pt x="0" y="10800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椭圆 6"/>
          <p:cNvSpPr/>
          <p:nvPr/>
        </p:nvSpPr>
        <p:spPr>
          <a:xfrm>
            <a:off x="5508720" y="1414440"/>
            <a:ext cx="1173240" cy="1171440"/>
          </a:xfrm>
          <a:prstGeom prst="ellipse">
            <a:avLst/>
          </a:prstGeom>
          <a:solidFill>
            <a:srgbClr val="ff4b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椭圆 7"/>
          <p:cNvSpPr/>
          <p:nvPr/>
        </p:nvSpPr>
        <p:spPr>
          <a:xfrm>
            <a:off x="7335720" y="3146400"/>
            <a:ext cx="1171800" cy="1173240"/>
          </a:xfrm>
          <a:prstGeom prst="ellipse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椭圆 8"/>
          <p:cNvSpPr/>
          <p:nvPr/>
        </p:nvSpPr>
        <p:spPr>
          <a:xfrm>
            <a:off x="3683160" y="3146400"/>
            <a:ext cx="1171440" cy="1173240"/>
          </a:xfrm>
          <a:prstGeom prst="ellipse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椭圆 9"/>
          <p:cNvSpPr/>
          <p:nvPr/>
        </p:nvSpPr>
        <p:spPr>
          <a:xfrm>
            <a:off x="5537160" y="4767120"/>
            <a:ext cx="1171440" cy="1171800"/>
          </a:xfrm>
          <a:prstGeom prst="ellipse">
            <a:avLst/>
          </a:prstGeom>
          <a:solidFill>
            <a:srgbClr val="ff4b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椭圆 14"/>
          <p:cNvSpPr/>
          <p:nvPr/>
        </p:nvSpPr>
        <p:spPr>
          <a:xfrm>
            <a:off x="5483160" y="3083040"/>
            <a:ext cx="1173240" cy="117144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extBox 77"/>
          <p:cNvSpPr/>
          <p:nvPr/>
        </p:nvSpPr>
        <p:spPr>
          <a:xfrm>
            <a:off x="7070760" y="1330200"/>
            <a:ext cx="22543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TextBox 77"/>
          <p:cNvSpPr/>
          <p:nvPr/>
        </p:nvSpPr>
        <p:spPr>
          <a:xfrm>
            <a:off x="8640720" y="3359160"/>
            <a:ext cx="22543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TextBox 77"/>
          <p:cNvSpPr/>
          <p:nvPr/>
        </p:nvSpPr>
        <p:spPr>
          <a:xfrm>
            <a:off x="3124080" y="5038560"/>
            <a:ext cx="22543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TextBox 77"/>
          <p:cNvSpPr/>
          <p:nvPr/>
        </p:nvSpPr>
        <p:spPr>
          <a:xfrm>
            <a:off x="1289160" y="3314880"/>
            <a:ext cx="22543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矩形 5"/>
          <p:cNvSpPr/>
          <p:nvPr/>
        </p:nvSpPr>
        <p:spPr>
          <a:xfrm>
            <a:off x="1827360" y="1438200"/>
            <a:ext cx="8424720" cy="4381560"/>
          </a:xfrm>
          <a:prstGeom prst="rect">
            <a:avLst/>
          </a:prstGeom>
          <a:solidFill>
            <a:srgbClr val="e80000"/>
          </a:solidFill>
          <a:ln w="12600">
            <a:solidFill>
              <a:srgbClr val="e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3" name="图片 6" descr=""/>
          <p:cNvPicPr/>
          <p:nvPr/>
        </p:nvPicPr>
        <p:blipFill>
          <a:blip r:embed="rId1"/>
          <a:stretch/>
        </p:blipFill>
        <p:spPr>
          <a:xfrm>
            <a:off x="1816200" y="1414440"/>
            <a:ext cx="3024000" cy="44067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7" descr=""/>
          <p:cNvPicPr/>
          <p:nvPr/>
        </p:nvPicPr>
        <p:blipFill>
          <a:blip r:embed="rId2"/>
          <a:stretch/>
        </p:blipFill>
        <p:spPr>
          <a:xfrm>
            <a:off x="7229520" y="1438200"/>
            <a:ext cx="3036960" cy="4395960"/>
          </a:xfrm>
          <a:prstGeom prst="rect">
            <a:avLst/>
          </a:prstGeom>
          <a:ln w="0">
            <a:noFill/>
          </a:ln>
        </p:spPr>
      </p:pic>
      <p:sp>
        <p:nvSpPr>
          <p:cNvPr id="835" name="文本框 13"/>
          <p:cNvSpPr/>
          <p:nvPr/>
        </p:nvSpPr>
        <p:spPr>
          <a:xfrm>
            <a:off x="4641840" y="2119320"/>
            <a:ext cx="284328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除了模板的发布与定制，我们还为您准备了使用教程，希望能够能够更好的使用该作品，授人以鱼不如授人以渔，希望您在下班之余，能够和我们一起进步，共同感受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巨大魅力与价值。我们诚祝您在工作中事事顺心，步步高升！最后让我们谨记：最重要的不是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你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3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TextBox 11"/>
          <p:cNvSpPr/>
          <p:nvPr/>
        </p:nvSpPr>
        <p:spPr>
          <a:xfrm flipH="1">
            <a:off x="1312200" y="1682640"/>
            <a:ext cx="240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直接连接符 6"/>
          <p:cNvSpPr/>
          <p:nvPr/>
        </p:nvSpPr>
        <p:spPr>
          <a:xfrm>
            <a:off x="1433520" y="2558880"/>
            <a:ext cx="2608200" cy="0"/>
          </a:xfrm>
          <a:prstGeom prst="line">
            <a:avLst/>
          </a:prstGeom>
          <a:ln w="64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TextBox 11"/>
          <p:cNvSpPr/>
          <p:nvPr/>
        </p:nvSpPr>
        <p:spPr>
          <a:xfrm flipH="1">
            <a:off x="1305000" y="3060720"/>
            <a:ext cx="2511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直接连接符 8"/>
          <p:cNvSpPr/>
          <p:nvPr/>
        </p:nvSpPr>
        <p:spPr>
          <a:xfrm>
            <a:off x="1433520" y="3898800"/>
            <a:ext cx="2608200" cy="0"/>
          </a:xfrm>
          <a:prstGeom prst="line">
            <a:avLst/>
          </a:prstGeom>
          <a:ln w="64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TextBox 11"/>
          <p:cNvSpPr/>
          <p:nvPr/>
        </p:nvSpPr>
        <p:spPr>
          <a:xfrm flipH="1">
            <a:off x="1304280" y="4524480"/>
            <a:ext cx="250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直接连接符 14"/>
          <p:cNvSpPr/>
          <p:nvPr/>
        </p:nvSpPr>
        <p:spPr>
          <a:xfrm>
            <a:off x="1433520" y="5337000"/>
            <a:ext cx="4454640" cy="0"/>
          </a:xfrm>
          <a:prstGeom prst="line">
            <a:avLst/>
          </a:prstGeom>
          <a:ln w="64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TextBox 11"/>
          <p:cNvSpPr/>
          <p:nvPr/>
        </p:nvSpPr>
        <p:spPr>
          <a:xfrm flipH="1">
            <a:off x="8445600" y="1781280"/>
            <a:ext cx="226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直接连接符 16"/>
          <p:cNvSpPr/>
          <p:nvPr/>
        </p:nvSpPr>
        <p:spPr>
          <a:xfrm>
            <a:off x="7591320" y="2558880"/>
            <a:ext cx="3067200" cy="0"/>
          </a:xfrm>
          <a:prstGeom prst="line">
            <a:avLst/>
          </a:prstGeom>
          <a:ln w="64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TextBox 20"/>
          <p:cNvSpPr/>
          <p:nvPr/>
        </p:nvSpPr>
        <p:spPr>
          <a:xfrm flipH="1">
            <a:off x="8440560" y="4021200"/>
            <a:ext cx="251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直接连接符 18"/>
          <p:cNvSpPr/>
          <p:nvPr/>
        </p:nvSpPr>
        <p:spPr>
          <a:xfrm>
            <a:off x="7122960" y="4822920"/>
            <a:ext cx="3535560" cy="0"/>
          </a:xfrm>
          <a:prstGeom prst="line">
            <a:avLst/>
          </a:prstGeom>
          <a:ln w="64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0" name="组合 19"/>
          <p:cNvGrpSpPr/>
          <p:nvPr/>
        </p:nvGrpSpPr>
        <p:grpSpPr>
          <a:xfrm>
            <a:off x="2384280" y="1373040"/>
            <a:ext cx="6816960" cy="4797720"/>
            <a:chOff x="2384280" y="1373040"/>
            <a:chExt cx="6816960" cy="4797720"/>
          </a:xfrm>
        </p:grpSpPr>
        <p:grpSp>
          <p:nvGrpSpPr>
            <p:cNvPr id="851" name="椭圆 10"/>
            <p:cNvGrpSpPr/>
            <p:nvPr/>
          </p:nvGrpSpPr>
          <p:grpSpPr>
            <a:xfrm>
              <a:off x="2384280" y="3205080"/>
              <a:ext cx="6816960" cy="1184760"/>
              <a:chOff x="2384280" y="3205080"/>
              <a:chExt cx="6816960" cy="1184760"/>
            </a:xfrm>
          </p:grpSpPr>
          <p:pic>
            <p:nvPicPr>
              <p:cNvPr id="852" name="椭圆 10" descr=""/>
              <p:cNvPicPr/>
              <p:nvPr/>
            </p:nvPicPr>
            <p:blipFill>
              <a:blip r:embed="rId1"/>
              <a:stretch/>
            </p:blipFill>
            <p:spPr>
              <a:xfrm>
                <a:off x="2384280" y="3205080"/>
                <a:ext cx="6816960" cy="118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Text Box 19"/>
              <p:cNvSpPr/>
              <p:nvPr/>
            </p:nvSpPr>
            <p:spPr>
              <a:xfrm>
                <a:off x="3459240" y="3426480"/>
                <a:ext cx="4594680" cy="69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54" name="组合 21" descr=""/>
            <p:cNvPicPr/>
            <p:nvPr/>
          </p:nvPicPr>
          <p:blipFill>
            <a:blip r:embed="rId2"/>
            <a:stretch/>
          </p:blipFill>
          <p:spPr>
            <a:xfrm>
              <a:off x="3871800" y="1373040"/>
              <a:ext cx="3853080" cy="4797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3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1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矩形 5"/>
          <p:cNvSpPr/>
          <p:nvPr/>
        </p:nvSpPr>
        <p:spPr>
          <a:xfrm>
            <a:off x="4524480" y="2009880"/>
            <a:ext cx="676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文本框 6"/>
          <p:cNvSpPr/>
          <p:nvPr/>
        </p:nvSpPr>
        <p:spPr>
          <a:xfrm>
            <a:off x="4524480" y="1297080"/>
            <a:ext cx="79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文本框 7"/>
          <p:cNvSpPr/>
          <p:nvPr/>
        </p:nvSpPr>
        <p:spPr>
          <a:xfrm>
            <a:off x="4524480" y="164160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您的副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文本框 8"/>
          <p:cNvSpPr/>
          <p:nvPr/>
        </p:nvSpPr>
        <p:spPr>
          <a:xfrm>
            <a:off x="4923000" y="3362400"/>
            <a:ext cx="2163600" cy="368280"/>
          </a:xfrm>
          <a:prstGeom prst="rect">
            <a:avLst/>
          </a:prstGeom>
          <a:solidFill>
            <a:srgbClr val="ed49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文本框 9"/>
          <p:cNvSpPr/>
          <p:nvPr/>
        </p:nvSpPr>
        <p:spPr>
          <a:xfrm>
            <a:off x="8694720" y="3362400"/>
            <a:ext cx="2163960" cy="368280"/>
          </a:xfrm>
          <a:prstGeom prst="rect">
            <a:avLst/>
          </a:prstGeom>
          <a:solidFill>
            <a:srgbClr val="ed49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TextBox 35"/>
          <p:cNvSpPr/>
          <p:nvPr/>
        </p:nvSpPr>
        <p:spPr>
          <a:xfrm>
            <a:off x="4819680" y="3997440"/>
            <a:ext cx="28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TextBox 35"/>
          <p:cNvSpPr/>
          <p:nvPr/>
        </p:nvSpPr>
        <p:spPr>
          <a:xfrm>
            <a:off x="8591400" y="3994200"/>
            <a:ext cx="28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6" name="图片 16" descr=""/>
          <p:cNvPicPr/>
          <p:nvPr/>
        </p:nvPicPr>
        <p:blipFill>
          <a:blip r:embed="rId1"/>
          <a:stretch/>
        </p:blipFill>
        <p:spPr>
          <a:xfrm>
            <a:off x="785880" y="1641600"/>
            <a:ext cx="356076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7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1" dur="2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27" fill="hold">
                                          <p:stCondLst>
                                            <p:cond delay="227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78" autoRev="1" fill="hold">
                                          <p:stCondLst>
                                            <p:cond delay="227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4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2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2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2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六边形 5"/>
          <p:cNvSpPr/>
          <p:nvPr/>
        </p:nvSpPr>
        <p:spPr>
          <a:xfrm>
            <a:off x="4691160" y="1847880"/>
            <a:ext cx="1739880" cy="1498680"/>
          </a:xfrm>
          <a:prstGeom prst="hexagon">
            <a:avLst>
              <a:gd name="adj" fmla="val 30109"/>
              <a:gd name="vf" fmla="val 115470"/>
            </a:avLst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六边形 6"/>
          <p:cNvSpPr/>
          <p:nvPr/>
        </p:nvSpPr>
        <p:spPr>
          <a:xfrm>
            <a:off x="6116760" y="2711520"/>
            <a:ext cx="1739880" cy="1498680"/>
          </a:xfrm>
          <a:prstGeom prst="hexagon">
            <a:avLst>
              <a:gd name="adj" fmla="val 30109"/>
              <a:gd name="vf" fmla="val 11547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六边形 7"/>
          <p:cNvSpPr/>
          <p:nvPr/>
        </p:nvSpPr>
        <p:spPr>
          <a:xfrm>
            <a:off x="4691160" y="3510000"/>
            <a:ext cx="1739880" cy="1498680"/>
          </a:xfrm>
          <a:prstGeom prst="hexagon">
            <a:avLst>
              <a:gd name="adj" fmla="val 30109"/>
              <a:gd name="vf" fmla="val 115470"/>
            </a:avLst>
          </a:prstGeom>
          <a:solidFill>
            <a:srgbClr val="ff4b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文本框 8"/>
          <p:cNvSpPr/>
          <p:nvPr/>
        </p:nvSpPr>
        <p:spPr>
          <a:xfrm>
            <a:off x="7120080" y="1519200"/>
            <a:ext cx="4322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文本框 9"/>
          <p:cNvSpPr/>
          <p:nvPr/>
        </p:nvSpPr>
        <p:spPr>
          <a:xfrm>
            <a:off x="6431040" y="4373640"/>
            <a:ext cx="4322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文本框 14"/>
          <p:cNvSpPr/>
          <p:nvPr/>
        </p:nvSpPr>
        <p:spPr>
          <a:xfrm>
            <a:off x="658800" y="2944800"/>
            <a:ext cx="4322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4" name="图片 15" descr=""/>
          <p:cNvPicPr/>
          <p:nvPr/>
        </p:nvPicPr>
        <p:blipFill>
          <a:blip r:embed="rId1"/>
          <a:stretch/>
        </p:blipFill>
        <p:spPr>
          <a:xfrm>
            <a:off x="5186520" y="21891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95" name="图片 16" descr=""/>
          <p:cNvPicPr/>
          <p:nvPr/>
        </p:nvPicPr>
        <p:blipFill>
          <a:blip r:embed="rId2"/>
          <a:stretch/>
        </p:blipFill>
        <p:spPr>
          <a:xfrm>
            <a:off x="6608880" y="30700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96" name="图片 17" descr=""/>
          <p:cNvPicPr/>
          <p:nvPr/>
        </p:nvPicPr>
        <p:blipFill>
          <a:blip r:embed="rId3"/>
          <a:stretch/>
        </p:blipFill>
        <p:spPr>
          <a:xfrm>
            <a:off x="5183280" y="3884760"/>
            <a:ext cx="755640" cy="75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1" name="组合 14"/>
          <p:cNvGrpSpPr/>
          <p:nvPr/>
        </p:nvGrpSpPr>
        <p:grpSpPr>
          <a:xfrm>
            <a:off x="1041480" y="1247760"/>
            <a:ext cx="4270320" cy="4645080"/>
            <a:chOff x="1041480" y="1247760"/>
            <a:chExt cx="4270320" cy="4645080"/>
          </a:xfrm>
        </p:grpSpPr>
        <p:sp>
          <p:nvSpPr>
            <p:cNvPr id="602" name="流程图: 联系 15"/>
            <p:cNvSpPr/>
            <p:nvPr/>
          </p:nvSpPr>
          <p:spPr>
            <a:xfrm>
              <a:off x="2674080" y="1247760"/>
              <a:ext cx="1005120" cy="1005480"/>
            </a:xfrm>
            <a:prstGeom prst="flowChartConnector">
              <a:avLst/>
            </a:prstGeom>
            <a:solidFill>
              <a:srgbClr val="ff4b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流程图: 联系 16"/>
            <p:cNvSpPr/>
            <p:nvPr/>
          </p:nvSpPr>
          <p:spPr>
            <a:xfrm>
              <a:off x="4306680" y="2253240"/>
              <a:ext cx="1005120" cy="1005480"/>
            </a:xfrm>
            <a:prstGeom prst="flowChartConnector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流程图: 联系 17"/>
            <p:cNvSpPr/>
            <p:nvPr/>
          </p:nvSpPr>
          <p:spPr>
            <a:xfrm>
              <a:off x="4306680" y="3881880"/>
              <a:ext cx="1005120" cy="1005480"/>
            </a:xfrm>
            <a:prstGeom prst="flowChartConnector">
              <a:avLst/>
            </a:prstGeom>
            <a:solidFill>
              <a:srgbClr val="ff4b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流程图: 联系 18"/>
            <p:cNvSpPr/>
            <p:nvPr/>
          </p:nvSpPr>
          <p:spPr>
            <a:xfrm>
              <a:off x="1193760" y="3877560"/>
              <a:ext cx="1005120" cy="1005480"/>
            </a:xfrm>
            <a:prstGeom prst="flowChartConnector">
              <a:avLst/>
            </a:prstGeom>
            <a:solidFill>
              <a:srgbClr val="ff4b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流程图: 联系 19"/>
            <p:cNvSpPr/>
            <p:nvPr/>
          </p:nvSpPr>
          <p:spPr>
            <a:xfrm>
              <a:off x="2607840" y="4887360"/>
              <a:ext cx="1005120" cy="1005480"/>
            </a:xfrm>
            <a:prstGeom prst="flowChartConnector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流程图: 联系 20"/>
            <p:cNvSpPr/>
            <p:nvPr/>
          </p:nvSpPr>
          <p:spPr>
            <a:xfrm>
              <a:off x="1041480" y="2253240"/>
              <a:ext cx="1005120" cy="1005480"/>
            </a:xfrm>
            <a:prstGeom prst="flowChartConnector">
              <a:avLst/>
            </a:prstGeom>
            <a:solidFill>
              <a:srgbClr val="f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直接连接符 21"/>
            <p:cNvSpPr/>
            <p:nvPr/>
          </p:nvSpPr>
          <p:spPr>
            <a:xfrm>
              <a:off x="2046600" y="2755800"/>
              <a:ext cx="2259720" cy="0"/>
            </a:xfrm>
            <a:prstGeom prst="line">
              <a:avLst/>
            </a:prstGeom>
            <a:ln w="648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直接连接符 22"/>
            <p:cNvSpPr/>
            <p:nvPr/>
          </p:nvSpPr>
          <p:spPr>
            <a:xfrm>
              <a:off x="3531960" y="2106000"/>
              <a:ext cx="1276920" cy="1775880"/>
            </a:xfrm>
            <a:prstGeom prst="line">
              <a:avLst/>
            </a:prstGeom>
            <a:ln w="648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直接连接符 23"/>
            <p:cNvSpPr/>
            <p:nvPr/>
          </p:nvSpPr>
          <p:spPr>
            <a:xfrm>
              <a:off x="1899360" y="3111480"/>
              <a:ext cx="855720" cy="1923120"/>
            </a:xfrm>
            <a:prstGeom prst="line">
              <a:avLst/>
            </a:prstGeom>
            <a:ln w="648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直接连接符 24"/>
            <p:cNvSpPr/>
            <p:nvPr/>
          </p:nvSpPr>
          <p:spPr>
            <a:xfrm>
              <a:off x="2199240" y="4380480"/>
              <a:ext cx="2107440" cy="3960"/>
            </a:xfrm>
            <a:prstGeom prst="line">
              <a:avLst/>
            </a:prstGeom>
            <a:ln w="648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直接连接符 25"/>
            <p:cNvSpPr/>
            <p:nvPr/>
          </p:nvSpPr>
          <p:spPr>
            <a:xfrm flipV="1">
              <a:off x="1696680" y="2105640"/>
              <a:ext cx="1124640" cy="1771560"/>
            </a:xfrm>
            <a:prstGeom prst="line">
              <a:avLst/>
            </a:prstGeom>
            <a:ln w="648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直接连接符 26"/>
            <p:cNvSpPr/>
            <p:nvPr/>
          </p:nvSpPr>
          <p:spPr>
            <a:xfrm flipH="1">
              <a:off x="3465720" y="3111480"/>
              <a:ext cx="987480" cy="1923120"/>
            </a:xfrm>
            <a:prstGeom prst="line">
              <a:avLst/>
            </a:prstGeom>
            <a:ln w="648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流程图: 联系 27"/>
            <p:cNvSpPr/>
            <p:nvPr/>
          </p:nvSpPr>
          <p:spPr>
            <a:xfrm>
              <a:off x="2693520" y="2945520"/>
              <a:ext cx="1005120" cy="1005480"/>
            </a:xfrm>
            <a:prstGeom prst="flowChartConnector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5" name="文本框 28"/>
          <p:cNvSpPr/>
          <p:nvPr/>
        </p:nvSpPr>
        <p:spPr>
          <a:xfrm>
            <a:off x="2830680" y="1598760"/>
            <a:ext cx="87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文本框 29"/>
          <p:cNvSpPr/>
          <p:nvPr/>
        </p:nvSpPr>
        <p:spPr>
          <a:xfrm>
            <a:off x="1235160" y="2560680"/>
            <a:ext cx="87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文本框 30"/>
          <p:cNvSpPr/>
          <p:nvPr/>
        </p:nvSpPr>
        <p:spPr>
          <a:xfrm>
            <a:off x="1308240" y="4179960"/>
            <a:ext cx="87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文本框 31"/>
          <p:cNvSpPr/>
          <p:nvPr/>
        </p:nvSpPr>
        <p:spPr>
          <a:xfrm>
            <a:off x="2774880" y="5262480"/>
            <a:ext cx="8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文本框 32"/>
          <p:cNvSpPr/>
          <p:nvPr/>
        </p:nvSpPr>
        <p:spPr>
          <a:xfrm>
            <a:off x="4511520" y="4219560"/>
            <a:ext cx="8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文本框 33"/>
          <p:cNvSpPr/>
          <p:nvPr/>
        </p:nvSpPr>
        <p:spPr>
          <a:xfrm>
            <a:off x="4470480" y="2585880"/>
            <a:ext cx="8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文本框 34"/>
          <p:cNvSpPr/>
          <p:nvPr/>
        </p:nvSpPr>
        <p:spPr>
          <a:xfrm>
            <a:off x="2851200" y="3297240"/>
            <a:ext cx="8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直接连接符 35"/>
          <p:cNvSpPr/>
          <p:nvPr/>
        </p:nvSpPr>
        <p:spPr>
          <a:xfrm flipH="1">
            <a:off x="5779800" y="1247760"/>
            <a:ext cx="3240" cy="464508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文本框 78"/>
          <p:cNvSpPr/>
          <p:nvPr/>
        </p:nvSpPr>
        <p:spPr>
          <a:xfrm>
            <a:off x="6330960" y="2816280"/>
            <a:ext cx="5294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除了模板的发布与定制，我们还为您准备了使用教程，希望能够能够更好的使用该作品，授人以鱼不如授人以渔，希望您在下班之余，能够和我们一起进步，共同感受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巨大魅力与价值。我们诚祝您在工作中事事顺心，步步高升！最后让我们谨记：最重要的不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文本框 37"/>
          <p:cNvSpPr/>
          <p:nvPr/>
        </p:nvSpPr>
        <p:spPr>
          <a:xfrm>
            <a:off x="6318360" y="236376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矩形 5"/>
          <p:cNvSpPr/>
          <p:nvPr/>
        </p:nvSpPr>
        <p:spPr>
          <a:xfrm>
            <a:off x="6937200" y="3971880"/>
            <a:ext cx="5137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除了模板的发布与定制，我们还为您准备了使用教程，希望能够能够更好的使用该作品，授人以鱼不如授人以渔，希望您在下班之余，能够和我们一起进步，共同感受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巨大魅力与价值。我们诚祝您在工作中事事顺心，步步高升！最后让我们谨记：最重要的不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TextBox 692"/>
          <p:cNvSpPr/>
          <p:nvPr/>
        </p:nvSpPr>
        <p:spPr>
          <a:xfrm>
            <a:off x="7286760" y="3521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1" name="图片 7" descr=""/>
          <p:cNvPicPr/>
          <p:nvPr/>
        </p:nvPicPr>
        <p:blipFill>
          <a:blip r:embed="rId1"/>
          <a:stretch/>
        </p:blipFill>
        <p:spPr>
          <a:xfrm>
            <a:off x="10399680" y="2919240"/>
            <a:ext cx="839880" cy="839880"/>
          </a:xfrm>
          <a:prstGeom prst="rect">
            <a:avLst/>
          </a:prstGeom>
          <a:ln w="0">
            <a:noFill/>
          </a:ln>
        </p:spPr>
      </p:pic>
      <p:pic>
        <p:nvPicPr>
          <p:cNvPr id="632" name="图片 8" descr=""/>
          <p:cNvPicPr/>
          <p:nvPr/>
        </p:nvPicPr>
        <p:blipFill>
          <a:blip r:embed="rId2"/>
          <a:stretch/>
        </p:blipFill>
        <p:spPr>
          <a:xfrm>
            <a:off x="11356920" y="2701800"/>
            <a:ext cx="500040" cy="498600"/>
          </a:xfrm>
          <a:prstGeom prst="rect">
            <a:avLst/>
          </a:prstGeom>
          <a:ln w="0">
            <a:noFill/>
          </a:ln>
        </p:spPr>
      </p:pic>
      <p:sp>
        <p:nvSpPr>
          <p:cNvPr id="633" name="文本框 9"/>
          <p:cNvSpPr/>
          <p:nvPr/>
        </p:nvSpPr>
        <p:spPr>
          <a:xfrm>
            <a:off x="6934320" y="2960640"/>
            <a:ext cx="518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世界地图、中国地图中的每个国家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省份均可自由编辑换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4" name="组合 14" descr=""/>
          <p:cNvPicPr/>
          <p:nvPr/>
        </p:nvPicPr>
        <p:blipFill>
          <a:blip r:embed="rId3"/>
          <a:stretch/>
        </p:blipFill>
        <p:spPr>
          <a:xfrm>
            <a:off x="146160" y="1011240"/>
            <a:ext cx="679104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3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8">
                                  <p:stCondLst>
                                    <p:cond delay="250"/>
                                  </p:stCondLst>
                                  <p:childTnLst>
                                    <p:animRot by="21600000">
                                      <p:cBhvr>
                                        <p:cTn id="69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矩形 7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文本框 1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矩形 11"/>
          <p:cNvSpPr/>
          <p:nvPr/>
        </p:nvSpPr>
        <p:spPr>
          <a:xfrm flipH="1">
            <a:off x="4757040" y="1906560"/>
            <a:ext cx="2833560" cy="41292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直接连接符 12"/>
          <p:cNvSpPr/>
          <p:nvPr/>
        </p:nvSpPr>
        <p:spPr>
          <a:xfrm flipH="1">
            <a:off x="6173280" y="1327320"/>
            <a:ext cx="3240" cy="1374480"/>
          </a:xfrm>
          <a:prstGeom prst="line">
            <a:avLst/>
          </a:prstGeom>
          <a:ln w="6480">
            <a:solidFill>
              <a:srgbClr val="e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右中括号 13"/>
          <p:cNvSpPr/>
          <p:nvPr/>
        </p:nvSpPr>
        <p:spPr>
          <a:xfrm rot="16200000">
            <a:off x="6015600" y="-264240"/>
            <a:ext cx="317520" cy="6249960"/>
          </a:xfrm>
          <a:custGeom>
            <a:avLst/>
            <a:gdLst>
              <a:gd name="textAreaLeft" fmla="*/ 0 w 317520"/>
              <a:gd name="textAreaRight" fmla="*/ 222840 w 317520"/>
              <a:gd name="textAreaTop" fmla="*/ 12960 h 6249960"/>
              <a:gd name="textAreaBottom" fmla="*/ 6237000 h 624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46"/>
                  <a:pt x="21600" y="92"/>
                </a:cubicBezTo>
                <a:lnTo>
                  <a:pt x="21600" y="21508"/>
                </a:lnTo>
                <a:cubicBezTo>
                  <a:pt x="21600" y="21554"/>
                  <a:pt x="10800" y="21600"/>
                  <a:pt x="0" y="21600"/>
                </a:cubicBezTo>
              </a:path>
            </a:pathLst>
          </a:custGeom>
          <a:noFill/>
          <a:ln w="6480">
            <a:solidFill>
              <a:srgbClr val="e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矩形 14"/>
          <p:cNvSpPr/>
          <p:nvPr/>
        </p:nvSpPr>
        <p:spPr>
          <a:xfrm flipH="1">
            <a:off x="4757040" y="1111320"/>
            <a:ext cx="2833560" cy="4125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3" name="组合 15"/>
          <p:cNvGrpSpPr/>
          <p:nvPr/>
        </p:nvGrpSpPr>
        <p:grpSpPr>
          <a:xfrm>
            <a:off x="2101680" y="3019320"/>
            <a:ext cx="1895760" cy="2921040"/>
            <a:chOff x="2101680" y="3019320"/>
            <a:chExt cx="1895760" cy="2921040"/>
          </a:xfrm>
        </p:grpSpPr>
        <p:sp>
          <p:nvSpPr>
            <p:cNvPr id="644" name="流程图: 过程 16"/>
            <p:cNvSpPr/>
            <p:nvPr/>
          </p:nvSpPr>
          <p:spPr>
            <a:xfrm>
              <a:off x="2101680" y="3019320"/>
              <a:ext cx="1895760" cy="2921040"/>
            </a:xfrm>
            <a:prstGeom prst="flowChartProcess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流程图: 过程 17"/>
            <p:cNvSpPr/>
            <p:nvPr/>
          </p:nvSpPr>
          <p:spPr>
            <a:xfrm>
              <a:off x="2101680" y="3019320"/>
              <a:ext cx="1880280" cy="496800"/>
            </a:xfrm>
            <a:prstGeom prst="flowChartProcess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6" name="组合 18"/>
          <p:cNvGrpSpPr/>
          <p:nvPr/>
        </p:nvGrpSpPr>
        <p:grpSpPr>
          <a:xfrm>
            <a:off x="4176720" y="3019320"/>
            <a:ext cx="1895400" cy="2921040"/>
            <a:chOff x="4176720" y="3019320"/>
            <a:chExt cx="1895400" cy="2921040"/>
          </a:xfrm>
        </p:grpSpPr>
        <p:sp>
          <p:nvSpPr>
            <p:cNvPr id="647" name="流程图: 过程 19"/>
            <p:cNvSpPr/>
            <p:nvPr/>
          </p:nvSpPr>
          <p:spPr>
            <a:xfrm>
              <a:off x="4176720" y="3019320"/>
              <a:ext cx="1895400" cy="2921040"/>
            </a:xfrm>
            <a:prstGeom prst="flowChartProcess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流程图: 过程 20"/>
            <p:cNvSpPr/>
            <p:nvPr/>
          </p:nvSpPr>
          <p:spPr>
            <a:xfrm>
              <a:off x="4176720" y="3019320"/>
              <a:ext cx="1879920" cy="496800"/>
            </a:xfrm>
            <a:prstGeom prst="flowChartProcess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9" name="组合 21"/>
          <p:cNvGrpSpPr/>
          <p:nvPr/>
        </p:nvGrpSpPr>
        <p:grpSpPr>
          <a:xfrm>
            <a:off x="6222960" y="3019320"/>
            <a:ext cx="1895400" cy="2921040"/>
            <a:chOff x="6222960" y="3019320"/>
            <a:chExt cx="1895400" cy="2921040"/>
          </a:xfrm>
        </p:grpSpPr>
        <p:sp>
          <p:nvSpPr>
            <p:cNvPr id="650" name="流程图: 过程 22"/>
            <p:cNvSpPr/>
            <p:nvPr/>
          </p:nvSpPr>
          <p:spPr>
            <a:xfrm>
              <a:off x="6222960" y="3019320"/>
              <a:ext cx="1895400" cy="2921040"/>
            </a:xfrm>
            <a:prstGeom prst="flowChartProcess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流程图: 过程 23"/>
            <p:cNvSpPr/>
            <p:nvPr/>
          </p:nvSpPr>
          <p:spPr>
            <a:xfrm>
              <a:off x="6222960" y="3019320"/>
              <a:ext cx="1879920" cy="496800"/>
            </a:xfrm>
            <a:prstGeom prst="flowChartProcess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2" name="组合 24"/>
          <p:cNvGrpSpPr/>
          <p:nvPr/>
        </p:nvGrpSpPr>
        <p:grpSpPr>
          <a:xfrm>
            <a:off x="8288280" y="3019320"/>
            <a:ext cx="1895400" cy="2921040"/>
            <a:chOff x="8288280" y="3019320"/>
            <a:chExt cx="1895400" cy="2921040"/>
          </a:xfrm>
        </p:grpSpPr>
        <p:sp>
          <p:nvSpPr>
            <p:cNvPr id="653" name="流程图: 过程 25"/>
            <p:cNvSpPr/>
            <p:nvPr/>
          </p:nvSpPr>
          <p:spPr>
            <a:xfrm>
              <a:off x="8288280" y="3019320"/>
              <a:ext cx="1895400" cy="2921040"/>
            </a:xfrm>
            <a:prstGeom prst="flowChartProcess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流程图: 过程 26"/>
            <p:cNvSpPr/>
            <p:nvPr/>
          </p:nvSpPr>
          <p:spPr>
            <a:xfrm>
              <a:off x="8288280" y="3019320"/>
              <a:ext cx="1879920" cy="496800"/>
            </a:xfrm>
            <a:prstGeom prst="flowChartProcess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5" name="文本框 27"/>
          <p:cNvSpPr/>
          <p:nvPr/>
        </p:nvSpPr>
        <p:spPr>
          <a:xfrm>
            <a:off x="5268960" y="1111320"/>
            <a:ext cx="181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你的内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文本框 28"/>
          <p:cNvSpPr/>
          <p:nvPr/>
        </p:nvSpPr>
        <p:spPr>
          <a:xfrm>
            <a:off x="5268960" y="1906560"/>
            <a:ext cx="181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你的内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文本框 29"/>
          <p:cNvSpPr/>
          <p:nvPr/>
        </p:nvSpPr>
        <p:spPr>
          <a:xfrm>
            <a:off x="2411280" y="3029040"/>
            <a:ext cx="12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文本框 30"/>
          <p:cNvSpPr/>
          <p:nvPr/>
        </p:nvSpPr>
        <p:spPr>
          <a:xfrm>
            <a:off x="4546440" y="3029040"/>
            <a:ext cx="12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文本框 31"/>
          <p:cNvSpPr/>
          <p:nvPr/>
        </p:nvSpPr>
        <p:spPr>
          <a:xfrm>
            <a:off x="6532560" y="3036960"/>
            <a:ext cx="12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文本框 32"/>
          <p:cNvSpPr/>
          <p:nvPr/>
        </p:nvSpPr>
        <p:spPr>
          <a:xfrm>
            <a:off x="8669160" y="3049560"/>
            <a:ext cx="12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TextBox 10"/>
          <p:cNvSpPr/>
          <p:nvPr/>
        </p:nvSpPr>
        <p:spPr>
          <a:xfrm>
            <a:off x="2155680" y="3851280"/>
            <a:ext cx="182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Box 10"/>
          <p:cNvSpPr/>
          <p:nvPr/>
        </p:nvSpPr>
        <p:spPr>
          <a:xfrm>
            <a:off x="4246560" y="3851280"/>
            <a:ext cx="182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TextBox 10"/>
          <p:cNvSpPr/>
          <p:nvPr/>
        </p:nvSpPr>
        <p:spPr>
          <a:xfrm>
            <a:off x="6292800" y="3851280"/>
            <a:ext cx="182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Box 10"/>
          <p:cNvSpPr/>
          <p:nvPr/>
        </p:nvSpPr>
        <p:spPr>
          <a:xfrm>
            <a:off x="8386920" y="3851280"/>
            <a:ext cx="182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9" name="组合 5" descr=""/>
          <p:cNvPicPr/>
          <p:nvPr/>
        </p:nvPicPr>
        <p:blipFill>
          <a:blip r:embed="rId1"/>
          <a:stretch/>
        </p:blipFill>
        <p:spPr>
          <a:xfrm>
            <a:off x="2054160" y="2712960"/>
            <a:ext cx="8272440" cy="1596960"/>
          </a:xfrm>
          <a:prstGeom prst="rect">
            <a:avLst/>
          </a:prstGeom>
          <a:ln w="0">
            <a:noFill/>
          </a:ln>
        </p:spPr>
      </p:pic>
      <p:sp>
        <p:nvSpPr>
          <p:cNvPr id="670" name="文本框 16"/>
          <p:cNvSpPr/>
          <p:nvPr/>
        </p:nvSpPr>
        <p:spPr>
          <a:xfrm>
            <a:off x="2533680" y="3516480"/>
            <a:ext cx="71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文本框 17"/>
          <p:cNvSpPr/>
          <p:nvPr/>
        </p:nvSpPr>
        <p:spPr>
          <a:xfrm>
            <a:off x="3994200" y="28177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文本框 18"/>
          <p:cNvSpPr/>
          <p:nvPr/>
        </p:nvSpPr>
        <p:spPr>
          <a:xfrm>
            <a:off x="5265720" y="35244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文本框 19"/>
          <p:cNvSpPr/>
          <p:nvPr/>
        </p:nvSpPr>
        <p:spPr>
          <a:xfrm>
            <a:off x="6491160" y="283536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文本框 20"/>
          <p:cNvSpPr/>
          <p:nvPr/>
        </p:nvSpPr>
        <p:spPr>
          <a:xfrm>
            <a:off x="7785000" y="366552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文本框 21"/>
          <p:cNvSpPr/>
          <p:nvPr/>
        </p:nvSpPr>
        <p:spPr>
          <a:xfrm>
            <a:off x="9123480" y="283536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TextBox 10"/>
          <p:cNvSpPr/>
          <p:nvPr/>
        </p:nvSpPr>
        <p:spPr>
          <a:xfrm>
            <a:off x="2227320" y="4435560"/>
            <a:ext cx="1698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TextBox 10"/>
          <p:cNvSpPr/>
          <p:nvPr/>
        </p:nvSpPr>
        <p:spPr>
          <a:xfrm>
            <a:off x="3419640" y="1098720"/>
            <a:ext cx="1698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TextBox 10"/>
          <p:cNvSpPr/>
          <p:nvPr/>
        </p:nvSpPr>
        <p:spPr>
          <a:xfrm>
            <a:off x="4611600" y="4435560"/>
            <a:ext cx="1698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TextBox 10"/>
          <p:cNvSpPr/>
          <p:nvPr/>
        </p:nvSpPr>
        <p:spPr>
          <a:xfrm>
            <a:off x="7205760" y="4435560"/>
            <a:ext cx="1698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TextBox 10"/>
          <p:cNvSpPr/>
          <p:nvPr/>
        </p:nvSpPr>
        <p:spPr>
          <a:xfrm>
            <a:off x="5891040" y="1144440"/>
            <a:ext cx="1698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TextBox 10"/>
          <p:cNvSpPr/>
          <p:nvPr/>
        </p:nvSpPr>
        <p:spPr>
          <a:xfrm>
            <a:off x="8459640" y="1093680"/>
            <a:ext cx="16970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空心弧 5"/>
          <p:cNvSpPr/>
          <p:nvPr/>
        </p:nvSpPr>
        <p:spPr>
          <a:xfrm rot="10800000">
            <a:off x="1318680" y="1819440"/>
            <a:ext cx="1606680" cy="1606320"/>
          </a:xfrm>
          <a:custGeom>
            <a:avLst/>
            <a:gdLst/>
            <a:ahLst/>
            <a:rect l="l" t="t" r="r" b="b"/>
            <a:pathLst>
              <a:path w="1606572" h="1606572">
                <a:moveTo>
                  <a:pt x="1186723" y="1509150"/>
                </a:moveTo>
                <a:cubicBezTo>
                  <a:pt x="868948" y="1681771"/>
                  <a:pt x="475001" y="1620768"/>
                  <a:pt x="224318" y="1360121"/>
                </a:cubicBezTo>
                <a:cubicBezTo>
                  <a:pt x="-26365" y="1099474"/>
                  <a:pt x="-71974" y="703450"/>
                  <a:pt x="112895" y="392641"/>
                </a:cubicBezTo>
                <a:cubicBezTo>
                  <a:pt x="297765" y="81832"/>
                  <a:pt x="667531" y="-67126"/>
                  <a:pt x="1016226" y="28738"/>
                </a:cubicBezTo>
                <a:cubicBezTo>
                  <a:pt x="1364922" y="124602"/>
                  <a:pt x="1606571" y="441653"/>
                  <a:pt x="1606571" y="803286"/>
                </a:cubicBezTo>
                <a:lnTo>
                  <a:pt x="1390215" y="803286"/>
                </a:lnTo>
                <a:cubicBezTo>
                  <a:pt x="1390215" y="539055"/>
                  <a:pt x="1213652" y="307399"/>
                  <a:pt x="958873" y="237354"/>
                </a:cubicBezTo>
                <a:cubicBezTo>
                  <a:pt x="704095" y="167310"/>
                  <a:pt x="433922" y="276148"/>
                  <a:pt x="298845" y="503243"/>
                </a:cubicBezTo>
                <a:cubicBezTo>
                  <a:pt x="163768" y="730339"/>
                  <a:pt x="197093" y="1019698"/>
                  <a:pt x="380257" y="1210142"/>
                </a:cubicBezTo>
                <a:cubicBezTo>
                  <a:pt x="563421" y="1400586"/>
                  <a:pt x="851262" y="1445159"/>
                  <a:pt x="1083448" y="1319032"/>
                </a:cubicBezTo>
                <a:lnTo>
                  <a:pt x="1186723" y="150915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空心弧 6"/>
          <p:cNvSpPr/>
          <p:nvPr/>
        </p:nvSpPr>
        <p:spPr>
          <a:xfrm rot="10451400">
            <a:off x="4016160" y="1819440"/>
            <a:ext cx="1606320" cy="1606320"/>
          </a:xfrm>
          <a:custGeom>
            <a:avLst/>
            <a:gdLst/>
            <a:ahLst/>
            <a:rect l="l" t="t" r="r" b="b"/>
            <a:pathLst>
              <a:path w="1606572" h="1606572">
                <a:moveTo>
                  <a:pt x="841320" y="1605671"/>
                </a:moveTo>
                <a:cubicBezTo>
                  <a:pt x="513324" y="1621218"/>
                  <a:pt x="208888" y="1435569"/>
                  <a:pt x="72533" y="1136855"/>
                </a:cubicBezTo>
                <a:cubicBezTo>
                  <a:pt x="-63822" y="838140"/>
                  <a:pt x="-4639" y="486509"/>
                  <a:pt x="221986" y="248887"/>
                </a:cubicBezTo>
                <a:cubicBezTo>
                  <a:pt x="448611" y="11265"/>
                  <a:pt x="797046" y="-64500"/>
                  <a:pt x="1101882" y="57559"/>
                </a:cubicBezTo>
                <a:cubicBezTo>
                  <a:pt x="1406718" y="179618"/>
                  <a:pt x="1606573" y="474922"/>
                  <a:pt x="1606573" y="803287"/>
                </a:cubicBezTo>
                <a:lnTo>
                  <a:pt x="1390215" y="803286"/>
                </a:lnTo>
                <a:cubicBezTo>
                  <a:pt x="1390215" y="563363"/>
                  <a:pt x="1244189" y="347596"/>
                  <a:pt x="1021458" y="258412"/>
                </a:cubicBezTo>
                <a:cubicBezTo>
                  <a:pt x="798727" y="169229"/>
                  <a:pt x="544140" y="224587"/>
                  <a:pt x="378553" y="398208"/>
                </a:cubicBezTo>
                <a:cubicBezTo>
                  <a:pt x="212967" y="571829"/>
                  <a:pt x="169725" y="828752"/>
                  <a:pt x="269354" y="1047010"/>
                </a:cubicBezTo>
                <a:cubicBezTo>
                  <a:pt x="368983" y="1265269"/>
                  <a:pt x="591422" y="1400915"/>
                  <a:pt x="831076" y="1389555"/>
                </a:cubicBezTo>
                <a:lnTo>
                  <a:pt x="841320" y="1605671"/>
                </a:lnTo>
                <a:close/>
              </a:path>
            </a:pathLst>
          </a:custGeom>
          <a:solidFill>
            <a:srgbClr val="db4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空心弧 7"/>
          <p:cNvSpPr/>
          <p:nvPr/>
        </p:nvSpPr>
        <p:spPr>
          <a:xfrm rot="3078000">
            <a:off x="6362280" y="1819080"/>
            <a:ext cx="1606320" cy="1606680"/>
          </a:xfrm>
          <a:custGeom>
            <a:avLst/>
            <a:gdLst/>
            <a:ahLst/>
            <a:rect l="l" t="t" r="r" b="b"/>
            <a:pathLst>
              <a:path w="1606572" h="1606572">
                <a:moveTo>
                  <a:pt x="106080" y="404321"/>
                </a:moveTo>
                <a:cubicBezTo>
                  <a:pt x="286939" y="88263"/>
                  <a:pt x="657780" y="-66599"/>
                  <a:pt x="1009699" y="26973"/>
                </a:cubicBezTo>
                <a:cubicBezTo>
                  <a:pt x="1361618" y="120545"/>
                  <a:pt x="1606572" y="439140"/>
                  <a:pt x="1606571" y="803287"/>
                </a:cubicBezTo>
                <a:lnTo>
                  <a:pt x="1390215" y="803286"/>
                </a:lnTo>
                <a:cubicBezTo>
                  <a:pt x="1390215" y="537219"/>
                  <a:pt x="1211237" y="304434"/>
                  <a:pt x="954104" y="236065"/>
                </a:cubicBezTo>
                <a:cubicBezTo>
                  <a:pt x="696971" y="167696"/>
                  <a:pt x="426012" y="280848"/>
                  <a:pt x="293866" y="511779"/>
                </a:cubicBezTo>
                <a:lnTo>
                  <a:pt x="106080" y="40432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空心弧 8"/>
          <p:cNvSpPr/>
          <p:nvPr/>
        </p:nvSpPr>
        <p:spPr>
          <a:xfrm rot="10800000">
            <a:off x="9212400" y="1742760"/>
            <a:ext cx="1606320" cy="1606680"/>
          </a:xfrm>
          <a:custGeom>
            <a:avLst/>
            <a:gdLst/>
            <a:ahLst/>
            <a:rect l="l" t="t" r="r" b="b"/>
            <a:pathLst>
              <a:path w="1606572" h="1606572">
                <a:moveTo>
                  <a:pt x="318380" y="1443703"/>
                </a:moveTo>
                <a:cubicBezTo>
                  <a:pt x="17583" y="1215948"/>
                  <a:pt x="-84171" y="809547"/>
                  <a:pt x="73815" y="466923"/>
                </a:cubicBezTo>
                <a:cubicBezTo>
                  <a:pt x="231801" y="124298"/>
                  <a:pt x="606945" y="-62202"/>
                  <a:pt x="975470" y="18671"/>
                </a:cubicBezTo>
                <a:cubicBezTo>
                  <a:pt x="1343995" y="99544"/>
                  <a:pt x="1606572" y="425992"/>
                  <a:pt x="1606572" y="803287"/>
                </a:cubicBezTo>
                <a:lnTo>
                  <a:pt x="1390215" y="803286"/>
                </a:lnTo>
                <a:cubicBezTo>
                  <a:pt x="1390215" y="527612"/>
                  <a:pt x="1198360" y="289089"/>
                  <a:pt x="929094" y="229999"/>
                </a:cubicBezTo>
                <a:cubicBezTo>
                  <a:pt x="659827" y="170908"/>
                  <a:pt x="385725" y="307177"/>
                  <a:pt x="270291" y="557519"/>
                </a:cubicBezTo>
                <a:cubicBezTo>
                  <a:pt x="154857" y="807861"/>
                  <a:pt x="229204" y="1104802"/>
                  <a:pt x="448985" y="1271213"/>
                </a:cubicBezTo>
                <a:lnTo>
                  <a:pt x="318380" y="1443703"/>
                </a:lnTo>
                <a:close/>
              </a:path>
            </a:pathLst>
          </a:cu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文本框 9"/>
          <p:cNvSpPr/>
          <p:nvPr/>
        </p:nvSpPr>
        <p:spPr>
          <a:xfrm>
            <a:off x="1728720" y="239220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文本框 14"/>
          <p:cNvSpPr/>
          <p:nvPr/>
        </p:nvSpPr>
        <p:spPr>
          <a:xfrm>
            <a:off x="4560840" y="239220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73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文本框 15"/>
          <p:cNvSpPr/>
          <p:nvPr/>
        </p:nvSpPr>
        <p:spPr>
          <a:xfrm>
            <a:off x="6773760" y="231444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文本框 16"/>
          <p:cNvSpPr/>
          <p:nvPr/>
        </p:nvSpPr>
        <p:spPr>
          <a:xfrm>
            <a:off x="9726480" y="239220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3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4" name="组合 17"/>
          <p:cNvGrpSpPr/>
          <p:nvPr/>
        </p:nvGrpSpPr>
        <p:grpSpPr>
          <a:xfrm>
            <a:off x="3502080" y="1468440"/>
            <a:ext cx="115920" cy="4095720"/>
            <a:chOff x="3502080" y="1468440"/>
            <a:chExt cx="115920" cy="4095720"/>
          </a:xfrm>
        </p:grpSpPr>
        <p:sp>
          <p:nvSpPr>
            <p:cNvPr id="695" name="椭圆 18"/>
            <p:cNvSpPr/>
            <p:nvPr/>
          </p:nvSpPr>
          <p:spPr>
            <a:xfrm>
              <a:off x="3502080" y="1468440"/>
              <a:ext cx="103320" cy="1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直接连接符 19"/>
            <p:cNvSpPr/>
            <p:nvPr/>
          </p:nvSpPr>
          <p:spPr>
            <a:xfrm>
              <a:off x="3553560" y="1571400"/>
              <a:ext cx="0" cy="3889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椭圆 20"/>
            <p:cNvSpPr/>
            <p:nvPr/>
          </p:nvSpPr>
          <p:spPr>
            <a:xfrm>
              <a:off x="3514680" y="5461200"/>
              <a:ext cx="103320" cy="1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8" name="组合 21"/>
          <p:cNvGrpSpPr/>
          <p:nvPr/>
        </p:nvGrpSpPr>
        <p:grpSpPr>
          <a:xfrm>
            <a:off x="6167520" y="1468440"/>
            <a:ext cx="115920" cy="4095720"/>
            <a:chOff x="6167520" y="1468440"/>
            <a:chExt cx="115920" cy="4095720"/>
          </a:xfrm>
        </p:grpSpPr>
        <p:sp>
          <p:nvSpPr>
            <p:cNvPr id="699" name="椭圆 22"/>
            <p:cNvSpPr/>
            <p:nvPr/>
          </p:nvSpPr>
          <p:spPr>
            <a:xfrm>
              <a:off x="6167520" y="1468440"/>
              <a:ext cx="103320" cy="1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直接连接符 23"/>
            <p:cNvSpPr/>
            <p:nvPr/>
          </p:nvSpPr>
          <p:spPr>
            <a:xfrm>
              <a:off x="6219000" y="1571400"/>
              <a:ext cx="0" cy="3889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椭圆 24"/>
            <p:cNvSpPr/>
            <p:nvPr/>
          </p:nvSpPr>
          <p:spPr>
            <a:xfrm>
              <a:off x="6180120" y="5461200"/>
              <a:ext cx="103320" cy="1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2" name="组合 25"/>
          <p:cNvGrpSpPr/>
          <p:nvPr/>
        </p:nvGrpSpPr>
        <p:grpSpPr>
          <a:xfrm>
            <a:off x="8693280" y="1468440"/>
            <a:ext cx="115920" cy="4095720"/>
            <a:chOff x="8693280" y="1468440"/>
            <a:chExt cx="115920" cy="4095720"/>
          </a:xfrm>
        </p:grpSpPr>
        <p:sp>
          <p:nvSpPr>
            <p:cNvPr id="703" name="椭圆 26"/>
            <p:cNvSpPr/>
            <p:nvPr/>
          </p:nvSpPr>
          <p:spPr>
            <a:xfrm>
              <a:off x="8693280" y="1468440"/>
              <a:ext cx="103320" cy="1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直接连接符 27"/>
            <p:cNvSpPr/>
            <p:nvPr/>
          </p:nvSpPr>
          <p:spPr>
            <a:xfrm>
              <a:off x="8744760" y="1571400"/>
              <a:ext cx="0" cy="3889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椭圆 28"/>
            <p:cNvSpPr/>
            <p:nvPr/>
          </p:nvSpPr>
          <p:spPr>
            <a:xfrm>
              <a:off x="8705880" y="5461200"/>
              <a:ext cx="103320" cy="1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6" name="组合 29"/>
          <p:cNvGrpSpPr/>
          <p:nvPr/>
        </p:nvGrpSpPr>
        <p:grpSpPr>
          <a:xfrm>
            <a:off x="1266840" y="3349800"/>
            <a:ext cx="1452600" cy="825120"/>
            <a:chOff x="1266840" y="3349800"/>
            <a:chExt cx="1452600" cy="825120"/>
          </a:xfrm>
        </p:grpSpPr>
        <p:grpSp>
          <p:nvGrpSpPr>
            <p:cNvPr id="707" name="组合 30"/>
            <p:cNvGrpSpPr/>
            <p:nvPr/>
          </p:nvGrpSpPr>
          <p:grpSpPr>
            <a:xfrm>
              <a:off x="1266840" y="3349800"/>
              <a:ext cx="641160" cy="825120"/>
              <a:chOff x="1266840" y="3349800"/>
              <a:chExt cx="641160" cy="825120"/>
            </a:xfrm>
          </p:grpSpPr>
          <p:sp>
            <p:nvSpPr>
              <p:cNvPr id="708" name="文本框 32"/>
              <p:cNvSpPr/>
              <p:nvPr/>
            </p:nvSpPr>
            <p:spPr>
              <a:xfrm>
                <a:off x="1266840" y="3349800"/>
                <a:ext cx="6411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b0f0"/>
                    </a:solidFill>
                    <a:latin typeface="Calibri"/>
                  </a:rPr>
                  <a:t>s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直接连接符 33"/>
              <p:cNvSpPr/>
              <p:nvPr/>
            </p:nvSpPr>
            <p:spPr>
              <a:xfrm>
                <a:off x="1471320" y="3620160"/>
                <a:ext cx="0" cy="379440"/>
              </a:xfrm>
              <a:prstGeom prst="line">
                <a:avLst/>
              </a:prstGeom>
              <a:ln w="284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10" name="文本框 31"/>
            <p:cNvSpPr/>
            <p:nvPr/>
          </p:nvSpPr>
          <p:spPr>
            <a:xfrm>
              <a:off x="1536480" y="3607560"/>
              <a:ext cx="11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b0f0"/>
                  </a:solidFill>
                  <a:latin typeface="Calibri"/>
                </a:rPr>
                <a:t>73,23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1" name="TextBox 10"/>
          <p:cNvSpPr/>
          <p:nvPr/>
        </p:nvSpPr>
        <p:spPr>
          <a:xfrm>
            <a:off x="1182600" y="449100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文本框 35"/>
          <p:cNvSpPr/>
          <p:nvPr/>
        </p:nvSpPr>
        <p:spPr>
          <a:xfrm>
            <a:off x="1174680" y="407664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3" name="组合 36"/>
          <p:cNvGrpSpPr/>
          <p:nvPr/>
        </p:nvGrpSpPr>
        <p:grpSpPr>
          <a:xfrm>
            <a:off x="4060800" y="3422520"/>
            <a:ext cx="1451160" cy="825120"/>
            <a:chOff x="4060800" y="3422520"/>
            <a:chExt cx="1451160" cy="825120"/>
          </a:xfrm>
        </p:grpSpPr>
        <p:grpSp>
          <p:nvGrpSpPr>
            <p:cNvPr id="714" name="组合 37"/>
            <p:cNvGrpSpPr/>
            <p:nvPr/>
          </p:nvGrpSpPr>
          <p:grpSpPr>
            <a:xfrm>
              <a:off x="4060800" y="3422520"/>
              <a:ext cx="640440" cy="825120"/>
              <a:chOff x="4060800" y="3422520"/>
              <a:chExt cx="640440" cy="825120"/>
            </a:xfrm>
          </p:grpSpPr>
          <p:sp>
            <p:nvSpPr>
              <p:cNvPr id="715" name="文本框 39"/>
              <p:cNvSpPr/>
              <p:nvPr/>
            </p:nvSpPr>
            <p:spPr>
              <a:xfrm>
                <a:off x="4060800" y="3422520"/>
                <a:ext cx="6404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db494c"/>
                    </a:solidFill>
                    <a:latin typeface="Calibri"/>
                  </a:rPr>
                  <a:t>s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6" name="直接连接符 40"/>
              <p:cNvSpPr/>
              <p:nvPr/>
            </p:nvSpPr>
            <p:spPr>
              <a:xfrm>
                <a:off x="4264920" y="3692880"/>
                <a:ext cx="0" cy="379800"/>
              </a:xfrm>
              <a:prstGeom prst="line">
                <a:avLst/>
              </a:prstGeom>
              <a:ln w="28440">
                <a:solidFill>
                  <a:srgbClr val="db49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17" name="文本框 38"/>
            <p:cNvSpPr/>
            <p:nvPr/>
          </p:nvSpPr>
          <p:spPr>
            <a:xfrm>
              <a:off x="4330080" y="36802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b494c"/>
                  </a:solidFill>
                  <a:latin typeface="Calibri"/>
                </a:rPr>
                <a:t>53,13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8" name="TextBox 10"/>
          <p:cNvSpPr/>
          <p:nvPr/>
        </p:nvSpPr>
        <p:spPr>
          <a:xfrm>
            <a:off x="3975120" y="456408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文本框 42"/>
          <p:cNvSpPr/>
          <p:nvPr/>
        </p:nvSpPr>
        <p:spPr>
          <a:xfrm>
            <a:off x="3968640" y="414972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组合 43"/>
          <p:cNvGrpSpPr/>
          <p:nvPr/>
        </p:nvGrpSpPr>
        <p:grpSpPr>
          <a:xfrm>
            <a:off x="6686640" y="3349800"/>
            <a:ext cx="1452600" cy="825120"/>
            <a:chOff x="6686640" y="3349800"/>
            <a:chExt cx="1452600" cy="825120"/>
          </a:xfrm>
        </p:grpSpPr>
        <p:grpSp>
          <p:nvGrpSpPr>
            <p:cNvPr id="721" name="组合 44"/>
            <p:cNvGrpSpPr/>
            <p:nvPr/>
          </p:nvGrpSpPr>
          <p:grpSpPr>
            <a:xfrm>
              <a:off x="6686640" y="3349800"/>
              <a:ext cx="641160" cy="825120"/>
              <a:chOff x="6686640" y="3349800"/>
              <a:chExt cx="641160" cy="825120"/>
            </a:xfrm>
          </p:grpSpPr>
          <p:sp>
            <p:nvSpPr>
              <p:cNvPr id="722" name="文本框 46"/>
              <p:cNvSpPr/>
              <p:nvPr/>
            </p:nvSpPr>
            <p:spPr>
              <a:xfrm>
                <a:off x="6686640" y="3349800"/>
                <a:ext cx="6411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90b83e"/>
                    </a:solidFill>
                    <a:latin typeface="Calibri"/>
                  </a:rPr>
                  <a:t>s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3" name="直接连接符 47"/>
              <p:cNvSpPr/>
              <p:nvPr/>
            </p:nvSpPr>
            <p:spPr>
              <a:xfrm>
                <a:off x="6891120" y="3620160"/>
                <a:ext cx="0" cy="379440"/>
              </a:xfrm>
              <a:prstGeom prst="line">
                <a:avLst/>
              </a:prstGeom>
              <a:ln w="28440">
                <a:solidFill>
                  <a:srgbClr val="90b8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24" name="文本框 45"/>
            <p:cNvSpPr/>
            <p:nvPr/>
          </p:nvSpPr>
          <p:spPr>
            <a:xfrm>
              <a:off x="6956280" y="3607560"/>
              <a:ext cx="11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0b83e"/>
                  </a:solidFill>
                  <a:latin typeface="Calibri"/>
                </a:rPr>
                <a:t>42,35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5" name="TextBox 10"/>
          <p:cNvSpPr/>
          <p:nvPr/>
        </p:nvSpPr>
        <p:spPr>
          <a:xfrm>
            <a:off x="6602400" y="449100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文本框 49"/>
          <p:cNvSpPr/>
          <p:nvPr/>
        </p:nvSpPr>
        <p:spPr>
          <a:xfrm>
            <a:off x="6594480" y="407664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7" name="组合 50"/>
          <p:cNvGrpSpPr/>
          <p:nvPr/>
        </p:nvGrpSpPr>
        <p:grpSpPr>
          <a:xfrm>
            <a:off x="9255240" y="3349800"/>
            <a:ext cx="1450800" cy="825120"/>
            <a:chOff x="9255240" y="3349800"/>
            <a:chExt cx="1450800" cy="825120"/>
          </a:xfrm>
        </p:grpSpPr>
        <p:grpSp>
          <p:nvGrpSpPr>
            <p:cNvPr id="728" name="组合 51"/>
            <p:cNvGrpSpPr/>
            <p:nvPr/>
          </p:nvGrpSpPr>
          <p:grpSpPr>
            <a:xfrm>
              <a:off x="9255240" y="3349800"/>
              <a:ext cx="640440" cy="825120"/>
              <a:chOff x="9255240" y="3349800"/>
              <a:chExt cx="640440" cy="825120"/>
            </a:xfrm>
          </p:grpSpPr>
          <p:sp>
            <p:nvSpPr>
              <p:cNvPr id="729" name="文本框 53"/>
              <p:cNvSpPr/>
              <p:nvPr/>
            </p:nvSpPr>
            <p:spPr>
              <a:xfrm>
                <a:off x="9255240" y="3349800"/>
                <a:ext cx="6404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f5af19"/>
                    </a:solidFill>
                    <a:latin typeface="Calibri"/>
                  </a:rPr>
                  <a:t>s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直接连接符 54"/>
              <p:cNvSpPr/>
              <p:nvPr/>
            </p:nvSpPr>
            <p:spPr>
              <a:xfrm>
                <a:off x="9459360" y="3620160"/>
                <a:ext cx="0" cy="379440"/>
              </a:xfrm>
              <a:prstGeom prst="line">
                <a:avLst/>
              </a:prstGeom>
              <a:ln w="28440">
                <a:solidFill>
                  <a:srgbClr val="f5af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31" name="文本框 52"/>
            <p:cNvSpPr/>
            <p:nvPr/>
          </p:nvSpPr>
          <p:spPr>
            <a:xfrm>
              <a:off x="9524520" y="3607560"/>
              <a:ext cx="118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5af19"/>
                  </a:solidFill>
                  <a:latin typeface="Calibri"/>
                </a:rPr>
                <a:t>80,01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2" name="TextBox 10"/>
          <p:cNvSpPr/>
          <p:nvPr/>
        </p:nvSpPr>
        <p:spPr>
          <a:xfrm>
            <a:off x="9169560" y="449100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文本框 56"/>
          <p:cNvSpPr/>
          <p:nvPr/>
        </p:nvSpPr>
        <p:spPr>
          <a:xfrm>
            <a:off x="9163080" y="407664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8" name="组合 5"/>
          <p:cNvGrpSpPr/>
          <p:nvPr/>
        </p:nvGrpSpPr>
        <p:grpSpPr>
          <a:xfrm>
            <a:off x="2714760" y="1633680"/>
            <a:ext cx="1952640" cy="2300040"/>
            <a:chOff x="2714760" y="1633680"/>
            <a:chExt cx="1952640" cy="2300040"/>
          </a:xfrm>
        </p:grpSpPr>
        <p:sp>
          <p:nvSpPr>
            <p:cNvPr id="739" name="任意多边形 6"/>
            <p:cNvSpPr/>
            <p:nvPr/>
          </p:nvSpPr>
          <p:spPr>
            <a:xfrm>
              <a:off x="2714760" y="1633680"/>
              <a:ext cx="1952640" cy="2300040"/>
            </a:xfrm>
            <a:custGeom>
              <a:avLst/>
              <a:gdLst/>
              <a:ahLst/>
              <a:rect l="l" t="t" r="r" b="b"/>
              <a:pathLst>
                <a:path w="1953624" h="2299482">
                  <a:moveTo>
                    <a:pt x="1149741" y="0"/>
                  </a:moveTo>
                  <a:cubicBezTo>
                    <a:pt x="1427547" y="0"/>
                    <a:pt x="1682340" y="98528"/>
                    <a:pt x="1881083" y="262545"/>
                  </a:cubicBezTo>
                  <a:lnTo>
                    <a:pt x="1953624" y="328475"/>
                  </a:lnTo>
                  <a:lnTo>
                    <a:pt x="1944517" y="336752"/>
                  </a:lnTo>
                  <a:cubicBezTo>
                    <a:pt x="1736454" y="544814"/>
                    <a:pt x="1607765" y="832249"/>
                    <a:pt x="1607765" y="1149741"/>
                  </a:cubicBezTo>
                  <a:cubicBezTo>
                    <a:pt x="1607765" y="1467233"/>
                    <a:pt x="1736454" y="1754668"/>
                    <a:pt x="1944517" y="1962731"/>
                  </a:cubicBezTo>
                  <a:lnTo>
                    <a:pt x="1953624" y="1971008"/>
                  </a:lnTo>
                  <a:lnTo>
                    <a:pt x="1881083" y="2036937"/>
                  </a:lnTo>
                  <a:cubicBezTo>
                    <a:pt x="1682340" y="2200955"/>
                    <a:pt x="1427547" y="2299482"/>
                    <a:pt x="1149741" y="2299482"/>
                  </a:cubicBezTo>
                  <a:cubicBezTo>
                    <a:pt x="514757" y="2299482"/>
                    <a:pt x="0" y="1784725"/>
                    <a:pt x="0" y="1149741"/>
                  </a:cubicBezTo>
                  <a:cubicBezTo>
                    <a:pt x="0" y="514757"/>
                    <a:pt x="514757" y="0"/>
                    <a:pt x="1149741" y="0"/>
                  </a:cubicBezTo>
                  <a:close/>
                </a:path>
              </a:pathLst>
            </a:cu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文本框 7"/>
            <p:cNvSpPr/>
            <p:nvPr/>
          </p:nvSpPr>
          <p:spPr>
            <a:xfrm>
              <a:off x="3139560" y="1957320"/>
              <a:ext cx="110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本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TextBox 10"/>
            <p:cNvSpPr/>
            <p:nvPr/>
          </p:nvSpPr>
          <p:spPr>
            <a:xfrm>
              <a:off x="3020040" y="2404800"/>
              <a:ext cx="134172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个性定制服务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2" name="组合 9"/>
          <p:cNvGrpSpPr/>
          <p:nvPr/>
        </p:nvGrpSpPr>
        <p:grpSpPr>
          <a:xfrm>
            <a:off x="7297560" y="1633680"/>
            <a:ext cx="1965600" cy="2300040"/>
            <a:chOff x="7297560" y="1633680"/>
            <a:chExt cx="1965600" cy="2300040"/>
          </a:xfrm>
        </p:grpSpPr>
        <p:sp>
          <p:nvSpPr>
            <p:cNvPr id="743" name="任意多边形 14"/>
            <p:cNvSpPr/>
            <p:nvPr/>
          </p:nvSpPr>
          <p:spPr>
            <a:xfrm flipH="1">
              <a:off x="7297560" y="1633680"/>
              <a:ext cx="1965600" cy="2300040"/>
            </a:xfrm>
            <a:custGeom>
              <a:avLst/>
              <a:gdLst/>
              <a:ahLst/>
              <a:rect l="l" t="t" r="r" b="b"/>
              <a:pathLst>
                <a:path w="1953624" h="2299482">
                  <a:moveTo>
                    <a:pt x="1149741" y="0"/>
                  </a:moveTo>
                  <a:cubicBezTo>
                    <a:pt x="1427547" y="0"/>
                    <a:pt x="1682340" y="98528"/>
                    <a:pt x="1881083" y="262545"/>
                  </a:cubicBezTo>
                  <a:lnTo>
                    <a:pt x="1953624" y="328475"/>
                  </a:lnTo>
                  <a:lnTo>
                    <a:pt x="1944517" y="336752"/>
                  </a:lnTo>
                  <a:cubicBezTo>
                    <a:pt x="1736454" y="544814"/>
                    <a:pt x="1607765" y="832249"/>
                    <a:pt x="1607765" y="1149741"/>
                  </a:cubicBezTo>
                  <a:cubicBezTo>
                    <a:pt x="1607765" y="1467233"/>
                    <a:pt x="1736454" y="1754668"/>
                    <a:pt x="1944517" y="1962731"/>
                  </a:cubicBezTo>
                  <a:lnTo>
                    <a:pt x="1953624" y="1971008"/>
                  </a:lnTo>
                  <a:lnTo>
                    <a:pt x="1881083" y="2036937"/>
                  </a:lnTo>
                  <a:cubicBezTo>
                    <a:pt x="1682340" y="2200955"/>
                    <a:pt x="1427547" y="2299482"/>
                    <a:pt x="1149741" y="2299482"/>
                  </a:cubicBezTo>
                  <a:cubicBezTo>
                    <a:pt x="514757" y="2299482"/>
                    <a:pt x="0" y="1784725"/>
                    <a:pt x="0" y="1149741"/>
                  </a:cubicBezTo>
                  <a:cubicBezTo>
                    <a:pt x="0" y="514757"/>
                    <a:pt x="514757" y="0"/>
                    <a:pt x="1149741" y="0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文本框 15"/>
            <p:cNvSpPr/>
            <p:nvPr/>
          </p:nvSpPr>
          <p:spPr>
            <a:xfrm>
              <a:off x="7878960" y="1957320"/>
              <a:ext cx="110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本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TextBox 10"/>
            <p:cNvSpPr/>
            <p:nvPr/>
          </p:nvSpPr>
          <p:spPr>
            <a:xfrm>
              <a:off x="7759440" y="2404800"/>
              <a:ext cx="134208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个性定制服务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6" name="TextBox 10"/>
          <p:cNvSpPr/>
          <p:nvPr/>
        </p:nvSpPr>
        <p:spPr>
          <a:xfrm>
            <a:off x="4721400" y="2498760"/>
            <a:ext cx="28065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文本框 18"/>
          <p:cNvSpPr/>
          <p:nvPr/>
        </p:nvSpPr>
        <p:spPr>
          <a:xfrm>
            <a:off x="4743360" y="2128680"/>
            <a:ext cx="11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TextBox 10"/>
          <p:cNvSpPr/>
          <p:nvPr/>
        </p:nvSpPr>
        <p:spPr>
          <a:xfrm>
            <a:off x="2714760" y="4676760"/>
            <a:ext cx="6900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文本框 20"/>
          <p:cNvSpPr/>
          <p:nvPr/>
        </p:nvSpPr>
        <p:spPr>
          <a:xfrm>
            <a:off x="2714760" y="4257720"/>
            <a:ext cx="16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4" name="组合 5"/>
          <p:cNvGrpSpPr/>
          <p:nvPr/>
        </p:nvGrpSpPr>
        <p:grpSpPr>
          <a:xfrm>
            <a:off x="3044880" y="1434960"/>
            <a:ext cx="5554440" cy="695520"/>
            <a:chOff x="3044880" y="1434960"/>
            <a:chExt cx="5554440" cy="695520"/>
          </a:xfrm>
        </p:grpSpPr>
        <p:sp>
          <p:nvSpPr>
            <p:cNvPr id="755" name="矩形 6"/>
            <p:cNvSpPr/>
            <p:nvPr/>
          </p:nvSpPr>
          <p:spPr>
            <a:xfrm>
              <a:off x="3420360" y="1434960"/>
              <a:ext cx="4803480" cy="695520"/>
            </a:xfrm>
            <a:prstGeom prst="rect">
              <a:avLst/>
            </a:prstGeom>
            <a:solidFill>
              <a:srgbClr val="ff4b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矩形 7"/>
            <p:cNvSpPr/>
            <p:nvPr/>
          </p:nvSpPr>
          <p:spPr>
            <a:xfrm>
              <a:off x="3044880" y="1434960"/>
              <a:ext cx="375480" cy="69552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椭圆 8"/>
            <p:cNvSpPr/>
            <p:nvPr/>
          </p:nvSpPr>
          <p:spPr>
            <a:xfrm>
              <a:off x="7904160" y="1434960"/>
              <a:ext cx="695160" cy="695520"/>
            </a:xfrm>
            <a:prstGeom prst="ellipse">
              <a:avLst/>
            </a:prstGeom>
            <a:solidFill>
              <a:srgbClr val="f2f2f2"/>
            </a:solidFill>
            <a:ln w="324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8" name="组合 9"/>
          <p:cNvGrpSpPr/>
          <p:nvPr/>
        </p:nvGrpSpPr>
        <p:grpSpPr>
          <a:xfrm>
            <a:off x="3044880" y="2577960"/>
            <a:ext cx="5554440" cy="695520"/>
            <a:chOff x="3044880" y="2577960"/>
            <a:chExt cx="5554440" cy="695520"/>
          </a:xfrm>
        </p:grpSpPr>
        <p:sp>
          <p:nvSpPr>
            <p:cNvPr id="759" name="矩形 14"/>
            <p:cNvSpPr/>
            <p:nvPr/>
          </p:nvSpPr>
          <p:spPr>
            <a:xfrm>
              <a:off x="3420360" y="2577960"/>
              <a:ext cx="4803480" cy="69552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矩形 15"/>
            <p:cNvSpPr/>
            <p:nvPr/>
          </p:nvSpPr>
          <p:spPr>
            <a:xfrm>
              <a:off x="3044880" y="2577960"/>
              <a:ext cx="375480" cy="69552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椭圆 16"/>
            <p:cNvSpPr/>
            <p:nvPr/>
          </p:nvSpPr>
          <p:spPr>
            <a:xfrm>
              <a:off x="7904160" y="2577960"/>
              <a:ext cx="695160" cy="695520"/>
            </a:xfrm>
            <a:prstGeom prst="ellipse">
              <a:avLst/>
            </a:prstGeom>
            <a:solidFill>
              <a:srgbClr val="f2f2f2"/>
            </a:solidFill>
            <a:ln w="324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2" name="组合 17"/>
          <p:cNvGrpSpPr/>
          <p:nvPr/>
        </p:nvGrpSpPr>
        <p:grpSpPr>
          <a:xfrm>
            <a:off x="3044880" y="3722760"/>
            <a:ext cx="5554440" cy="695160"/>
            <a:chOff x="3044880" y="3722760"/>
            <a:chExt cx="5554440" cy="695160"/>
          </a:xfrm>
        </p:grpSpPr>
        <p:sp>
          <p:nvSpPr>
            <p:cNvPr id="763" name="矩形 18"/>
            <p:cNvSpPr/>
            <p:nvPr/>
          </p:nvSpPr>
          <p:spPr>
            <a:xfrm>
              <a:off x="3420360" y="3722760"/>
              <a:ext cx="4803480" cy="695160"/>
            </a:xfrm>
            <a:prstGeom prst="rect">
              <a:avLst/>
            </a:prstGeom>
            <a:solidFill>
              <a:srgbClr val="ff4b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" name="矩形 19"/>
            <p:cNvSpPr/>
            <p:nvPr/>
          </p:nvSpPr>
          <p:spPr>
            <a:xfrm>
              <a:off x="3044880" y="3722760"/>
              <a:ext cx="375480" cy="69516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椭圆 20"/>
            <p:cNvSpPr/>
            <p:nvPr/>
          </p:nvSpPr>
          <p:spPr>
            <a:xfrm>
              <a:off x="7904160" y="3722760"/>
              <a:ext cx="695160" cy="695160"/>
            </a:xfrm>
            <a:prstGeom prst="ellipse">
              <a:avLst/>
            </a:prstGeom>
            <a:solidFill>
              <a:srgbClr val="f2f2f2"/>
            </a:solidFill>
            <a:ln w="324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6" name="组合 21"/>
          <p:cNvGrpSpPr/>
          <p:nvPr/>
        </p:nvGrpSpPr>
        <p:grpSpPr>
          <a:xfrm>
            <a:off x="3044880" y="4865760"/>
            <a:ext cx="5554440" cy="695160"/>
            <a:chOff x="3044880" y="4865760"/>
            <a:chExt cx="5554440" cy="695160"/>
          </a:xfrm>
        </p:grpSpPr>
        <p:sp>
          <p:nvSpPr>
            <p:cNvPr id="767" name="矩形 22"/>
            <p:cNvSpPr/>
            <p:nvPr/>
          </p:nvSpPr>
          <p:spPr>
            <a:xfrm>
              <a:off x="3420360" y="4865760"/>
              <a:ext cx="4803480" cy="69516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矩形 23"/>
            <p:cNvSpPr/>
            <p:nvPr/>
          </p:nvSpPr>
          <p:spPr>
            <a:xfrm>
              <a:off x="3044880" y="4865760"/>
              <a:ext cx="375480" cy="69516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椭圆 24"/>
            <p:cNvSpPr/>
            <p:nvPr/>
          </p:nvSpPr>
          <p:spPr>
            <a:xfrm>
              <a:off x="7904160" y="4865760"/>
              <a:ext cx="695160" cy="695160"/>
            </a:xfrm>
            <a:prstGeom prst="ellipse">
              <a:avLst/>
            </a:prstGeom>
            <a:solidFill>
              <a:srgbClr val="f2f2f2"/>
            </a:solidFill>
            <a:ln w="324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70" name="图片 25" descr=""/>
          <p:cNvPicPr/>
          <p:nvPr/>
        </p:nvPicPr>
        <p:blipFill>
          <a:blip r:embed="rId1"/>
          <a:stretch/>
        </p:blipFill>
        <p:spPr>
          <a:xfrm>
            <a:off x="8026560" y="4967280"/>
            <a:ext cx="492120" cy="492120"/>
          </a:xfrm>
          <a:prstGeom prst="rect">
            <a:avLst/>
          </a:prstGeom>
          <a:ln w="0">
            <a:noFill/>
          </a:ln>
        </p:spPr>
      </p:pic>
      <p:pic>
        <p:nvPicPr>
          <p:cNvPr id="771" name="图片 26" descr=""/>
          <p:cNvPicPr/>
          <p:nvPr/>
        </p:nvPicPr>
        <p:blipFill>
          <a:blip r:embed="rId2"/>
          <a:stretch/>
        </p:blipFill>
        <p:spPr>
          <a:xfrm>
            <a:off x="8018640" y="3822840"/>
            <a:ext cx="492120" cy="493560"/>
          </a:xfrm>
          <a:prstGeom prst="rect">
            <a:avLst/>
          </a:prstGeom>
          <a:ln w="0">
            <a:noFill/>
          </a:ln>
        </p:spPr>
      </p:pic>
      <p:pic>
        <p:nvPicPr>
          <p:cNvPr id="772" name="图片 27" descr=""/>
          <p:cNvPicPr/>
          <p:nvPr/>
        </p:nvPicPr>
        <p:blipFill>
          <a:blip r:embed="rId3"/>
          <a:stretch/>
        </p:blipFill>
        <p:spPr>
          <a:xfrm>
            <a:off x="8026560" y="2679840"/>
            <a:ext cx="492120" cy="492120"/>
          </a:xfrm>
          <a:prstGeom prst="rect">
            <a:avLst/>
          </a:prstGeom>
          <a:ln w="0">
            <a:noFill/>
          </a:ln>
        </p:spPr>
      </p:pic>
      <p:pic>
        <p:nvPicPr>
          <p:cNvPr id="773" name="图片 28" descr=""/>
          <p:cNvPicPr/>
          <p:nvPr/>
        </p:nvPicPr>
        <p:blipFill>
          <a:blip r:embed="rId4"/>
          <a:stretch/>
        </p:blipFill>
        <p:spPr>
          <a:xfrm>
            <a:off x="8018640" y="1536840"/>
            <a:ext cx="492120" cy="492120"/>
          </a:xfrm>
          <a:prstGeom prst="rect">
            <a:avLst/>
          </a:prstGeom>
          <a:ln w="0">
            <a:noFill/>
          </a:ln>
        </p:spPr>
      </p:pic>
      <p:sp>
        <p:nvSpPr>
          <p:cNvPr id="774" name="文本框 29"/>
          <p:cNvSpPr/>
          <p:nvPr/>
        </p:nvSpPr>
        <p:spPr>
          <a:xfrm>
            <a:off x="4038480" y="1415880"/>
            <a:ext cx="23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TextBox 10"/>
          <p:cNvSpPr/>
          <p:nvPr/>
        </p:nvSpPr>
        <p:spPr>
          <a:xfrm>
            <a:off x="4038480" y="1717560"/>
            <a:ext cx="348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文本框 31"/>
          <p:cNvSpPr/>
          <p:nvPr/>
        </p:nvSpPr>
        <p:spPr>
          <a:xfrm>
            <a:off x="4038480" y="2558880"/>
            <a:ext cx="23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TextBox 10"/>
          <p:cNvSpPr/>
          <p:nvPr/>
        </p:nvSpPr>
        <p:spPr>
          <a:xfrm>
            <a:off x="4038480" y="2860560"/>
            <a:ext cx="348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文本框 33"/>
          <p:cNvSpPr/>
          <p:nvPr/>
        </p:nvSpPr>
        <p:spPr>
          <a:xfrm>
            <a:off x="4033800" y="3703680"/>
            <a:ext cx="23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TextBox 10"/>
          <p:cNvSpPr/>
          <p:nvPr/>
        </p:nvSpPr>
        <p:spPr>
          <a:xfrm>
            <a:off x="4033800" y="4005360"/>
            <a:ext cx="348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文本框 35"/>
          <p:cNvSpPr/>
          <p:nvPr/>
        </p:nvSpPr>
        <p:spPr>
          <a:xfrm>
            <a:off x="4033800" y="4853160"/>
            <a:ext cx="23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TextBox 10"/>
          <p:cNvSpPr/>
          <p:nvPr/>
        </p:nvSpPr>
        <p:spPr>
          <a:xfrm>
            <a:off x="4033800" y="5154480"/>
            <a:ext cx="348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9T14:21:38Z</dcterms:created>
  <dc:creator>deeplm</dc:creator>
  <dc:description/>
  <cp:keywords/>
  <dc:language>en-US</dc:language>
  <cp:lastModifiedBy>administrator</cp:lastModifiedBy>
  <dcterms:modified xsi:type="dcterms:W3CDTF">2015-10-18T15:25:08Z</dcterms:modified>
  <cp:revision>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